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B888-D066-4527-8C3E-D401B824A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dings III - </a:t>
            </a:r>
            <a:r>
              <a:rPr b="1" i="1" lang="en-GB" sz="1000" spc="-1" strike="noStrike">
                <a:solidFill>
                  <a:srgbClr val="000000"/>
                </a:solidFill>
                <a:latin typeface="Arial"/>
              </a:rPr>
              <a:t>Enabling (and constraining) Channels, Practices and Orien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ealed a range of (pre-)conditions, practices, orientations, actors and channels which appeared to enable and, in their absence, impede knowledge flows in their various forms, directions and outcomes (eg transfer, translation, applic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relate to more generalised checklists but their range and complexity reflects a more contextualised natu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ime, physical space, motivation and planning for joint client-consultant activity and/or observation (operational proximity) and refle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eractional styles of questioning and challenge appropriate to individuals, phase and context overall (eg combined humour and politeness [emotional restraint] in creating space for communic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individual client-consultant relationships such as an emerging commitment to project goals and individual credibility / likeabi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ultant able/allowed to acquire and use contextual  knowledge early in projec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gitimation; formal (planned and practised) and informal learning networks, meetings and processes (including documentation) in and beyond project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ndering knowledge flo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ence of the enabl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t>
            </a:r>
            <a:r>
              <a:rPr b="0" i="1" lang="en-GB" sz="1000" spc="-1" strike="noStrike">
                <a:solidFill>
                  <a:srgbClr val="000000"/>
                </a:solidFill>
                <a:latin typeface="Arial"/>
              </a:rPr>
              <a:t>onsultants’ lack of</a:t>
            </a:r>
            <a:r>
              <a:rPr b="0" lang="en-GB" sz="1000" spc="-1" strike="noStrike">
                <a:solidFill>
                  <a:srgbClr val="000000"/>
                </a:solidFill>
                <a:latin typeface="Arial"/>
              </a:rPr>
              <a:t> contextualised (eg organisational/sector) knowled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t>
            </a:r>
            <a:r>
              <a:rPr b="0" i="1" lang="en-GB" sz="1000" spc="-1" strike="noStrike">
                <a:solidFill>
                  <a:srgbClr val="000000"/>
                </a:solidFill>
                <a:latin typeface="Arial"/>
              </a:rPr>
              <a:t>arties’</a:t>
            </a:r>
            <a:r>
              <a:rPr b="0" lang="en-GB" sz="1000" spc="-1" strike="noStrike">
                <a:solidFill>
                  <a:srgbClr val="000000"/>
                </a:solidFill>
                <a:latin typeface="Arial"/>
              </a:rPr>
              <a:t>: ‘tiredness’ or low investment in relationship and/or project; failure to anticipate knowledge transf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t>
            </a:r>
            <a:r>
              <a:rPr b="0" i="1" lang="en-GB" sz="1000" spc="-1" strike="noStrike">
                <a:solidFill>
                  <a:srgbClr val="000000"/>
                </a:solidFill>
                <a:latin typeface="Arial"/>
              </a:rPr>
              <a:t>lients’</a:t>
            </a:r>
            <a:r>
              <a:rPr b="0" lang="en-GB" sz="1000" spc="-1" strike="noStrike">
                <a:solidFill>
                  <a:srgbClr val="000000"/>
                </a:solidFill>
                <a:latin typeface="Arial"/>
              </a:rPr>
              <a:t>: negative prior/early perceptions of consultant/firm (eg credibility) leading to lack of engagement (cf push back) and failure to create space for communication etc etc</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clus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ditional concern with persuasive consulting rhetoric and clients responses to it and its more or less explicit adoption of a diffusion perspective becomes less salien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 out an overview of some of the findings with respect to the domains, directions and conditions of knowledge flow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mphasis was placed on gaining knowledge of project processes such as project, consultancy and change manage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knowledge flow not a formal or primary objective in the case study projec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the level of the project, clients are more likely than their peers already to have a sense of expertise in the project domain – lit. overestimates the degree of ‘otherness’ and weakness of ti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ution is required here at the methodological level - reluctant to admit, or perceive themselves as, ‘sub-expert’ in relation to consultants (see also Whittle, 20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f learning is wholly or at least partly, based in practices, especially those shared through participation in joint activity, then it is hardly surprising that those involved in project practices, including its management report this domain as significant in terms of their learning – it is what they were doing. (cf (pre) sales presentations or implementation of a new management approach)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metimes unexpected directions of knowledge flow - knowledge flow from consultants to clients as organisational memory or ‘databa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lso clear that more classically cognitive processes were  important such as reflection and, at the most basic level, ‘writing things dow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cess of detailing contexts revealed a complexity which is rarely evident in generalised checklists and conditions, such as space for joint working, can be experienced differently. They are not generalisable to all actors or situations - need to allow for situational specificity, human agency and relationship dynamic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ditions might be seen as a loose or partial structuring for knowledge flow, but sometimes structures are tighter – eg implementing the new IT system at Imperial - little choice but to adopt new practice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77986-45B6-4DDD-9F31-FC09EEDEF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39081-DA8E-482B-84D7-36C0A26DA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13250-1C42-4AB9-99C6-F41781CDF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4408A-B4F4-4DAF-90EA-CD5E3139B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AD67-D57A-42AC-B084-412091810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CA9A-DBAA-43A2-A817-6B392F16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C81D-D84A-49C8-9049-016495AC7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1D216-030E-47BF-B2B3-5F1E820D8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6C8E5-3508-4E35-A9D7-5B5F3A08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546D-D00D-413E-8093-B0B5BCC4B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F07A-60E0-485B-8448-F3BB4B99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96C3-CE9A-4AC3-8953-5C421A217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5060-F9DC-4175-881A-B5A8C11D2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52280"/>
            <a:ext cx="7772400" cy="25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hinking the role of management consultants as disseminators of business knowledge – knowledge flows, directions and conditions in consulting projects</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ew Sturd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en Handley, Timothy Clark and Robin Fincham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wick Business School, University of Warwic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try CV4 7AL, U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ew.sturdy@wbs.ac.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dings II - </a:t>
            </a:r>
            <a:r>
              <a:rPr b="1" i="1" lang="en-US" sz="3600" spc="-1" strike="noStrike">
                <a:solidFill>
                  <a:srgbClr val="000000"/>
                </a:solidFill>
                <a:latin typeface="Arial"/>
              </a:rPr>
              <a:t>Directions and actors</a:t>
            </a:r>
            <a:endParaRPr b="0" lang="en-US" sz="3600" spc="-1" strike="noStrike">
              <a:solidFill>
                <a:srgbClr val="000000"/>
              </a:solidFill>
              <a:latin typeface="Arial"/>
            </a:endParaRPr>
          </a:p>
        </p:txBody>
      </p:sp>
      <p:sp>
        <p:nvSpPr>
          <p:cNvPr id="68"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consultants to clients</a:t>
            </a:r>
            <a:r>
              <a:rPr b="0" lang="en-GB" sz="2000" spc="-1" strike="noStrike">
                <a:solidFill>
                  <a:srgbClr val="000000"/>
                </a:solidFill>
                <a:latin typeface="Arial"/>
              </a:rPr>
              <a:t> – in strategy case: internal organisational knowledge in the form of client procedures, personnel and strategic data -an organisational library or memo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onsultants and clients</a:t>
            </a:r>
            <a:r>
              <a:rPr b="0" lang="en-GB" sz="2000" spc="-1" strike="noStrike">
                <a:solidFill>
                  <a:srgbClr val="000000"/>
                </a:solidFill>
                <a:latin typeface="Arial"/>
              </a:rPr>
              <a:t> – general and consultancy project management knowledge and responsi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rom clients to consultants</a:t>
            </a:r>
            <a:r>
              <a:rPr b="0" lang="en-GB" sz="2000" spc="-1" strike="noStrike">
                <a:solidFill>
                  <a:srgbClr val="000000"/>
                </a:solidFill>
                <a:latin typeface="Arial"/>
              </a:rPr>
              <a:t> – consultants gained or appropriated client organisation and sector (contextual) knowledge from project participation in contextualising their analyses and prescriptions &amp; identifying future business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lients</a:t>
            </a:r>
            <a:r>
              <a:rPr b="0" lang="en-GB" sz="2000" spc="-1" strike="noStrike">
                <a:solidFill>
                  <a:srgbClr val="000000"/>
                </a:solidFill>
                <a:latin typeface="Arial"/>
              </a:rPr>
              <a:t> – commissioning consultants itself prompted reflection among clients and seeking out other sources of information such as elsewhere in their particular se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mong consultants</a:t>
            </a:r>
            <a:r>
              <a:rPr b="0" lang="en-GB" sz="2000" spc="-1" strike="noStrike">
                <a:solidFill>
                  <a:srgbClr val="000000"/>
                </a:solidFill>
                <a:latin typeface="Arial"/>
              </a:rPr>
              <a:t> –internal KM was largely beyond the scope of this research, but: incidental observation and coaching with respect to client, process and project domain knowledge and testing and using tools and framework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s III - </a:t>
            </a:r>
            <a:r>
              <a:rPr b="1" i="1" lang="en-GB" sz="2800" spc="-1" strike="noStrike">
                <a:solidFill>
                  <a:srgbClr val="000000"/>
                </a:solidFill>
                <a:latin typeface="Arial"/>
              </a:rPr>
              <a:t>Enabling (and constraining) Channels, Practices and Orientations</a:t>
            </a:r>
            <a:endParaRPr b="0" lang="en-US" sz="2800" spc="-1" strike="noStrike">
              <a:solidFill>
                <a:srgbClr val="000000"/>
              </a:solidFill>
              <a:latin typeface="Arial"/>
            </a:endParaRPr>
          </a:p>
        </p:txBody>
      </p:sp>
      <p:sp>
        <p:nvSpPr>
          <p:cNvPr id="70"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nge of (pre-)conditions, practices, orientations, actors and channels which seem to enable knowledge flows (eg transfer, translation, appli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relate to checklists but more contextualise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space, motiv’n and planning for activity, observation &amp; refle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actional styles of challenge appropriate to individuals, phase and context (eg combined humour/politeness for communic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relationships such as an emerging commitment to project goals and individual credibility / likeabil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ultant able/allowed to acquire/use contextual knowledge ea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itimation; formal &amp; informal learning networks, meetings and processes (including documentation) in and beyond project team</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ndering knowledge flow</a:t>
            </a:r>
            <a:r>
              <a:rPr b="0" lang="en-GB" sz="1800" spc="-1" strike="noStrike">
                <a:solidFill>
                  <a:srgbClr val="000000"/>
                </a:solidFill>
                <a:latin typeface="Arial"/>
              </a:rPr>
              <a:t>: absence of the enablers; c</a:t>
            </a:r>
            <a:r>
              <a:rPr b="0" i="1" lang="en-GB" sz="1800" spc="-1" strike="noStrike">
                <a:solidFill>
                  <a:srgbClr val="000000"/>
                </a:solidFill>
                <a:latin typeface="Arial"/>
              </a:rPr>
              <a:t>onsultants’ lack of</a:t>
            </a:r>
            <a:r>
              <a:rPr b="0" lang="en-GB" sz="1800" spc="-1" strike="noStrike">
                <a:solidFill>
                  <a:srgbClr val="000000"/>
                </a:solidFill>
                <a:latin typeface="Arial"/>
              </a:rPr>
              <a:t> contextualised (eg organisational/sector) knowledge; p</a:t>
            </a:r>
            <a:r>
              <a:rPr b="0" i="1" lang="en-GB" sz="1800" spc="-1" strike="noStrike">
                <a:solidFill>
                  <a:srgbClr val="000000"/>
                </a:solidFill>
                <a:latin typeface="Arial"/>
              </a:rPr>
              <a:t>arties’</a:t>
            </a:r>
            <a:r>
              <a:rPr b="0" lang="en-GB" sz="1800" spc="-1" strike="noStrike">
                <a:solidFill>
                  <a:srgbClr val="000000"/>
                </a:solidFill>
                <a:latin typeface="Arial"/>
              </a:rPr>
              <a:t>: ‘tiredness’ or low investment in relationship and/or project; failure to anticipate knowledge transfer; c</a:t>
            </a:r>
            <a:r>
              <a:rPr b="0" i="1" lang="en-GB" sz="1800" spc="-1" strike="noStrike">
                <a:solidFill>
                  <a:srgbClr val="000000"/>
                </a:solidFill>
                <a:latin typeface="Arial"/>
              </a:rPr>
              <a:t>lients’</a:t>
            </a:r>
            <a:r>
              <a:rPr b="0" lang="en-GB" sz="1800" spc="-1" strike="noStrike">
                <a:solidFill>
                  <a:srgbClr val="000000"/>
                </a:solidFill>
                <a:latin typeface="Arial"/>
              </a:rPr>
              <a:t>: negative prior/early perceptions of consultant/firm (eg credibility) leading to lack of engagement (cf push back) and failure to create space for communication etc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 I</a:t>
            </a:r>
            <a:endParaRPr b="0" lang="en-US" sz="3600" spc="-1" strike="noStrike">
              <a:solidFill>
                <a:srgbClr val="000000"/>
              </a:solidFill>
              <a:latin typeface="Arial"/>
            </a:endParaRPr>
          </a:p>
        </p:txBody>
      </p:sp>
      <p:sp>
        <p:nvSpPr>
          <p:cNvPr id="7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raditional concern with persuasive consulting rhetoric and clients responses to it and the more or less explicit adoption of a diffusion perspective becomes less sali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 out an overview of some of the findings with respect to the domains, directions and conditions of knowledge flow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was placed by actors on gaining knowledge of project processes such as project, consultancy and change mana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low not a formal or primary objective in the case study proje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level of the project, clients are more likely than their peers already to have a sense of expertise in the project domain – lit. overestimates the degree of ‘otherness’ and weakness of 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ution is required here at the methodological level - reluctant to admit, or perceive themselves as, ‘sub-expert’ in relation to consult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s II</a:t>
            </a:r>
            <a:endParaRPr b="0" lang="en-US" sz="4000" spc="-1" strike="noStrike">
              <a:solidFill>
                <a:srgbClr val="000000"/>
              </a:solidFill>
              <a:latin typeface="Arial"/>
            </a:endParaRPr>
          </a:p>
        </p:txBody>
      </p:sp>
      <p:sp>
        <p:nvSpPr>
          <p:cNvPr id="7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learning is wholly or at least partly, based in practices, especially those shared through participation in joint activity, then it is hardly surprising that those involved in project practices report this domain as significant – it is what they were do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 (pre) sales presentations or implementation of a new management approac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unexpected directions of knowledge flow - from consultants to clients as organisational memory or ‘datab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clear that more classically cognitive processes were important - reflection &amp; ‘writing things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ing contexts revealed complexity rarely evident in generalised checklists and conditions eg space for joint working, can be experienced differently - need to allow for situational specificity, (embedded?) human agency and relationship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ditions might be seen as a loose or partial structuring for knowledge flow, but sometimes structures are tighter – eg implementing the new IT system at Imperial - little choice but to adopt new practices – power and structures are importa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404280"/>
            <a:ext cx="7772400" cy="247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hinking the role of management consultants as disseminators of business knowledge – knowledge flows, directions and conditions in consulting projects</a:t>
            </a:r>
            <a:endParaRPr b="0" lang="en-US" sz="2800" spc="-1" strike="noStrike">
              <a:solidFill>
                <a:srgbClr val="000000"/>
              </a:solidFill>
              <a:latin typeface="Arial"/>
            </a:endParaRPr>
          </a:p>
        </p:txBody>
      </p:sp>
      <p:sp>
        <p:nvSpPr>
          <p:cNvPr id="76" name="PlaceHolder 2"/>
          <p:cNvSpPr>
            <a:spLocks noGrp="1"/>
          </p:cNvSpPr>
          <p:nvPr>
            <p:ph type="subTitle"/>
          </p:nvPr>
        </p:nvSpPr>
        <p:spPr>
          <a:xfrm>
            <a:off x="1371600" y="3068280"/>
            <a:ext cx="6400800" cy="2570040"/>
          </a:xfrm>
          <a:prstGeom prst="rect">
            <a:avLst/>
          </a:prstGeom>
          <a:noFill/>
          <a:ln w="0">
            <a:noFill/>
          </a:ln>
        </p:spPr>
        <p:txBody>
          <a:bodyPr lIns="90000" rIns="90000" tIns="46800" bIns="46800"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Questions, comments?</a:t>
            </a:r>
            <a:endParaRPr b="0"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quiries to:</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Sturdy*</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wick Business School, University of Warwick</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try CV4 7AL, UK</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sturdy@wbs.ac.u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0" lang="en-US" sz="3600" spc="-1" strike="noStrike">
              <a:solidFill>
                <a:srgbClr val="000000"/>
              </a:solidFill>
              <a:latin typeface="Arial"/>
            </a:endParaRPr>
          </a:p>
        </p:txBody>
      </p:sp>
      <p:sp>
        <p:nvSpPr>
          <p:cNvPr id="51"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ltants seen as core agents in the dissemination of business knowledge (relative expertise; rhetoric; knowledge manag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studies focus on their role in projects with client organis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per examines knowledge flow in consultancy projects from longitudinal observation and interview research &amp; survey of clients and consult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ntional view of consultants as disseminators of new management ideas to clients is, at best, exaggerated and certainly misrepresents their role in project wor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flow tends to occur by default; concerned with project processes/management; multiple, sometimes unexpected, dir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ing and constraining conditions for knowledge flow are identified - not in a deterministic sense, but as a loose or partial structuring of knowledge in pract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knowledge support of the ESRC/EBK (RES-334-25-0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and context</a:t>
            </a:r>
            <a:endParaRPr b="0" lang="en-US" sz="3600" spc="-1" strike="noStrike">
              <a:solidFill>
                <a:srgbClr val="000000"/>
              </a:solidFill>
              <a:latin typeface="Arial"/>
            </a:endParaRPr>
          </a:p>
        </p:txBody>
      </p:sp>
      <p:sp>
        <p:nvSpPr>
          <p:cNvPr id="53"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importance of knowledge - emphasis on role of those bringing new knowledge into organisations from the outside (assumes that all new knowledge is good… for wh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 management consultants seen at the forefront - ‘pre-eminent knowledge brokers’ - expert outsiders (McKenna, 200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w studies - assumed that because consultants actively promote new management ideas and widely used, they do perform this ro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studies of consultancy reproduce conventional and common sense view of consultants - ‘marginality’ as key in bringing distinctive and unfamiliar knowledge (eg management and change methods and tools v ‘operational’ knowledge of clients) but </a:t>
            </a:r>
            <a:r>
              <a:rPr b="0" i="1" lang="en-GB" sz="2000" spc="-1" strike="noStrike">
                <a:solidFill>
                  <a:srgbClr val="000000"/>
                </a:solidFill>
                <a:latin typeface="Arial"/>
              </a:rPr>
              <a:t>knowledge clash presents</a:t>
            </a:r>
            <a:r>
              <a:rPr b="0" lang="en-GB" sz="2000" spc="-1" strike="noStrike">
                <a:solidFill>
                  <a:srgbClr val="000000"/>
                </a:solidFill>
                <a:latin typeface="Arial"/>
              </a:rPr>
              <a:t> </a:t>
            </a:r>
            <a:r>
              <a:rPr b="0" i="1" lang="en-GB" sz="2000" spc="-1" strike="noStrike">
                <a:solidFill>
                  <a:srgbClr val="000000"/>
                </a:solidFill>
                <a:latin typeface="Arial"/>
              </a:rPr>
              <a:t>‘burden of otherness’ </a:t>
            </a:r>
            <a:r>
              <a:rPr b="0" lang="en-GB" sz="2000" spc="-1" strike="noStrike">
                <a:solidFill>
                  <a:srgbClr val="000000"/>
                </a:solidFill>
                <a:latin typeface="Arial"/>
              </a:rPr>
              <a:t>for consultan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conventional view of consultants as outsiders bringing alien knowledge to clients is highly problematic, as a generalisation, in consultancy projects and a conceptual framing of knowledge flow.</a:t>
            </a:r>
            <a:r>
              <a:rPr b="1" lang="en-GB"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plexity and Variety (from wider consultancy/PS/relationship literature)</a:t>
            </a:r>
            <a:endParaRPr b="0" lang="en-US" sz="2800" spc="-1" strike="noStrike">
              <a:solidFill>
                <a:srgbClr val="000000"/>
              </a:solidFill>
              <a:latin typeface="Arial"/>
            </a:endParaRPr>
          </a:p>
        </p:txBody>
      </p:sp>
      <p:sp>
        <p:nvSpPr>
          <p:cNvPr id="5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 consultancy (but process expe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gitimate senior client knowled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familiarity with mcy kn/tools (media, MB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 from (eg innovative) clients; co-produce as ‘partial employees’ in product development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eed to specify the actors and dynamics or stages of consultancy - </a:t>
            </a:r>
            <a:r>
              <a:rPr b="0" i="1" lang="en-GB" sz="2800" spc="-1" strike="noStrike">
                <a:solidFill>
                  <a:srgbClr val="000000"/>
                </a:solidFill>
                <a:latin typeface="Arial"/>
              </a:rPr>
              <a:t>once the project has begun</a:t>
            </a:r>
            <a:r>
              <a:rPr b="0" lang="en-GB" sz="2800" spc="-1" strike="noStrike">
                <a:solidFill>
                  <a:srgbClr val="000000"/>
                </a:solidFill>
                <a:latin typeface="Arial"/>
              </a:rPr>
              <a:t>, selling ideas lessens in significance, especially for the project team members (a liminal space) – key boundary, like project work, is with team and other organis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Knowledge Flow over Transfer</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ntional view implicitly assumes a view of knowledge as a pseudo object (cf translation or ‘re-invention’). We are concerned wit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obilisation of a range of knowledges in business contexts rather than specific and separate knowledge fo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practices, processes and conditions and how they relate to identity and pow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as well as meaning or understanding and the politics of knowledge and its transformation associated both with actors’ senses of interests or motivations (cf Carlile, 2004).</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modest aims - ‘one particularly important topic which has as yet to be explored empirically is knowledge flow between the heterogeneous communities and networks that cut across an organisation’ (Tagliaventi and Mattarelli 2006: 2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pirical study</a:t>
            </a:r>
            <a:endParaRPr b="0" lang="en-US" sz="4400" spc="-1" strike="noStrike">
              <a:solidFill>
                <a:srgbClr val="000000"/>
              </a:solidFill>
              <a:latin typeface="Arial"/>
            </a:endParaRPr>
          </a:p>
        </p:txBody>
      </p:sp>
      <p:sp>
        <p:nvSpPr>
          <p:cNvPr id="59"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project cases selected to maximise the degree of differe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bserver as participant' (35 formal project meetings), semi-structured interviews (81) and documentary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 of participants in the 2003/4 and 2004/5 Management Consultancies Association (MCA) Awards for Best Management Practice (ie idea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 data collection and analysis, developed a framework informed where learning is viewed as the devt of </a:t>
            </a:r>
            <a:r>
              <a:rPr b="0" i="1" lang="en-GB" sz="2400" spc="-1" strike="noStrike">
                <a:solidFill>
                  <a:srgbClr val="000000"/>
                </a:solidFill>
                <a:latin typeface="Arial"/>
              </a:rPr>
              <a:t>practices</a:t>
            </a:r>
            <a:r>
              <a:rPr b="0" lang="en-GB" sz="2400" spc="-1" strike="noStrike">
                <a:solidFill>
                  <a:srgbClr val="000000"/>
                </a:solidFill>
                <a:latin typeface="Arial"/>
              </a:rPr>
              <a:t> and </a:t>
            </a:r>
            <a:r>
              <a:rPr b="0" i="1" lang="en-GB" sz="2400" spc="-1" strike="noStrike">
                <a:solidFill>
                  <a:srgbClr val="000000"/>
                </a:solidFill>
                <a:latin typeface="Arial"/>
              </a:rPr>
              <a:t>identity</a:t>
            </a:r>
            <a:r>
              <a:rPr b="0" lang="en-GB" sz="2400" spc="-1" strike="noStrike">
                <a:solidFill>
                  <a:srgbClr val="000000"/>
                </a:solidFill>
                <a:latin typeface="Arial"/>
              </a:rPr>
              <a:t> through different forms of </a:t>
            </a:r>
            <a:r>
              <a:rPr b="0" i="1" lang="en-GB" sz="2400" spc="-1" strike="noStrike">
                <a:solidFill>
                  <a:srgbClr val="000000"/>
                </a:solidFill>
                <a:latin typeface="Arial"/>
              </a:rPr>
              <a:t>participation</a:t>
            </a:r>
            <a:r>
              <a:rPr b="0" lang="en-GB" sz="2400" spc="-1" strike="noStrike">
                <a:solidFill>
                  <a:srgbClr val="000000"/>
                </a:solidFill>
                <a:latin typeface="Arial"/>
              </a:rPr>
              <a:t> within communities and networks of pract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of Knowledge Flow in Case Study Projects - Specific content; media/practices/channels; capacity issues; orientations (see appendix in pap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03280" y="735480"/>
            <a:ext cx="64087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Summary of Case Study Projects</a:t>
            </a:r>
            <a:endParaRPr b="0" lang="en-US" sz="2400" spc="-1" strike="noStrike">
              <a:solidFill>
                <a:srgbClr val="000000"/>
              </a:solidFill>
              <a:latin typeface="Arial"/>
            </a:endParaRPr>
          </a:p>
        </p:txBody>
      </p:sp>
      <p:graphicFrame>
        <p:nvGraphicFramePr>
          <p:cNvPr id="61" name=""/>
          <p:cNvGraphicFramePr/>
          <p:nvPr/>
        </p:nvGraphicFramePr>
        <p:xfrm>
          <a:off x="684360" y="1413000"/>
          <a:ext cx="8135640" cy="4354560"/>
        </p:xfrm>
        <a:graphic>
          <a:graphicData uri="http://schemas.openxmlformats.org/drawingml/2006/table">
            <a:tbl>
              <a:tblPr/>
              <a:tblGrid>
                <a:gridCol w="2592360"/>
                <a:gridCol w="2401920"/>
                <a:gridCol w="1569960"/>
                <a:gridCol w="1571400"/>
              </a:tblGrid>
              <a:tr h="859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Organisational Acto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Project Dom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Project Duration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S Mincho"/>
                        </a:rPr>
                        <a:t>Research Hou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Global/Strat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Strategic Analysis/Adv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9 month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Imperial/Tech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IT Advice/ Implem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14 mo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Borough/World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e-Procurement Adv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2 year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6 week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8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Mincho"/>
                        </a:rPr>
                        <a:t>Prison</a:t>
                      </a:r>
                      <a:r>
                        <a:rPr b="0" lang="en-GB" sz="2400" spc="-1" strike="noStrike">
                          <a:solidFill>
                            <a:srgbClr val="000000"/>
                          </a:solidFill>
                          <a:latin typeface="Arial"/>
                          <a:ea typeface="MS Mincho"/>
                        </a:rPr>
                        <a:t>/Stuart (</a:t>
                      </a:r>
                      <a:r>
                        <a:rPr b="0" i="1" lang="en-GB" sz="2400" spc="-1" strike="noStrike">
                          <a:solidFill>
                            <a:srgbClr val="000000"/>
                          </a:solidFill>
                          <a:latin typeface="Arial"/>
                          <a:ea typeface="MS Mincho"/>
                        </a:rPr>
                        <a:t>Network</a:t>
                      </a:r>
                      <a:r>
                        <a:rPr b="0" lang="en-GB" sz="2400" spc="-1" strike="noStrike">
                          <a:solidFill>
                            <a:srgbClr val="000000"/>
                          </a:solidFill>
                          <a:latin typeface="Arial"/>
                          <a:ea typeface="MS Mincho"/>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Project Management Advice and Q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4 mo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Mincho"/>
                        </a:rPr>
                        <a:t>5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
        <p:nvSpPr>
          <p:cNvPr id="62" name=""/>
          <p:cNvSpPr/>
          <p:nvPr/>
        </p:nvSpPr>
        <p:spPr>
          <a:xfrm>
            <a:off x="0" y="53341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CA's Annual Awards Survey and Interviews</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4" name=""/>
          <p:cNvGraphicFramePr/>
          <p:nvPr/>
        </p:nvGraphicFramePr>
        <p:xfrm>
          <a:off x="468360" y="1600200"/>
          <a:ext cx="8218440" cy="4525920"/>
        </p:xfrm>
        <a:graphic>
          <a:graphicData uri="http://schemas.openxmlformats.org/drawingml/2006/table">
            <a:tbl>
              <a:tblPr/>
              <a:tblGrid>
                <a:gridCol w="1295280"/>
                <a:gridCol w="2016360"/>
                <a:gridCol w="1944360"/>
                <a:gridCol w="1727280"/>
                <a:gridCol w="1235160"/>
              </a:tblGrid>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rvey response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ponse r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views</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Rat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3/4</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7 (pair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4/5</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7 (client only)</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4%</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9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dings I - </a:t>
            </a:r>
            <a:r>
              <a:rPr b="1" i="1" lang="en-US" sz="4000" spc="-1" strike="noStrike">
                <a:solidFill>
                  <a:srgbClr val="000000"/>
                </a:solidFill>
                <a:latin typeface="Arial"/>
              </a:rPr>
              <a:t>Knowledge </a:t>
            </a:r>
            <a:r>
              <a:rPr b="1" i="1" lang="en-GB" sz="4000" spc="-1" strike="noStrike">
                <a:solidFill>
                  <a:srgbClr val="000000"/>
                </a:solidFill>
                <a:latin typeface="Arial"/>
              </a:rPr>
              <a:t>Domains</a:t>
            </a:r>
            <a:endParaRPr b="0" lang="en-US" sz="40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evidence of conventional view but </a:t>
            </a:r>
            <a:r>
              <a:rPr b="1" lang="en-GB" sz="2000" spc="-1" strike="noStrike">
                <a:solidFill>
                  <a:srgbClr val="000000"/>
                </a:solidFill>
                <a:latin typeface="Arial"/>
              </a:rPr>
              <a:t>by default as design</a:t>
            </a:r>
            <a:r>
              <a:rPr b="0" lang="en-GB" sz="2000" spc="-1" strike="noStrike">
                <a:solidFill>
                  <a:srgbClr val="000000"/>
                </a:solidFill>
                <a:latin typeface="Arial"/>
              </a:rPr>
              <a:t> - even when explicit, learning was not always pursued or achieved, especially beyond the project group context - </a:t>
            </a:r>
            <a:r>
              <a:rPr b="1" lang="en-GB" sz="2000" spc="-1" strike="noStrike">
                <a:solidFill>
                  <a:srgbClr val="000000"/>
                </a:solidFill>
                <a:latin typeface="Arial"/>
              </a:rPr>
              <a:t>focus on project objectives in time</a:t>
            </a:r>
            <a:r>
              <a:rPr b="0" lang="en-GB" sz="2000" spc="-1" strike="noStrike">
                <a:solidFill>
                  <a:srgbClr val="000000"/>
                </a:solidFill>
                <a:latin typeface="Arial"/>
              </a:rPr>
              <a:t> (cf IT project - practices designed into the system)</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amorphous notions of consultants’ ‘external’ view &amp; client sector kn. &amp; from reflection from commissioning consultants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ow priority formally attributed to conventional knowledge transfer has not been evident in prior research.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y open question - ‘what have you personally learned through your involvement in this project?’, only 10 (from 110 entries) referred to learning about the specific content of the project (eg culture/BPR etc).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learning was far more evident from the accounts of actors at least, was in the domain of </a:t>
            </a:r>
            <a:r>
              <a:rPr b="1" i="1" lang="en-GB" sz="2000" spc="-1" strike="noStrike">
                <a:solidFill>
                  <a:srgbClr val="000000"/>
                </a:solidFill>
                <a:latin typeface="Arial"/>
              </a:rPr>
              <a:t>project practices and processes</a:t>
            </a:r>
            <a:r>
              <a:rPr b="0" lang="en-GB" sz="2000" spc="-1" strike="noStrike">
                <a:solidFill>
                  <a:srgbClr val="000000"/>
                </a:solidFill>
                <a:latin typeface="Arial"/>
              </a:rPr>
              <a:t> more generally (the remaining 100 of the 110 entries were concerned with project (32) and change management (29) either generally or in terms of the importance of clear and shared goal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3:32:44Z</dcterms:created>
  <dc:creator>Andrew Sturdy</dc:creator>
  <dc:description/>
  <dc:language>en-US</dc:language>
  <cp:lastModifiedBy>zew</cp:lastModifiedBy>
  <dcterms:modified xsi:type="dcterms:W3CDTF">2007-11-15T08:07:19Z</dcterms:modified>
  <cp:revision>8</cp:revision>
  <dc:subject/>
  <dc:title>Re-thinking the role of management consultants as disseminators of business knowledge – knowledge flows, directions and conditions in consulting projects</dc:title>
</cp:coreProperties>
</file>