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CCC37-B3FD-472E-9BAD-19D4756589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15840" y="744480"/>
            <a:ext cx="4965840" cy="3722760"/>
          </a:xfrm>
          <a:prstGeom prst="rect">
            <a:avLst/>
          </a:prstGeom>
          <a:ln w="0">
            <a:noFill/>
          </a:ln>
        </p:spPr>
      </p:sp>
      <p:sp>
        <p:nvSpPr>
          <p:cNvPr id="12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Co provide a personalised service for execs, described as USP by snr m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dely agreed that the focus should be the research department, which was considered the most complex business fun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nted a system that would outline the sequence of activities as clients arrived through to final placement.  The quicker the client finds a job, less resources needed and more profitability.  Hoped that CRM would contribute towards enhanced profitability, standardisation across the 3 sites, and ultimately to greater market sha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17640" y="744480"/>
            <a:ext cx="4962600" cy="3722760"/>
          </a:xfrm>
          <a:prstGeom prst="rect">
            <a:avLst/>
          </a:prstGeom>
          <a:ln w="0">
            <a:noFill/>
          </a:ln>
        </p:spPr>
      </p:sp>
      <p:sp>
        <p:nvSpPr>
          <p:cNvPr id="12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rongly advised of the importance of discussing requirements with users so that they had a voice in the change process and because they offered an informed understanding of what was needed on day-to-da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effort was put into this. A focus day was planned but never materialised.  Instead two members of staff focussed upon understanding and mapping/modelling existing processes in order to understand the client journey so they could use this to assess pack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T manager seemed more concerned with obtaining the financial support of senior management. Much of documentation was written in way that appealed to their interests – e.g. There was little information provided on functional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15840" y="744480"/>
            <a:ext cx="4965840" cy="3722760"/>
          </a:xfrm>
          <a:prstGeom prst="rect">
            <a:avLst/>
          </a:prstGeom>
          <a:ln w="0">
            <a:noFill/>
          </a:ln>
        </p:spPr>
      </p:sp>
      <p:sp>
        <p:nvSpPr>
          <p:cNvPr id="12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ject team used the usual sources to find out about prospective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nager described how she had been inundated with telephone calls from prospective vend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t up meetings with 3 to discuss T.Co requirements.  Vendor A of a CRM package said their product was ‘too big’ and that the company couldn’t afford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ge was discounted due to cost and because initial communications were problem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dors C and D: Invited to a Beauty Para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17640" y="744480"/>
            <a:ext cx="4962600" cy="3722760"/>
          </a:xfrm>
          <a:prstGeom prst="rect">
            <a:avLst/>
          </a:prstGeom>
          <a:ln w="0">
            <a:noFill/>
          </a:ln>
        </p:spPr>
      </p:sp>
      <p:sp>
        <p:nvSpPr>
          <p:cNvPr id="12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ndor C had a no. of meetings beforehand with project team so that they would have some knowledge of the organisation, but on the day they gave a presentation of std product to snr mgt.  Disappointment.  Reservations about PS and wanted further exploration of custom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ject team persisted in their search for a suitable vendor.  Part D were coached by IT manger about the language, ways of working and culture at TCo in hope they would be seen as providers of a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presentation, extensive use made of background information and product terminology was personalised to TcO.  MD – ‘this product can do all we need and more’. Wanted system to be installed incrementally throughout whole organisation.  Cost seemed no longer relevant as original estimates and no. of licences more than doubled.  Indeed, the cost of Goldmine was marginally more expensive than the same product from Vendor C, but they were no longer a viable alternativ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15840" y="744480"/>
            <a:ext cx="4965840" cy="3722760"/>
          </a:xfrm>
          <a:prstGeom prst="rect">
            <a:avLst/>
          </a:prstGeom>
          <a:ln w="0">
            <a:noFill/>
          </a:ln>
        </p:spPr>
      </p:sp>
      <p:sp>
        <p:nvSpPr>
          <p:cNvPr id="13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the Package was now being rolled out across the entire organization, the starting point changed.   The initial sourcing was for s/ware for the research dept, but as the was the most complicated area, it was now to be left till last.  The vendor benefited from the expansion by recommending Sales and marketing went first as this was the ‘best fit’ with the PS and also happened to take up larger part of the budget (60%).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e decision had been made, there was now a desire to ensure this went as smoothly as possible internally and so a workflow day with end-users was planned.  Hoped this would ensure there was little resistance.  At this stage the consultant from the vendor was a technical as opposed to a sales person.  Became evident as day wore on that his primary concern was to pare down requirements that veered from the pkg and maintain economies of scale.  There was a clear lack of understanding of Co and their processes or even business operation despite having been sent documentation beforehand (v.different from sales consultant). When staff wanted to discuss finer details of how the s/ware would affect their everyday working practices he advised them to stop naval gazing.   End-users were not happy with what they saw and after the workflow day voiced their concerns to the MD.  In his typical dictatorial fashion he met with staff and said: we know there are problems with Goldmine but can it do most of what we want – yes or no?.  Most people acquiesced and the decision to proceed continued.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15840" y="744480"/>
            <a:ext cx="4965840" cy="3722760"/>
          </a:xfrm>
          <a:prstGeom prst="rect">
            <a:avLst/>
          </a:prstGeom>
          <a:ln w="0">
            <a:noFill/>
          </a:ln>
        </p:spPr>
      </p:sp>
      <p:sp>
        <p:nvSpPr>
          <p:cNvPr id="13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yrs on from M&amp;BA paper, see how useful this is in a more contemporary setting where procurement of SP, as opposed to bespoke development, is becoming common practi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ork by Bloomfield and Vurdubakis suggest that the technical is not fixed but subject to interpretation and negotia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construction of the technical exercise of power occurring within the packaged software </a:t>
            </a:r>
            <a:r>
              <a:rPr b="0" i="1" lang="en-GB" sz="1000" spc="-1" strike="noStrike">
                <a:solidFill>
                  <a:srgbClr val="000000"/>
                </a:solidFill>
                <a:latin typeface="Arial"/>
              </a:rPr>
              <a:t>product</a:t>
            </a:r>
            <a:r>
              <a:rPr b="0" lang="en-GB" sz="1000" spc="-1" strike="noStrike">
                <a:solidFill>
                  <a:srgbClr val="000000"/>
                </a:solidFill>
                <a:latin typeface="Arial"/>
              </a:rPr>
              <a:t> development process at the market level. Goldmine as a software product had already been developed with a set of fairly fixed design features aimed to target a particular market.  In this respect it could be argued that the technology is already fixed to a certain degree.  However, as the case study unfolds we see how the IT consultants position themselves as knowledgeable experts and define the sociotechnical boundary according to their audience.  For example, the initial presentation to the Board of Directors by Vendor D offered a product that was configurable and ‘T.Co. compatible’, yet only weeks later when this same product was presented to end-users, we see it had fixed technical features that would be problematic to customis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also see how the technical exercise of power is constructed in relation to the IT consultants These experts – seen as ‘objective, expert, and expensive’ serve a purpose akin to that of the selective use of objective criteria, providing distance from power issues and enabling legitimation of decisions already made elsewhere.  Power is exercised in such a way that it is perceived that the consultants only offer guidance concerning technical issues, but the setting up of this boundary is itself inherently political.  During the workflow day, the technical consultant attempts to re-impose the standardised design features of the software upon T.Co.     Although an understanding of requirements is sought, it seems that there is little value in this exercise since the focus is bent towards selling a generic ‘vanilla’ product.  The outcome of the day was that staff were not persuaded that Goldmine was appropriate for their organization.  By contrast, the MD – as product champion - was of the opinion that the package would meet his requirements and match his vision for the future and staff eventually coalesced into agreeing.  The struggle for power was not particularly concerned with the functionality of the software, but rather whose voice and opinion carried most weight.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15840" y="744480"/>
            <a:ext cx="4965840" cy="3722760"/>
          </a:xfrm>
          <a:prstGeom prst="rect">
            <a:avLst/>
          </a:prstGeom>
          <a:ln w="0">
            <a:noFill/>
          </a:ln>
        </p:spPr>
      </p:sp>
      <p:sp>
        <p:nvSpPr>
          <p:cNvPr id="13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concerns the creation of policies and practices which are developed by those who have more power in decision-making processes. Historically, within T.Co the appointment of the IT Manager initiated a process of ‘IS professionalisation’ which saw the development of a number of policies concerning user support, data standards and acceptable email use.  This stemmed from the desire to provide greater control over the forthcoming project and in this respect policy creation was interwoven with the project.  However,  the primary area of governance was financial and this was within the purview of the Board of Directors who maintained a stronghold on all aspects of organisational policy, including IT development and expenditure.  The move to a market-based model of software development involves a commitment to the purchase of a product, which represents a significant capital investment for the company and thus attracts the attention and involvement of senior management. In this respect, IT policy developed by the IT manager merely operationalised broader policies that were initiated and controlled by senior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ving beyond the organizational boundary, we see other instances of the structural exercise of power, which arise as a result of the increasing adoption and purchase of package software products.  Firstly, there are guidelines that govern how packages should be adopted and used, which are largely based upon implementing the ‘vanilla’ application. These are created and maintained by those that operate in the market environment, such as vendors and IT consultants.  Many packages are developed for mass markets and are marketed on the basis that consumer organizations’ can capitalise on the economies of scale whilst gaining the benefits of expertise across a large installed base.  Therefore, adopting the standardised product in a ‘vanilla’ fashion is strongly encouraged (as illustrated during the workflow day), and customisation of the product is discouraged.  At this level, the overt exercise of power by the vendors and the larger product market is strongly biased towards acquiescence with the vendors and the fixed design of the produc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olicies on new product releases, patches, and upgrades are also determined by vendor organizations.  For example, during the workflow day, when the technical consultant was asked about future product development, he responded with the statement that it would happen “</a:t>
            </a:r>
            <a:r>
              <a:rPr b="0" i="1" lang="en-GB" sz="800" spc="-1" strike="noStrike">
                <a:solidFill>
                  <a:srgbClr val="000000"/>
                </a:solidFill>
                <a:latin typeface="Arial"/>
              </a:rPr>
              <a:t>if enough customers ask for it</a:t>
            </a:r>
            <a:r>
              <a:rPr b="0" lang="en-GB" sz="800" spc="-1" strike="noStrike">
                <a:solidFill>
                  <a:srgbClr val="000000"/>
                </a:solidFill>
                <a:latin typeface="Arial"/>
              </a:rPr>
              <a:t>”.   In addition, vendors have the power to control who purchases their product, particularly if they are concerned that it may have an adverse effect on their profitability.  In the case study, we see an instance of this with Vendor A, who was not even prepared to tender for the project, as they believed T.Co would be unable to afford them and would be unlikely to become large revenue generators. In addition, the structural exercise of power operates in the various ways in which consumers can access support and maintenance mechanisms, as studies reveal that these services are offered at the market level and provide little opportunity for input by individual organizations.  Adopting organizations have limited influence over product design as this is primarily driven by expectations regarding potential future markets as opposed to the specific needs of the adopting organization.  In this respect the vendors are able to specify clear parameters for both adoption and use. </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7640" y="744480"/>
            <a:ext cx="4962600" cy="3722760"/>
          </a:xfrm>
          <a:prstGeom prst="rect">
            <a:avLst/>
          </a:prstGeom>
          <a:ln w="0">
            <a:noFill/>
          </a:ln>
        </p:spPr>
      </p:sp>
      <p:sp>
        <p:nvSpPr>
          <p:cNvPr id="13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fers to the way in which decision-making is scoped to permit discussion of ‘safe’ issues, whilst avoiding more contentious aspects of organizational life.  At the market level, packaged software products are sold on the basis of realising an ‘ideal’ be that customer relationship management (as in this case). So, the procurement and adoption process of package software is already constrained by these parameters’, leaving no space to raise the question as to whether the ‘ideal’ is appropriate or not.  Within T.Co., the system objectives were decided at the outset by the senior management team, and this was centred around the goal of improved profitability and enhanced market share.   Processes that followed, such as the initial business process mapping exercise was geared toward the achievement of these objectives, even though advice recommended end-users – who may have differing opinions - be consulted.  The exercise was centred on optimising existing processes, with no consideration of how the system may impact on the working practices of us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study also reveals the shifting boundaries over time as we see the objectives alter to fit the changing needs of senior management.  In the initial stages of the project senior management felt that a CRM software package demonstrated in the presentation given by Vendor C was incompatible with their needs, even to the extent that custom development was reconsidered.   However, as the project progressed we see how the IT consultants from Vendor D were able to persuade the MD that the the package is compatible with his vision.  Interestingly, the scope of the package also became much broader than originally intended; yet this was never questioned.    This seems to confirm the view that: ‘consultants do not so much target themselves at a particular niche as seek to create a niche and persuade clients that they are within it’  (Bloomfield and Danieli, 1995), thus steering clients to an appropriate course of action as if it were their own idea.</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5840" y="744480"/>
            <a:ext cx="4965840" cy="3722760"/>
          </a:xfrm>
          <a:prstGeom prst="rect">
            <a:avLst/>
          </a:prstGeom>
          <a:ln w="0">
            <a:noFill/>
          </a:ln>
        </p:spPr>
      </p:sp>
      <p:sp>
        <p:nvSpPr>
          <p:cNvPr id="13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is concerned with covert issues that look beyond observable conflict to consider grievances that are neither articulated nor acknowledged.  Here, it is useful to consider the broader context. As packaged software adoption is normalised into contemporary systems development, the myths or fictional narratives become increasingly pervasive as the benefits of packaged software are evangelised. Throughout our participation in the project, senior management were influenced by this ideology from various channels such as the trade press, through participation in professional associations (e.g. the Institute of Directors) and with their peers.  This influence was such that they hoped that the adoption of the technology, steered by the expertise of the technical consultant, would alleviate their existing problems.  In this manner, legitimacy in packaged software adoption was construc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ithin the case we also note the role of ideology that equates technological adoption with progress and assumes ‘better’ technology was needed.  For example, it was hoped that the CRM package would contribute towards enhancing the productivity of T.Co. by enabling them to standardise and streamline activities.  This went beyond senior management through to operational level staff as the technology was imputed with the power to change and improve current working practices</a:t>
            </a:r>
            <a:r>
              <a:rPr b="0" i="1" lang="en-GB" sz="800" spc="-1" strike="noStrike">
                <a:solidFill>
                  <a:srgbClr val="000000"/>
                </a:solidFill>
                <a:latin typeface="Arial"/>
              </a:rPr>
              <a:t>.</a:t>
            </a:r>
            <a:r>
              <a:rPr b="0" lang="en-GB" sz="800" spc="-1" strike="noStrike">
                <a:solidFill>
                  <a:srgbClr val="000000"/>
                </a:solidFill>
                <a:latin typeface="Arial"/>
              </a:rPr>
              <a:t> IT consultants also play on the appeal of technical rationality in that it offers both the prospect of controlling uncertainty as it is seen as objective and politically neutra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imilarly, the case illustrates the power of management prerogative and the way that this manifested itself in the authority of senior managers. It was presumed that this authority would not to be questioned and this was largely the case.  T.Co. had a strongly hierarchical organizational structure, headed by a determined and forthright MD.  The power of the Board of Directors is evident in the process of persuasion and enrolment surrounding the securing of the financial resources for the proj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ithin the organization, the legitimizing devices of language, myth, ceremony, and rituals are all evident.  At the ceremony of the ‘successful’ sales presentation, the IT consultant embedded the everyday operational language of T.Co. into the software demonstration.  Even though the same product had been rejected in the past, the IT consultant mobilised the support of the MD by configuring the package so that it appeared to be ‘T.Co. Compatible’.  This was done in conjunction with the project team, particularly the IT manager, who worked the prevailing management ideology to her advantage.  The IT manager believed that a package was the best option given the fragmented systems that were in existence.  Thus, she too adopted language that would appeal to management in order to secure the resources she needed.  She was also instrumental in the coaching of vendor E into presenting the product in keeping with T.Co. language and culture in order to minimise opposi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Co., a recurrent myth assumes that the organization. is comprised of people who share the same vision, and the presence of any conflict is seen as dysfunctional.   The mantra of ‘what is good for T.Co.’ was often used throughout the study to push through desired changes.  In the selection process, the IT consultants incorporated this vision into their sales pitch.  They participated in the ritual of satisfying the MD by pitching their presentation to give the impression that the Goldmine package was highly configurable and would do the job required – it simultaneously affirmed the status quo, yet also met the requirements for change as initiated by the senior management team.  The promise was far-reaching, adding the possibility of Goldmine supporting other departments and processes (previously unconsidered), thus extending its value as a transformer geared towards effective IT suppor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ase also illustrates how the myth of user involvement is perpetuated, enabling end-users to feel that they have a ‘voice’ in the change process.   Despite suggestions that a variety of end users should be involved throughout the project, this never materialised in practice.  In the early stages of the project, the ceremony of requirements gathering took place whereby operational staff were asked about the details of operational procedures, as opposed to being consulted as to what they wanted.  These staff were unable to participate in subsequent workshops as they were deemed too busy by their supervisors.  Paradoxically, at the implementation stage, it was stated by management that users should be brought into the project in order to ease the process of change.  Yet at the workflow day, operational staff were not included - only the line managers – despite the fact that these staff found it difficult to engage in the process.  The technical consultant had started the workflow day with the phrase: ‘</a:t>
            </a:r>
            <a:r>
              <a:rPr b="0" i="1" lang="en-GB" sz="800" spc="-1" strike="noStrike">
                <a:solidFill>
                  <a:srgbClr val="000000"/>
                </a:solidFill>
                <a:latin typeface="Arial"/>
              </a:rPr>
              <a:t>if</a:t>
            </a:r>
            <a:r>
              <a:rPr b="0" lang="en-GB" sz="800" spc="-1" strike="noStrike">
                <a:solidFill>
                  <a:srgbClr val="000000"/>
                </a:solidFill>
                <a:latin typeface="Arial"/>
              </a:rPr>
              <a:t> </a:t>
            </a:r>
            <a:r>
              <a:rPr b="0" i="1" lang="en-GB" sz="800" spc="-1" strike="noStrike">
                <a:solidFill>
                  <a:srgbClr val="000000"/>
                </a:solidFill>
                <a:latin typeface="Arial"/>
              </a:rPr>
              <a:t>you don’t say, you don’t get</a:t>
            </a:r>
            <a:r>
              <a:rPr b="0" lang="en-GB" sz="800" spc="-1" strike="noStrike">
                <a:solidFill>
                  <a:srgbClr val="000000"/>
                </a:solidFill>
                <a:latin typeface="Arial"/>
              </a:rPr>
              <a:t>’, but when things went awry, the MD took over to ensure his requirements were satisfied.  At this stage, end-users were not a serious consideration, and it became clear that the only form of user participation that interested the technical consultant involved input from senior management.</a:t>
            </a: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7640" y="744480"/>
            <a:ext cx="4962600" cy="3722760"/>
          </a:xfrm>
          <a:prstGeom prst="rect">
            <a:avLst/>
          </a:prstGeom>
          <a:ln w="0">
            <a:noFill/>
          </a:ln>
        </p:spPr>
      </p:sp>
      <p:sp>
        <p:nvSpPr>
          <p:cNvPr id="14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agree with the critique offered by Bloomfield and Best (1992), which notes that the four categories of power should not be viewed separately, but are indeed interwoven. For example, issues concerning the standardised processes that are inscribed within the software package can be seen with the technical, the conceptual and the symbolic exercise of po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though the M&amp;BA framework was developed during a period that was dominated by customs systems development, it still has resonance for contemporary systems development.  We would argue that this is because of its strong theoretical foundations, being based on the work of Lukes and his conceptualisation of power.  The issues of overt and covert power are still in evidence, even though the parameters may have altered, extending beyond the traditional organizational structures that encapsulate users and an in-house IT fun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increasing dominance of a market-orientationhas meant that issues of overt and covert power are operationalised both within the organization and in the marketplace, expanding the number of stakeholders and diversifying their role.  The research presented here has elaborated the model provided by Sawyer by using an empirical setting to detail how this market-based perspective occurs in practice. In this respect our work has considered systems development issues in a context that goes beyond the organizational boundary.  We now see IT consultants playing a primary role as third-party implementers, negotiating and liaising between the vendors and the adopting organization.  In-house IT professionals may no longer be required to develop software, but are expected to negotiate a range of financial and contractual issues, both with IT consultants and internal financial decision-makers.  At the same time they are expected to pacify users, legitimate the change process and endorse the technology as the driver of the change.  Within this scenario, we note that the role of end-users has almost come full circle as we return to a situation that is reminiscent of early systems development practices.  Once again, end-users involved in operational issues have minimal participation and influenc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15840" y="744480"/>
            <a:ext cx="4965840" cy="3722760"/>
          </a:xfrm>
          <a:prstGeom prst="rect">
            <a:avLst/>
          </a:prstGeom>
          <a:ln w="0">
            <a:noFill/>
          </a:ln>
        </p:spPr>
      </p:sp>
      <p:sp>
        <p:nvSpPr>
          <p:cNvPr id="11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S is becoming increasingly popular as many software applications are constructed by adapting existing ‘packages’ to new organisational contexts and settings.  One major contributor to the growth of PS since early 1990s is ERP applications whose licence revenues has been estimated in the region of tens of billions of US dollars. The packaged software industry is the US’s fifth largest manufacturing industry with a strong geographic concentration of development activity in Silicon Valley area.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enerally sold as a tradable product, is purchased from a vendor, distributor or retailer.  Therefore, the intellectual property that represents the packaged software is generally licensed for use rather than sold outrigh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ill, the attraction of packaged software is easy to see.  It is marketed as a form of ‘IT solution’ - one that embodies experience and knowledge built in from a large installed base. Generic, standardised software packages cover the fullest range of organisational activities and processes, and are adopted with the aim of achieving substantial cost savings as well as benefits such as improved access to ‘tried and tested’ solutions, new releases, and an opportunity to update procedures and align them with perceived ‘best practic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t, although PS suppliers aim to extend their solutions into as many different settings as possible, they do not translate easily across boundaries, whether between organisations or between industrial sectors. We are left with the PP whereby the purchasing organization buys into the idea of a package solution but as they try and adapt it to meet their needs, extensive customisation is required with all the associated problem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17640" y="744480"/>
            <a:ext cx="4962600" cy="3722760"/>
          </a:xfrm>
          <a:prstGeom prst="rect">
            <a:avLst/>
          </a:prstGeom>
          <a:ln w="0">
            <a:noFill/>
          </a:ln>
        </p:spPr>
      </p:sp>
      <p:sp>
        <p:nvSpPr>
          <p:cNvPr id="11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Given competitive nature of industry that is based on selling standardised software components as commodities, developers tend to have a product (rather than process) view of development. Their focus is on developing and ‘shipping’ a generic product, leaving the processual activities associated with ISD such as implementation, system integration and user acceptance to the purchasing organisation to manage.  This represents a considerable shift from custom development whereby the developers operated in a service or mediating function.  This traditional role is now being displaced as increasing numbers of organizations substitute the systems development process with the purchase and installation of standardised software product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 PS firms, developers are the primary revenue generators and so their needs are central to the profitability of organization. The focus is on developing products rather than systems and adaptations are concerned with more accurately meeting the needs of specialized market as opposed to a concern about a particular user organization.  So, packaged software developers have a distant relationship with users involving little direct cont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With packaged software, the development process is divided into 2 separate processes performed by at least 2 different organisations. The vendor designs, programs and tests the software, while the customer is responsible for the configuration and the organisational implementation. There may be no other connection between the activities within the two organisations, other than those entailed by ordinary purchase and sale activities. So it has been argued that the market represents a barrier between system designers and us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15840" y="744480"/>
            <a:ext cx="4965840" cy="3722760"/>
          </a:xfrm>
          <a:prstGeom prst="rect">
            <a:avLst/>
          </a:prstGeom>
          <a:ln w="0">
            <a:noFill/>
          </a:ln>
        </p:spPr>
      </p:sp>
      <p:sp>
        <p:nvSpPr>
          <p:cNvPr id="11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rawing on research in Social Studies of Technology we can see how users are constructed in the design of given technologies. The products that are being sold in this competitive PS market are said to be inscribed with a moral order, privileges certain values yet also hides others. The PS product has been referred to as ‘frozen organizational discourse’ in that the product itself is embedded or inscribed with assumptions, values and opinions about patterns of use, the nature of work, and organizational structur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When designing PS, the developers are involved in a process of predicting the future world in which the user will relate to and cohabit with the artifact. The package has a ‘history’ - accumulated through previous stages of design and implementation, and continues to influence the structure and practices of adopting organisations.  Some of the consequences for those wishing to capitalise on the benefits of packages is that they often undergo unwanted organisational change in adapting practices to models of work and organisational process embedded in the software.   Number of studies show how adopters still simply end up fitting their organisation to the system rather than the other way around.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One of the limitations of these studies is that they are slightly deterministic, based on a linear model that assumes values are embeddedor inscribed into an artifact and that users play a passive role.  But there are a number of studies which describe how the standard templates in the package were ‘compromised’ through user resistance  to allow the emergence of a more ‘local information system’ (Wagner &amp; Scott; Pollock, 2000)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Other elements to consider such as the interlinked processes of ‘domestication’, which is the process whereby user organizations accommodate new technical artefacts through a process of ‘learning by doing’ (Sorensen, 1996); and ‘innofusion’, which is the process of transformation that an artefact undergoes as it diffuses into an organization (Fleck, 1993).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17640" y="744480"/>
            <a:ext cx="4962600" cy="3722760"/>
          </a:xfrm>
          <a:prstGeom prst="rect">
            <a:avLst/>
          </a:prstGeom>
          <a:ln w="0">
            <a:noFill/>
          </a:ln>
        </p:spPr>
      </p:sp>
      <p:sp>
        <p:nvSpPr>
          <p:cNvPr id="12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o address these questions, we discuss our findings from an action research project. Throughout the research process, our role ranged from that of detached observer to fully engaged participant; in this instance our role was to provide specific knowledge to address problems as and when they arose. Throughout the life-span of the project we were viewed by the organization as temporary, part-time members over a given period of time (two years in total) and so we believe we gained an ‘inside view’ (Walsham, 1995) of activities, including access to sensitive information.  Therefore we saw our position as being part of the change process itself.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lthough our presence in the organization was in a problem-solving capacity, it would be naïve to assume that various stakeholders shared a set of unitary problems and equally welcomed our suggestions for improvements to practice.  Our primary responsibility was to IT Manager - to provide guidance to her as opposed to a commitment to the company and its primary goal of increased efficiency and profitability - degrees of overlap her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For the purpose of this analysis we have identified </a:t>
            </a:r>
            <a:r>
              <a:rPr b="1" lang="en-GB" sz="1200" spc="-1" strike="noStrike">
                <a:solidFill>
                  <a:srgbClr val="000000"/>
                </a:solidFill>
                <a:latin typeface="Arial"/>
                <a:ea typeface="Times New Roman"/>
              </a:rPr>
              <a:t>three</a:t>
            </a:r>
            <a:r>
              <a:rPr b="0" lang="en-GB" sz="1200" spc="-1" strike="noStrike">
                <a:solidFill>
                  <a:srgbClr val="000000"/>
                </a:solidFill>
                <a:latin typeface="Arial"/>
                <a:ea typeface="Times New Roman"/>
              </a:rPr>
              <a:t> distinct groups of relevance to this project: those involved in (financially) approving the system implementation (senior managers or sponsors); the core project management team whose role was to persuade both sponsors and end-users of the merits of the new system; and, finally the end-users who would operate the new system. The majority of meetings took place with the core project management team, although on occasion we were asked to make representations at senior management board meeting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s researchers we were keen that the research process should advance in a participative and collaborative manner (whilst also being aware of inherent limitations of participation), whilst simultaneously offering advice on theoretical and methodological issu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B9937-C7A2-4BA7-B2D5-A8D944E0B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A6A0B-5174-4505-8ECC-D52B8E809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B668B-EFEA-45A6-AC81-185349720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1D85E-4DDE-4748-9284-76B908CA8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3C78E-738B-4461-96BE-24519F538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418B7-23CF-4FCD-9B8E-3FB2F0886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26D01-DB73-4FD2-ABEF-D42D64560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7D375-E094-4678-BC8B-0931C58B2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A3C7D-879B-4B65-B3AA-810C78750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A8B0A-6B62-4F56-A9A3-E9AB9F519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D92BF-AE0F-449E-97D2-A2F1507FE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B7564-2C57-448E-92E8-009F2E42FE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3E4B2-1882-49ED-BA57-D6A685E5028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765000"/>
            <a:ext cx="7772400" cy="27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Consultants </a:t>
            </a:r>
            <a:br>
              <a:rPr sz="4400"/>
            </a:br>
            <a:r>
              <a:rPr b="0" lang="en-US" sz="4400" spc="-1" strike="noStrike">
                <a:solidFill>
                  <a:srgbClr val="000000"/>
                </a:solidFill>
                <a:latin typeface="Arial"/>
              </a:rPr>
              <a:t>and </a:t>
            </a:r>
            <a:br>
              <a:rPr sz="4400"/>
            </a:br>
            <a:r>
              <a:rPr b="0" lang="en-US" sz="4400" spc="-1" strike="noStrike">
                <a:solidFill>
                  <a:srgbClr val="000000"/>
                </a:solidFill>
                <a:latin typeface="Arial"/>
              </a:rPr>
              <a:t>Packaged Software Selec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bra Howcroft</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ESC and MB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iversity of Manchester, UK</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bra.howcroft@mbs.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study setting</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wner-managed busi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ed in 1990, three locations, with a turnover of £1.1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ound 20 internal staff and 20 external consulta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D had a strong organizational ‘vis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systems established in an ad-hoc manner, running independently of each oth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lient Tracking Process</a:t>
            </a:r>
            <a:endParaRPr b="0" lang="en-US" sz="4400" spc="-1" strike="noStrike">
              <a:solidFill>
                <a:srgbClr val="000000"/>
              </a:solidFill>
              <a:latin typeface="Arial"/>
            </a:endParaRPr>
          </a:p>
        </p:txBody>
      </p:sp>
      <p:grpSp>
        <p:nvGrpSpPr>
          <p:cNvPr id="81" name=""/>
          <p:cNvGrpSpPr/>
          <p:nvPr/>
        </p:nvGrpSpPr>
        <p:grpSpPr>
          <a:xfrm>
            <a:off x="237960" y="3081240"/>
            <a:ext cx="8666280" cy="1490760"/>
            <a:chOff x="237960" y="3081240"/>
            <a:chExt cx="8666280" cy="1490760"/>
          </a:xfrm>
        </p:grpSpPr>
        <p:sp>
          <p:nvSpPr>
            <p:cNvPr id="82" name=""/>
            <p:cNvSpPr/>
            <p:nvPr/>
          </p:nvSpPr>
          <p:spPr>
            <a:xfrm>
              <a:off x="6465600" y="3233880"/>
              <a:ext cx="2438640" cy="1218960"/>
            </a:xfrm>
            <a:prstGeom prst="roundRect">
              <a:avLst>
                <a:gd name="adj" fmla="val 16667"/>
              </a:avLst>
            </a:prstGeom>
            <a:solidFill>
              <a:srgbClr val="c0c0c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d or Performance Improvement</a:t>
              </a:r>
              <a:endParaRPr b="0" lang="en-US" sz="2000" spc="-1" strike="noStrike">
                <a:solidFill>
                  <a:srgbClr val="000000"/>
                </a:solidFill>
                <a:latin typeface="Arial"/>
              </a:endParaRPr>
            </a:p>
          </p:txBody>
        </p:sp>
        <p:sp>
          <p:nvSpPr>
            <p:cNvPr id="83" name=""/>
            <p:cNvSpPr/>
            <p:nvPr/>
          </p:nvSpPr>
          <p:spPr>
            <a:xfrm>
              <a:off x="237960" y="3081240"/>
              <a:ext cx="1447920" cy="1490760"/>
            </a:xfrm>
            <a:custGeom>
              <a:avLst/>
              <a:gdLst>
                <a:gd name="textAreaLeft" fmla="*/ 70560 w 1447920"/>
                <a:gd name="textAreaRight" fmla="*/ 1377360 w 1447920"/>
                <a:gd name="textAreaTop" fmla="*/ 70560 h 1490760"/>
                <a:gd name="textAreaBottom" fmla="*/ 1420200 h 1490760"/>
              </a:gdLst>
              <a:ahLst/>
              <a:rect l="textAreaLeft" t="textAreaTop" r="textAreaRight" b="textAreaBottom"/>
              <a:pathLst>
                <a:path w="21600" h="22239">
                  <a:moveTo>
                    <a:pt x="3600" y="0"/>
                  </a:moveTo>
                  <a:arcTo wR="3600" hR="3600" stAng="16200000" swAng="-5400000"/>
                  <a:lnTo>
                    <a:pt x="0" y="18639"/>
                  </a:lnTo>
                  <a:arcTo wR="3600" hR="3600" stAng="10800000" swAng="-5400000"/>
                  <a:lnTo>
                    <a:pt x="18000" y="22239"/>
                  </a:lnTo>
                  <a:arcTo wR="3600" hR="3600" stAng="5400000" swAng="-5400000"/>
                  <a:lnTo>
                    <a:pt x="21600" y="3600"/>
                  </a:lnTo>
                  <a:arcTo wR="3600" hR="3600" stAng="0" swAng="-5400000"/>
                  <a:close/>
                </a:path>
              </a:pathLst>
            </a:custGeom>
            <a:solidFill>
              <a:srgbClr val="c0c0c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
            <p:cNvSpPr/>
            <p:nvPr/>
          </p:nvSpPr>
          <p:spPr>
            <a:xfrm>
              <a:off x="2371680" y="3157560"/>
              <a:ext cx="3477960" cy="137160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4163760" y="3500280"/>
              <a:ext cx="1492200" cy="69372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oring</a:t>
              </a:r>
              <a:endParaRPr b="0" lang="en-US" sz="2000" spc="-1" strike="noStrike">
                <a:solidFill>
                  <a:srgbClr val="000000"/>
                </a:solidFill>
                <a:latin typeface="Arial"/>
              </a:endParaRPr>
            </a:p>
          </p:txBody>
        </p:sp>
        <p:sp>
          <p:nvSpPr>
            <p:cNvPr id="86" name=""/>
            <p:cNvSpPr/>
            <p:nvPr/>
          </p:nvSpPr>
          <p:spPr>
            <a:xfrm>
              <a:off x="2565360" y="3500280"/>
              <a:ext cx="1492200" cy="69372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oring</a:t>
              </a:r>
              <a:endParaRPr b="0" lang="en-US" sz="2000" spc="-1" strike="noStrike">
                <a:solidFill>
                  <a:srgbClr val="000000"/>
                </a:solidFill>
                <a:latin typeface="Arial"/>
              </a:endParaRPr>
            </a:p>
          </p:txBody>
        </p:sp>
        <p:sp>
          <p:nvSpPr>
            <p:cNvPr id="87" name=""/>
            <p:cNvSpPr/>
            <p:nvPr/>
          </p:nvSpPr>
          <p:spPr>
            <a:xfrm flipH="1" flipV="1">
              <a:off x="3847320" y="3940920"/>
              <a:ext cx="525240" cy="489240"/>
            </a:xfrm>
            <a:custGeom>
              <a:avLst/>
              <a:gdLst>
                <a:gd name="textAreaLeft" fmla="*/ -360 w 525240"/>
                <a:gd name="textAreaRight" fmla="*/ 525240 w 525240"/>
                <a:gd name="textAreaTop" fmla="*/ 0 h 489240"/>
                <a:gd name="textAreaBottom" fmla="*/ 489240 h 489240"/>
              </a:gdLst>
              <a:ahLst/>
              <a:rect l="textAreaLeft" t="textAreaTop" r="textAreaRight" b="textAreaBottom"/>
              <a:pathLst>
                <a:path w="21600" h="21600">
                  <a:moveTo>
                    <a:pt x="3712" y="10800"/>
                  </a:moveTo>
                  <a:arcTo wR="-7088" hR="-7088" stAng="-10800000" swAng="-10991810"/>
                  <a:lnTo>
                    <a:pt x="17" y="11402"/>
                  </a:lnTo>
                  <a:arcTo wR="10800" hR="10800" stAng="10608190" swAng="10991810"/>
                  <a:lnTo>
                    <a:pt x="24300" y="10800"/>
                  </a:lnTo>
                  <a:lnTo>
                    <a:pt x="19744" y="15356"/>
                  </a:lnTo>
                  <a:lnTo>
                    <a:pt x="15188" y="10800"/>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848040" y="3255840"/>
              <a:ext cx="525240" cy="489240"/>
            </a:xfrm>
            <a:custGeom>
              <a:avLst/>
              <a:gdLst>
                <a:gd name="textAreaLeft" fmla="*/ 0 w 525240"/>
                <a:gd name="textAreaRight" fmla="*/ 525600 w 525240"/>
                <a:gd name="textAreaTop" fmla="*/ 0 h 489240"/>
                <a:gd name="textAreaBottom" fmla="*/ 489240 h 489240"/>
              </a:gdLst>
              <a:ahLst/>
              <a:rect l="textAreaLeft" t="textAreaTop" r="textAreaRight" b="textAreaBottom"/>
              <a:pathLst>
                <a:path w="21600" h="21600">
                  <a:moveTo>
                    <a:pt x="3712" y="10800"/>
                  </a:moveTo>
                  <a:arcTo wR="-7088" hR="-7088" stAng="-10800000" swAng="-10991810"/>
                  <a:lnTo>
                    <a:pt x="17" y="11402"/>
                  </a:lnTo>
                  <a:arcTo wR="10800" hR="10800" stAng="10608190" swAng="10991810"/>
                  <a:lnTo>
                    <a:pt x="24300" y="10800"/>
                  </a:lnTo>
                  <a:lnTo>
                    <a:pt x="19744" y="15356"/>
                  </a:lnTo>
                  <a:lnTo>
                    <a:pt x="15188" y="10800"/>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89" name=""/>
            <p:cNvCxnSpPr>
              <a:stCxn id="84" idx="3"/>
              <a:endCxn id="82" idx="1"/>
            </p:cNvCxnSpPr>
            <p:nvPr/>
          </p:nvCxnSpPr>
          <p:spPr>
            <a:xfrm>
              <a:off x="5849280" y="3843000"/>
              <a:ext cx="616680" cy="1080"/>
            </a:xfrm>
            <a:prstGeom prst="straightConnector1">
              <a:avLst/>
            </a:prstGeom>
            <a:ln w="76320">
              <a:solidFill>
                <a:srgbClr val="000000"/>
              </a:solidFill>
              <a:miter/>
              <a:tailEnd len="med" type="triangle" w="med"/>
            </a:ln>
          </p:spPr>
        </p:cxnSp>
        <p:sp>
          <p:nvSpPr>
            <p:cNvPr id="90" name=""/>
            <p:cNvSpPr/>
            <p:nvPr/>
          </p:nvSpPr>
          <p:spPr>
            <a:xfrm>
              <a:off x="1685880" y="3919680"/>
              <a:ext cx="685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 name=""/>
          <p:cNvSpPr/>
          <p:nvPr/>
        </p:nvSpPr>
        <p:spPr>
          <a:xfrm>
            <a:off x="977040" y="2060640"/>
            <a:ext cx="725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earch Department and External Consult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thering Requirements</a:t>
            </a:r>
            <a:endParaRPr b="0" lang="en-US" sz="4400" spc="-1" strike="noStrike">
              <a:solidFill>
                <a:srgbClr val="000000"/>
              </a:solidFill>
              <a:latin typeface="Arial"/>
            </a:endParaRPr>
          </a:p>
        </p:txBody>
      </p:sp>
      <p:sp>
        <p:nvSpPr>
          <p:cNvPr id="93" name="PlaceHolder 2"/>
          <p:cNvSpPr>
            <a:spLocks noGrp="1"/>
          </p:cNvSpPr>
          <p:nvPr>
            <p:ph/>
          </p:nvPr>
        </p:nvSpPr>
        <p:spPr>
          <a:xfrm>
            <a:off x="456840" y="1600200"/>
            <a:ext cx="7931160" cy="2549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dvised of the importance of discussing requirements with us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cus day was plann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ation hoped to appeal to senior management</a:t>
            </a:r>
            <a:endParaRPr b="0" lang="en-US" sz="3200" spc="-1" strike="noStrike">
              <a:solidFill>
                <a:srgbClr val="000000"/>
              </a:solidFill>
              <a:latin typeface="Arial"/>
            </a:endParaRPr>
          </a:p>
        </p:txBody>
      </p:sp>
      <p:sp>
        <p:nvSpPr>
          <p:cNvPr id="94" name=""/>
          <p:cNvSpPr/>
          <p:nvPr/>
        </p:nvSpPr>
        <p:spPr>
          <a:xfrm>
            <a:off x="380880" y="4508640"/>
            <a:ext cx="8318520" cy="1800360"/>
          </a:xfrm>
          <a:prstGeom prst="rect">
            <a:avLst/>
          </a:prstGeom>
          <a:noFill/>
          <a:ln w="57240">
            <a:solidFill>
              <a:srgbClr val="808080"/>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t>
            </a:r>
            <a:r>
              <a:rPr b="1" i="1" lang="en-US" sz="2800" spc="-1" strike="noStrike">
                <a:solidFill>
                  <a:srgbClr val="000000"/>
                </a:solidFill>
                <a:latin typeface="Arial"/>
              </a:rPr>
              <a:t>to provide a business class service and grow effectively in the future whilst maintaining efficiency in all areas” </a:t>
            </a:r>
            <a:br>
              <a:rPr sz="2800"/>
            </a:br>
            <a:r>
              <a:rPr b="1" i="1" lang="en-US" sz="2800" spc="-1" strike="noStrike">
                <a:solidFill>
                  <a:srgbClr val="000000"/>
                </a:solidFill>
                <a:latin typeface="Arial"/>
              </a:rPr>
              <a:t>(Board of Directors Docu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duct Search</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team made use of marketing literature, internet, commercial product guides etc. to short-list produ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gotiations set up with three CRM vendo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arty A: Sieb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Vendor B: Sa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arty C and D: Goldm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eauty Parade’</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y C’s ‘standard’ product</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oldmine isn’t for us’</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ed exploration of custom development</a:t>
            </a:r>
            <a:endParaRPr b="0" lang="en-US" sz="28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y D’s ‘personalised’ product</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dor primed by project team</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ginally more expensive than Party C</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Product</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 Doubled</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pe exten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ementation Process</a:t>
            </a:r>
            <a:endParaRPr b="0" lang="en-US" sz="4400" spc="-1" strike="noStrike">
              <a:solidFill>
                <a:srgbClr val="000000"/>
              </a:solidFill>
              <a:latin typeface="Arial"/>
            </a:endParaRPr>
          </a:p>
        </p:txBody>
      </p:sp>
      <p:sp>
        <p:nvSpPr>
          <p:cNvPr id="100" name="PlaceHolder 2"/>
          <p:cNvSpPr>
            <a:spLocks noGrp="1"/>
          </p:cNvSpPr>
          <p:nvPr>
            <p:ph/>
          </p:nvPr>
        </p:nvSpPr>
        <p:spPr>
          <a:xfrm>
            <a:off x="457200" y="1599840"/>
            <a:ext cx="8229600" cy="259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ckage roll out order changed significant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flow day planned with end-us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ing off the workflow document</a:t>
            </a:r>
            <a:endParaRPr b="0" lang="en-US" sz="3200" spc="-1" strike="noStrike">
              <a:solidFill>
                <a:srgbClr val="000000"/>
              </a:solidFill>
              <a:latin typeface="Arial"/>
            </a:endParaRPr>
          </a:p>
        </p:txBody>
      </p:sp>
      <p:sp>
        <p:nvSpPr>
          <p:cNvPr id="101" name=""/>
          <p:cNvSpPr/>
          <p:nvPr/>
        </p:nvSpPr>
        <p:spPr>
          <a:xfrm>
            <a:off x="324000" y="4437000"/>
            <a:ext cx="8534160" cy="1373760"/>
          </a:xfrm>
          <a:prstGeom prst="rect">
            <a:avLst/>
          </a:prstGeom>
          <a:noFill/>
          <a:ln w="57240">
            <a:solidFill>
              <a:srgbClr val="808080"/>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t>
            </a:r>
            <a:r>
              <a:rPr b="1" i="1" lang="en-US" sz="2800" spc="-1" strike="noStrike">
                <a:solidFill>
                  <a:srgbClr val="000000"/>
                </a:solidFill>
                <a:latin typeface="Arial"/>
              </a:rPr>
              <a:t>This isn’t over, I expect the workflow document to be double the size it is now – you just see.”</a:t>
            </a:r>
            <a:br>
              <a:rPr sz="2800"/>
            </a:br>
            <a:r>
              <a:rPr b="1" i="1" lang="en-US" sz="2800" spc="-1" strike="noStrike">
                <a:solidFill>
                  <a:srgbClr val="000000"/>
                </a:solidFill>
                <a:latin typeface="Arial"/>
              </a:rPr>
              <a:t>(Interview with IT Manag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S and the technical exercise of power</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ciotechnical boundary is flu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guably, Goldmine is already fixed to a certain degr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consultants position themselves as knowledgeable experts and define the sociotechnical boundary according to their audi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S and the structural exercise of power</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ointment of the IT Manager initiated a process of ‘IS professionalisation’ which saw the development of a number of polic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nked to the desire to provide greater control over the forthcoming projec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ternally, there are guidelines that govern how packages should be adop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licies on new product releases, patches, and upgrades are also determined by vendor organiz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S and the conceptual exercise of power</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the market level, packaged software products are sold on the basis of realising an ‘ide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stem objectives were decided by the senior management tea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d profitability and enhanced market shar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undaries shift over time to fit the changing needs of senior managem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consultants do not so much target themselves at a particular niche as seek to create a niche and persuade clients that they are within it’  (Bloomfield and Danieli, 1995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S and the symbolic exercise of power</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yths or fictional narratives of PS become increasingly pervasive as the benefits are evangelis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 progre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RM package would contribute towards enhancing productivity and profitability via standardisation of activ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wer of the Board of Directors is evident in the process of persuasion and enrolment surrounding the securing of the financial resources for the projec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timizing devices of language, myth, ceremony, and rituals are all eviden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 Focu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of selection and procurement of a software package within a small organ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es the case in the context of Markus and Bjorn-Anderson’s (1987) framework of pow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ategories of power should not be viewed separately, but are interwov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mp;BA Framework has resonance in a packaged software environ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ing market-orientation (Sawyer, 2001) has meant that power issues are operationalised both within the organization and in the marketplace, thus influencing the role of various parti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consultants play a primary role as third-party implementers, liaising between vendors and the adopting organiz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professionals are expected to negotiate a range of financial and contractual issues with IT consulta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d-users involved in operational issues have minimal participation and influ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croft D and Light B (2002) A study of user involvement in packaged software selection, </a:t>
            </a:r>
            <a:r>
              <a:rPr b="0" i="1" lang="en-GB" sz="2800" spc="-1" strike="noStrike">
                <a:solidFill>
                  <a:srgbClr val="000000"/>
                </a:solidFill>
                <a:latin typeface="Arial"/>
              </a:rPr>
              <a:t>Proceedings of the 23rd International Conference on Information Systems,</a:t>
            </a:r>
            <a:r>
              <a:rPr b="0" lang="en-GB" sz="2800" spc="-1" strike="noStrike">
                <a:solidFill>
                  <a:srgbClr val="000000"/>
                </a:solidFill>
                <a:latin typeface="Arial"/>
              </a:rPr>
              <a:t> (eds. Applegate, L, Galliers R D and DeGross J I), 69-77.</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croft D and Light B (2006) Reflections on issues of power in packaged software selection, </a:t>
            </a:r>
            <a:r>
              <a:rPr b="0" i="1" lang="en-GB" sz="2800" spc="-1" strike="noStrike">
                <a:solidFill>
                  <a:srgbClr val="000000"/>
                </a:solidFill>
                <a:latin typeface="Arial"/>
              </a:rPr>
              <a:t>Information Systems Journal</a:t>
            </a:r>
            <a:r>
              <a:rPr b="0" lang="en-GB" sz="2800" spc="-1" strike="noStrike">
                <a:solidFill>
                  <a:srgbClr val="000000"/>
                </a:solidFill>
                <a:latin typeface="Arial"/>
              </a:rPr>
              <a:t>,16, 215-235.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ckaged softwar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numbers of organizations shifting from custom to packaged soft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d as an ‘IT solution’ with a track record of suc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s complex systems in short time-fr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ackage paradox’ (Williams,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oriented developmen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Focus is on developing and ‘shipping’ a generic produc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Standardisation is pre-requisite for commodification (Fan et al. 2000)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velopers (rather than users) needs are centra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IT consultants role is crucial as they position themselves between IT vendors and the clien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cribed assumption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ckaged software is </a:t>
            </a:r>
            <a:r>
              <a:rPr b="0" lang="en-GB" sz="3200" spc="-1" strike="noStrike">
                <a:solidFill>
                  <a:srgbClr val="000000"/>
                </a:solidFill>
                <a:latin typeface="Arial"/>
                <a:ea typeface="Times New Roman"/>
              </a:rPr>
              <a:t>itself embedded or inscribed with assumptions, values and opinion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a:t>
            </a:r>
            <a:r>
              <a:rPr b="0" lang="en-GB" sz="2800" spc="-1" strike="noStrike">
                <a:solidFill>
                  <a:srgbClr val="000000"/>
                </a:solidFill>
                <a:latin typeface="Arial"/>
                <a:ea typeface="Times New Roman"/>
              </a:rPr>
              <a:t>frozen organizational discourse’ (Bowker and Star, 1994)</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Software embodies scripts of particular behaviours (Akrich, 1992)</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Organization may need to change itself or the packa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11280" y="2852640"/>
            <a:ext cx="1746000" cy="1698840"/>
          </a:xfrm>
          <a:prstGeom prst="rect">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492360" y="2852640"/>
            <a:ext cx="1746360" cy="1698840"/>
          </a:xfrm>
          <a:prstGeom prst="rect">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443640" y="2852640"/>
            <a:ext cx="1746360" cy="1698840"/>
          </a:xfrm>
          <a:prstGeom prst="rect">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uidelines on selection and procurement</a:t>
            </a:r>
            <a:endParaRPr b="0" lang="en-US" sz="4000" spc="-1" strike="noStrike">
              <a:solidFill>
                <a:srgbClr val="000000"/>
              </a:solidFill>
              <a:latin typeface="Arial"/>
            </a:endParaRPr>
          </a:p>
        </p:txBody>
      </p:sp>
      <p:sp>
        <p:nvSpPr>
          <p:cNvPr id="62" name=""/>
          <p:cNvSpPr/>
          <p:nvPr/>
        </p:nvSpPr>
        <p:spPr>
          <a:xfrm>
            <a:off x="682920" y="3200400"/>
            <a:ext cx="1587240" cy="915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s</a:t>
            </a:r>
            <a:endParaRPr b="0" lang="en-US" sz="2000" spc="-1" strike="noStrike">
              <a:solidFill>
                <a:srgbClr val="000000"/>
              </a:solidFill>
              <a:latin typeface="Arial"/>
            </a:endParaRPr>
          </a:p>
        </p:txBody>
      </p:sp>
      <p:sp>
        <p:nvSpPr>
          <p:cNvPr id="63" name=""/>
          <p:cNvSpPr/>
          <p:nvPr/>
        </p:nvSpPr>
        <p:spPr>
          <a:xfrm>
            <a:off x="3707640" y="3213000"/>
            <a:ext cx="1189440" cy="915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age</a:t>
            </a:r>
            <a:r>
              <a:rPr b="0" lang="en-US" sz="1100" spc="-1" strike="noStrike">
                <a:solidFill>
                  <a:srgbClr val="000000"/>
                </a:solidFill>
                <a:latin typeface="Times New Roman"/>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
          <p:cNvSpPr/>
          <p:nvPr/>
        </p:nvSpPr>
        <p:spPr>
          <a:xfrm>
            <a:off x="6443640" y="3213000"/>
            <a:ext cx="1676520" cy="915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selection an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 </a:t>
            </a:r>
            <a:endParaRPr b="0" lang="en-US" sz="2000" spc="-1" strike="noStrike">
              <a:solidFill>
                <a:srgbClr val="000000"/>
              </a:solidFill>
              <a:latin typeface="Arial"/>
            </a:endParaRPr>
          </a:p>
        </p:txBody>
      </p:sp>
      <p:grpSp>
        <p:nvGrpSpPr>
          <p:cNvPr id="65" name=""/>
          <p:cNvGrpSpPr/>
          <p:nvPr/>
        </p:nvGrpSpPr>
        <p:grpSpPr>
          <a:xfrm>
            <a:off x="5257800" y="3500280"/>
            <a:ext cx="1257840" cy="285480"/>
            <a:chOff x="5257800" y="3500280"/>
            <a:chExt cx="1257840" cy="285480"/>
          </a:xfrm>
        </p:grpSpPr>
        <p:sp>
          <p:nvSpPr>
            <p:cNvPr id="66" name=""/>
            <p:cNvSpPr/>
            <p:nvPr/>
          </p:nvSpPr>
          <p:spPr>
            <a:xfrm>
              <a:off x="5283360" y="3521160"/>
              <a:ext cx="1200600" cy="242280"/>
            </a:xfrm>
            <a:custGeom>
              <a:avLst/>
              <a:gdLst/>
              <a:ahLst/>
              <a:rect l="l" t="t" r="r" b="b"/>
              <a:pathLst>
                <a:path w="383" h="300">
                  <a:moveTo>
                    <a:pt x="288" y="0"/>
                  </a:moveTo>
                  <a:lnTo>
                    <a:pt x="288" y="74"/>
                  </a:lnTo>
                  <a:lnTo>
                    <a:pt x="0" y="74"/>
                  </a:lnTo>
                  <a:lnTo>
                    <a:pt x="0" y="225"/>
                  </a:lnTo>
                  <a:lnTo>
                    <a:pt x="288" y="225"/>
                  </a:lnTo>
                  <a:lnTo>
                    <a:pt x="288" y="300"/>
                  </a:lnTo>
                  <a:lnTo>
                    <a:pt x="383" y="149"/>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257800" y="3500280"/>
              <a:ext cx="1257840" cy="285480"/>
            </a:xfrm>
            <a:custGeom>
              <a:avLst/>
              <a:gdLst/>
              <a:ahLst/>
              <a:rect l="l" t="t" r="r" b="b"/>
              <a:pathLst>
                <a:path w="399" h="354">
                  <a:moveTo>
                    <a:pt x="287" y="101"/>
                  </a:moveTo>
                  <a:lnTo>
                    <a:pt x="295" y="101"/>
                  </a:lnTo>
                  <a:lnTo>
                    <a:pt x="295" y="94"/>
                  </a:lnTo>
                  <a:lnTo>
                    <a:pt x="7" y="94"/>
                  </a:lnTo>
                  <a:lnTo>
                    <a:pt x="0" y="94"/>
                  </a:lnTo>
                  <a:lnTo>
                    <a:pt x="0" y="101"/>
                  </a:lnTo>
                  <a:lnTo>
                    <a:pt x="0" y="252"/>
                  </a:lnTo>
                  <a:lnTo>
                    <a:pt x="0" y="259"/>
                  </a:lnTo>
                  <a:lnTo>
                    <a:pt x="7" y="261"/>
                  </a:lnTo>
                  <a:lnTo>
                    <a:pt x="295" y="261"/>
                  </a:lnTo>
                  <a:lnTo>
                    <a:pt x="295" y="252"/>
                  </a:lnTo>
                  <a:lnTo>
                    <a:pt x="287" y="252"/>
                  </a:lnTo>
                  <a:lnTo>
                    <a:pt x="287" y="327"/>
                  </a:lnTo>
                  <a:lnTo>
                    <a:pt x="287" y="354"/>
                  </a:lnTo>
                  <a:lnTo>
                    <a:pt x="302" y="333"/>
                  </a:lnTo>
                  <a:lnTo>
                    <a:pt x="398" y="182"/>
                  </a:lnTo>
                  <a:lnTo>
                    <a:pt x="399" y="176"/>
                  </a:lnTo>
                  <a:lnTo>
                    <a:pt x="398" y="173"/>
                  </a:lnTo>
                  <a:lnTo>
                    <a:pt x="302" y="24"/>
                  </a:lnTo>
                  <a:lnTo>
                    <a:pt x="287" y="0"/>
                  </a:lnTo>
                  <a:lnTo>
                    <a:pt x="287" y="27"/>
                  </a:lnTo>
                  <a:lnTo>
                    <a:pt x="287" y="101"/>
                  </a:lnTo>
                  <a:close/>
                  <a:moveTo>
                    <a:pt x="303" y="27"/>
                  </a:moveTo>
                  <a:lnTo>
                    <a:pt x="295" y="27"/>
                  </a:lnTo>
                  <a:lnTo>
                    <a:pt x="289" y="33"/>
                  </a:lnTo>
                  <a:lnTo>
                    <a:pt x="385" y="182"/>
                  </a:lnTo>
                  <a:lnTo>
                    <a:pt x="390" y="176"/>
                  </a:lnTo>
                  <a:lnTo>
                    <a:pt x="385" y="173"/>
                  </a:lnTo>
                  <a:lnTo>
                    <a:pt x="289" y="324"/>
                  </a:lnTo>
                  <a:lnTo>
                    <a:pt x="295" y="327"/>
                  </a:lnTo>
                  <a:lnTo>
                    <a:pt x="303" y="327"/>
                  </a:lnTo>
                  <a:lnTo>
                    <a:pt x="303" y="252"/>
                  </a:lnTo>
                  <a:lnTo>
                    <a:pt x="303" y="245"/>
                  </a:lnTo>
                  <a:lnTo>
                    <a:pt x="295" y="245"/>
                  </a:lnTo>
                  <a:lnTo>
                    <a:pt x="7" y="245"/>
                  </a:lnTo>
                  <a:lnTo>
                    <a:pt x="7" y="252"/>
                  </a:lnTo>
                  <a:lnTo>
                    <a:pt x="16" y="252"/>
                  </a:lnTo>
                  <a:lnTo>
                    <a:pt x="16" y="101"/>
                  </a:lnTo>
                  <a:lnTo>
                    <a:pt x="7" y="101"/>
                  </a:lnTo>
                  <a:lnTo>
                    <a:pt x="7" y="110"/>
                  </a:lnTo>
                  <a:lnTo>
                    <a:pt x="295" y="110"/>
                  </a:lnTo>
                  <a:lnTo>
                    <a:pt x="303" y="110"/>
                  </a:lnTo>
                  <a:lnTo>
                    <a:pt x="303" y="101"/>
                  </a:lnTo>
                  <a:lnTo>
                    <a:pt x="303"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 name=""/>
          <p:cNvGrpSpPr/>
          <p:nvPr/>
        </p:nvGrpSpPr>
        <p:grpSpPr>
          <a:xfrm>
            <a:off x="2362320" y="3505320"/>
            <a:ext cx="1217880" cy="280800"/>
            <a:chOff x="2362320" y="3505320"/>
            <a:chExt cx="1217880" cy="280800"/>
          </a:xfrm>
        </p:grpSpPr>
        <p:sp>
          <p:nvSpPr>
            <p:cNvPr id="69" name=""/>
            <p:cNvSpPr/>
            <p:nvPr/>
          </p:nvSpPr>
          <p:spPr>
            <a:xfrm>
              <a:off x="2387160" y="3525840"/>
              <a:ext cx="1162440" cy="238320"/>
            </a:xfrm>
            <a:custGeom>
              <a:avLst/>
              <a:gdLst/>
              <a:ahLst/>
              <a:rect l="l" t="t" r="r" b="b"/>
              <a:pathLst>
                <a:path w="383" h="300">
                  <a:moveTo>
                    <a:pt x="288" y="0"/>
                  </a:moveTo>
                  <a:lnTo>
                    <a:pt x="288" y="74"/>
                  </a:lnTo>
                  <a:lnTo>
                    <a:pt x="0" y="74"/>
                  </a:lnTo>
                  <a:lnTo>
                    <a:pt x="0" y="225"/>
                  </a:lnTo>
                  <a:lnTo>
                    <a:pt x="288" y="225"/>
                  </a:lnTo>
                  <a:lnTo>
                    <a:pt x="288" y="300"/>
                  </a:lnTo>
                  <a:lnTo>
                    <a:pt x="383" y="149"/>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362320" y="3505320"/>
              <a:ext cx="1217880" cy="280800"/>
            </a:xfrm>
            <a:custGeom>
              <a:avLst/>
              <a:gdLst/>
              <a:ahLst/>
              <a:rect l="l" t="t" r="r" b="b"/>
              <a:pathLst>
                <a:path w="399" h="354">
                  <a:moveTo>
                    <a:pt x="287" y="101"/>
                  </a:moveTo>
                  <a:lnTo>
                    <a:pt x="295" y="101"/>
                  </a:lnTo>
                  <a:lnTo>
                    <a:pt x="295" y="94"/>
                  </a:lnTo>
                  <a:lnTo>
                    <a:pt x="7" y="94"/>
                  </a:lnTo>
                  <a:lnTo>
                    <a:pt x="0" y="94"/>
                  </a:lnTo>
                  <a:lnTo>
                    <a:pt x="0" y="101"/>
                  </a:lnTo>
                  <a:lnTo>
                    <a:pt x="0" y="252"/>
                  </a:lnTo>
                  <a:lnTo>
                    <a:pt x="0" y="259"/>
                  </a:lnTo>
                  <a:lnTo>
                    <a:pt x="7" y="261"/>
                  </a:lnTo>
                  <a:lnTo>
                    <a:pt x="295" y="261"/>
                  </a:lnTo>
                  <a:lnTo>
                    <a:pt x="295" y="252"/>
                  </a:lnTo>
                  <a:lnTo>
                    <a:pt x="287" y="252"/>
                  </a:lnTo>
                  <a:lnTo>
                    <a:pt x="287" y="327"/>
                  </a:lnTo>
                  <a:lnTo>
                    <a:pt x="287" y="354"/>
                  </a:lnTo>
                  <a:lnTo>
                    <a:pt x="302" y="333"/>
                  </a:lnTo>
                  <a:lnTo>
                    <a:pt x="398" y="182"/>
                  </a:lnTo>
                  <a:lnTo>
                    <a:pt x="399" y="176"/>
                  </a:lnTo>
                  <a:lnTo>
                    <a:pt x="398" y="173"/>
                  </a:lnTo>
                  <a:lnTo>
                    <a:pt x="302" y="24"/>
                  </a:lnTo>
                  <a:lnTo>
                    <a:pt x="287" y="0"/>
                  </a:lnTo>
                  <a:lnTo>
                    <a:pt x="287" y="27"/>
                  </a:lnTo>
                  <a:lnTo>
                    <a:pt x="287" y="101"/>
                  </a:lnTo>
                  <a:close/>
                  <a:moveTo>
                    <a:pt x="303" y="27"/>
                  </a:moveTo>
                  <a:lnTo>
                    <a:pt x="295" y="27"/>
                  </a:lnTo>
                  <a:lnTo>
                    <a:pt x="289" y="33"/>
                  </a:lnTo>
                  <a:lnTo>
                    <a:pt x="385" y="182"/>
                  </a:lnTo>
                  <a:lnTo>
                    <a:pt x="390" y="176"/>
                  </a:lnTo>
                  <a:lnTo>
                    <a:pt x="385" y="173"/>
                  </a:lnTo>
                  <a:lnTo>
                    <a:pt x="289" y="324"/>
                  </a:lnTo>
                  <a:lnTo>
                    <a:pt x="295" y="327"/>
                  </a:lnTo>
                  <a:lnTo>
                    <a:pt x="303" y="327"/>
                  </a:lnTo>
                  <a:lnTo>
                    <a:pt x="303" y="252"/>
                  </a:lnTo>
                  <a:lnTo>
                    <a:pt x="303" y="245"/>
                  </a:lnTo>
                  <a:lnTo>
                    <a:pt x="295" y="245"/>
                  </a:lnTo>
                  <a:lnTo>
                    <a:pt x="7" y="245"/>
                  </a:lnTo>
                  <a:lnTo>
                    <a:pt x="7" y="252"/>
                  </a:lnTo>
                  <a:lnTo>
                    <a:pt x="16" y="252"/>
                  </a:lnTo>
                  <a:lnTo>
                    <a:pt x="16" y="101"/>
                  </a:lnTo>
                  <a:lnTo>
                    <a:pt x="7" y="101"/>
                  </a:lnTo>
                  <a:lnTo>
                    <a:pt x="7" y="110"/>
                  </a:lnTo>
                  <a:lnTo>
                    <a:pt x="295" y="110"/>
                  </a:lnTo>
                  <a:lnTo>
                    <a:pt x="303" y="110"/>
                  </a:lnTo>
                  <a:lnTo>
                    <a:pt x="303" y="101"/>
                  </a:lnTo>
                  <a:lnTo>
                    <a:pt x="303"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 name=""/>
          <p:cNvSpPr/>
          <p:nvPr/>
        </p:nvSpPr>
        <p:spPr>
          <a:xfrm>
            <a:off x="250920" y="5229360"/>
            <a:ext cx="8893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ynch, 1987; Sharland, 1991; Bansler and Havn, 1994; Chau, 1995; Stefanou, 2001)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tin and McClure, 1983; Nelson et al., 1996; KPMG, 1998)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wer framework</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kus and Bjorn-Anderson drawn on Lukes (1974) three-dimensional view of pow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siders covert pow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eks to problematize consensu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framework is applied to custom systems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wer framework</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exercise of pow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professionals select design features that users object t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al exercise of pow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professionals create organizational structures and routines that give them formal authorit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ual exercise of pow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professionals define the parameters of desig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olic exercise of pow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professionals shape users desires and val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 Method</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researc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ur role as researchers’ ranged from that of detached observer to fully engaged particip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ur primary responsibility was to the IT Manag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ultiple techniques of data coll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09:23:22Z</dcterms:created>
  <dc:creator>MBS</dc:creator>
  <dc:description/>
  <dc:language>en-US</dc:language>
  <cp:lastModifiedBy>turer</cp:lastModifiedBy>
  <dcterms:modified xsi:type="dcterms:W3CDTF">2007-11-19T09:59:14Z</dcterms:modified>
  <cp:revision>28</cp:revision>
  <dc:subject/>
  <dc:title>Reflections on issues of power in packaged software selection</dc:title>
</cp:coreProperties>
</file>