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4A9-A7AE-40CA-97B6-08A84FC0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78E-65B3-434B-AB57-FBABA5C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61A-7832-4FC2-8C66-639B3A62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9B3-C25C-4620-BD0B-A457AD89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263-B0A3-4434-9C7E-EB954A4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7A6-0CA1-4B5F-9939-91B6B7A8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6D9-CE49-4933-A1AE-8A5570B0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C58-EB2C-4F5E-BABD-D2D428C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F99-FE72-486F-891E-F4939A7D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266-BD6B-4227-A445-DF6B462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5D6-DB13-43C0-ADF0-3192FE2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D19-2941-420A-A993-0FC5D304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0D71-D9DE-49A9-8A9E-E4E53F54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f3@stir.ac.uk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ole of ‘sector knowledge’ in client-consultant relationships: comparative case studies</a:t>
            </a: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obin Fincham,* Timothy Clark, Karen Handley and Andrew Sturd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op on Innovative Capabilities and the Role of Consultants in the Information Economy, Mannheim, 19-20 November 20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Management, Stirling University, Stirling FK9 4LA, UK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rf3@stir.ac.u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 of the consultant as the ‘outside expert’ is expressed in terms of consultants as sector specialists in possess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eal to the client is (partly) constructed out of knowledge accumulated via repeated assignments in the industry where the client organization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‘the sector’ is a complex knowledge formation in its own right – a distinct institution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hemes explored through 4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 knowledg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 knowledge enables consultant to frame client problems and claim spe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in consulting firms as collective knowledg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 knowledge base learned from interaction with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knowledge may be seen as a structuring of that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ctor is a specific objective/subjective construct in the minds of managers and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But the ‘simple model’ of consultant as outside expert bringing knowledge in needs more nu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recipes only a guide in decision making not 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of knowledge and differences between sector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insiders also have outside knowledge – they are citizens of the sector too – so there is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 sector knowledge is an object-under-construction rather than being brought to the client by a privileged outs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ilding society – a regional society in the North of England. An IT package that was replacing their whole computing platform was being purchased from a softwar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l authority – a large London council in which an improved procurement model for buying in agency staff was being  developed by a Big 4/IT consulting firm. Part of e-government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national – client was the strategic planning unit and the consultant a top strategy firm. The early ‘creative’ stages of planning cycle for investment/di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son – a small niche consulting firm with public sector experience (health) but no prisons experience. Engaged in a bid for future investment that was part of government-driven performance review. A ‘failing’ prison and the review bid was cru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ect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uilding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unique and coherent ‘peer group’ typ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al firms that were actually collabo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managers had extensive informal and personal relationships with sector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knowledge constantly being ex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consultants – one effectively a sector specialist (a ‘client manager’ common in IT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cal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and consultant both had extensive public sector contact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s to sector players more formalised than in the building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certainty of sector knowledge in the search for a model of 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ulti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s experienced mainly with client rather than sector as a whole (but ‘mncs are the market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e of sector knowledge more ambivalent and med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dependency most apparent in this case – client power displaces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sector contacts/experiences discussed – sector know-how incorporated in solutions (soci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 required to be the ‘outsider’ rather than have specific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ing case of (apparently) absent sector knowledge on consultanc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d the expected problems – initial period of the project difficulty and almost ‘fail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eventual success – client learned the project management approach and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explain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ector’ was actually partly prisons and partly wider public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 audience for the review bid was cent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idence of ‘functional’ and positive aspects where sector knowledge was instrumental in decision making. Served an integrative function, supplied a common language (cf. systemic theor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ely where sector knowledge was absent (the prison) it caused integration problems, even if over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ere limits to sector knowledge – consultants in some instances stressed they had to focus in the final analysis on client problems and internal recipes. In 3 cases an ‘internal focus’ seemed to pre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or knowledge had a strong legitimizing/political role. The social capital that gave people status in decision making processes (the stake in the game). People who had sector know-how in abundance were central, those who lacked it were peripheral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57:25Z</dcterms:created>
  <dc:creator>Robin Fincham</dc:creator>
  <dc:description/>
  <dc:language>en-US</dc:language>
  <cp:lastModifiedBy>Robin Fincham</cp:lastModifiedBy>
  <dcterms:modified xsi:type="dcterms:W3CDTF">2007-11-15T12:40:55Z</dcterms:modified>
  <cp:revision>5</cp:revision>
  <dc:subject/>
  <dc:title>The role of ‘sector knowledge’ in client-consultant relationships: comparative case studies  Robin Fincham,* Timothy Clark, Karen Handley and Andrew Sturdy </dc:title>
</cp:coreProperties>
</file>