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2419-8981-40BB-84A0-171132AD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64E3-6C8C-4005-8587-3F474B69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A053-BE59-402D-90C1-B4B37397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D5F-3B00-4FC7-86B7-1136BE74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3AC-735D-45FF-978E-9B8AAB01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17B-2263-4B91-A172-54FA4482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4524-74F7-4091-BC35-5BC6D628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0EB-BB01-405B-B5FA-50F05410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B7E9-9ADB-4EED-BF50-B5EA9890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546A-D963-4A10-9CF1-27803738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0D1F-8027-4C15-AA5D-B5EF3485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408-C0B1-4D7C-B6FA-C244297C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92AE-8882-4F74-800A-BEABD5FFE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f3@stir.ac.uk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role of ‘sector knowledge’ in client-consultant relationships: comparative case studies</a:t>
            </a:r>
            <a:br>
              <a:rPr sz="2400"/>
            </a:br>
            <a:br>
              <a:rPr sz="2400"/>
            </a:b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obin Fincham,* Timothy Clark, Karen Handley and Andrew Sturd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op on Innovative Capabilities and the Role of Consultants in the Information Economy, Mannheim, 19-20 November 2007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artment of Management, Stirling University, Stirling FK9 4LA, UK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_x000b_rf3@stir.ac.uk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age of the consultant as the ‘outside expert’ is expressed in terms of consultants as sector specialists in possess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tor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eal to the client is (partly) constructed out of knowledge accumulated via repeated assignments in the industry where the client organization re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‘the sector’ is a complex knowledge formation in its own right – a distinct institutional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hemes explored through 4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ultant knowledge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or knowle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or knowledge enables consultant to frame client problems and claim speci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in consulting firms as collective knowledge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ultant knowledge base learned from interaction with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tor knowledge may be seen as a structuring of that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ctor is a specific objective/subjective construct in the minds of managers and consul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But the ‘simple model’ of consultant as outside expert bringing knowledge in needs more nu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tor recipes only a guide in decision making not 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ertainty of knowledge and differences between sector organ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insiders also have outside knowledge – they are citizens of the sector too – so there is inte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s sector knowledge is an object-under-construction rather than being brought to the client by a privileged outs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e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uilding society – a regional society in the North of England. An IT package that was replacing their whole computing platform was being purchased from a software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cal authority – a large London council in which an improved procurement model for buying in agency staff was being  developed by a Big 4/IT consulting firm. Part of e-government 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ultinational – client was the strategic planning unit and the consultant a top strategy firm. The early ‘creative’ stages of planning cycle for investment/di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son – a small niche consulting firm with public sector experience (health) but no prisons experience. Engaged in a bid for future investment that was part of government-driven performance review. A ‘failing’ prison and the review bid was cru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of Sector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building soci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unique and coherent ‘peer group’ type 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val firms that were actually collabo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 managers had extensive informal and personal relationships with sector p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knowledge constantly being exchan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 consultants – one effectively a sector specialist (a ‘client manager’ common in IT projec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local auth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 and consultant both had extensive public sector contacts and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s to sector players more formalised than in the building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certainty of sector knowledge in the search for a model of 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multin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ultants experienced mainly with client rather than sector as a whole (but ‘mncs are the market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le of sector knowledge more ambivalent and med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wer dependency most apparent in this case – client power displaces sector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sector contacts/experiences discussed – sector know-how incorporated in solutions (socializ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ultant required to be the ‘outsider’ rather than have specific sector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r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iting case of (apparently) absent sector knowledge on consultancy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d the expected problems – initial period of the project difficulty and almost ‘faile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eventual success – client learned the project management approach and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we explain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sector’ was actually partly prisons and partly wider public s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al audience for the review bid was central gover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idence of ‘functional’ and positive aspects where sector knowledge was instrumental in decision making. Served an integrative function, supplied a common language (cf. systemic theory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ely where sector knowledge was absent (the prison) it caused integration problems, even if over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were limits to sector knowledge – consultants in some instances stressed they had to focus in the final analysis on client problems and internal recipes. In 3 cases an ‘internal focus’ seemed to pre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or knowledge had a strong legitimizing/political role. The social capital that gave people status in decision making processes (the stake in the game). People who had sector know-how in abundance were central, those who lacked it were peripheral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0:57:25Z</dcterms:created>
  <dc:creator>Robin Fincham</dc:creator>
  <dc:description/>
  <dc:language>en-US</dc:language>
  <cp:lastModifiedBy>Robin Fincham</cp:lastModifiedBy>
  <dcterms:modified xsi:type="dcterms:W3CDTF">2007-11-15T12:40:55Z</dcterms:modified>
  <cp:revision>5</cp:revision>
  <dc:subject/>
  <dc:title>The role of ‘sector knowledge’ in client-consultant relationships: comparative case studies  Robin Fincham,* Timothy Clark, Karen Handley and Andrew Sturdy </dc:title>
</cp:coreProperties>
</file>