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7127-FC5B-41B2-A5B6-AF6F01737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AC53-FE7B-4CC5-8394-294A0F21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1253-E42C-4BF7-971F-E4B497957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1E39-3D48-4D7F-85EB-C96ED2C32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01C4-725F-4A83-B55D-5CC52333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58EA-4809-4C28-ACF6-B6B8C28F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4E05-E638-43B7-93B1-A149AC9C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BA9A-0EDE-4F06-BD2C-C6682D06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C60D-C123-4ED3-A91B-48E4358D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2A2D-A65D-48F4-887D-7EFA7F4B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FD7E-FC02-4C93-B5BF-75D6620C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9C26-21EB-4B3B-B489-0A8AD683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40BC-1174-475F-85F7-34FF1EAE9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f3@stir.ac.uk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role of ‘sector knowledge’ in client-consultant relationships: comparative case studies</a:t>
            </a:r>
            <a:br>
              <a:rPr sz="2400"/>
            </a:br>
            <a:br>
              <a:rPr sz="2400"/>
            </a:b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obin Fincham,* Timothy Clark, Karen Handley and Andrew Sturdy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shop on Innovative Capabilities and the Role of Consultants in the Information Economy, Mannheim, 19-20 November 2007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artment of Management, Stirling University, Stirling FK9 4LA, UK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_x000b_rf3@stir.ac.uk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age of the consultant as the ‘outside expert’ is expressed in terms of consultants as sector specialists in possess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tor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ppeal to the client is (partly) constructed out of knowledge accumulated via repeated assignments in the industry where the client organization re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‘the sector’ is a complex knowledge formation in its own right – a distinct institutional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themes explored through 4 case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ultant knowledge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or knowle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tor knowledge enables consultant to frame client problems and claim special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in consulting firms as collective knowledge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ultant knowledge base learned from interaction with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tor knowledge may be seen as a structuring of that knowle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ector is a specific objective/subjective construct in the minds of managers and consul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 But the ‘simple model’ of consultant as outside expert bringing knowledge in needs more nu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tor recipes only a guide in decision making not determinis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certainty of knowledge and differences between sector organiz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insiders also have outside knowledge – they are citizens of the sector too – so there is inte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us sector knowledge is an object-under-construction rather than being brought to the client by a privileged outs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ase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uilding society – a regional society in the North of England. An IT package that was replacing their whole computing platform was being purchased from a software 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cal authority – a large London council in which an improved procurement model for buying in agency staff was being  developed by a Big 4/IT consulting firm. Part of e-government ag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ultinational – client was the strategic planning unit and the consultant a top strategy firm. The early ‘creative’ stages of planning cycle for investment/dive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ison – a small niche consulting firm with public sector experience (health) but no prisons experience. Engaged in a bid for future investment that was part of government-driven performance review. A ‘failing’ prison and the review bid was cru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91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e of Sector 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building soci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unique and coherent ‘peer group’ type s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val firms that were actually collabor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ent managers had extensive informal and personal relationships with sector pl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or knowledge constantly being exchan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wo consultants – one effectively a sector specialist (a ‘client manager’ common in IT projec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local auth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ent and consultant both had extensive public sector contacts and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s to sector players more formalised than in the building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certainty of sector knowledge in the search for a model of proc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multina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ultants experienced mainly with client rather than sector as a whole (but ‘mncs are the market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le of sector knowledge more ambivalent and medi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wer dependency most apparent in this case – client power displaces sector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sector contacts/experiences discussed – sector know-how incorporated in solutions (socializ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ultant required to be the ‘outsider’ rather than have specific sector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pri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miting case of (apparently) absent sector knowledge on consultancy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used the expected problems – initial period of the project difficulty and almost ‘failed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t eventual success – client learned the project management approach and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we explain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sector’ was actually partly prisons and partly wider public s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al audience for the review bid was central gover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idence of ‘functional’ and positive aspects where sector knowledge was instrumental in decision making. Served an integrative function, supplied a common language (cf. systemic theory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ely where sector knowledge was absent (the prison) it caused integration problems, even if over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were limits to sector knowledge – consultants in some instances stressed they had to focus in the final analysis on client problems and internal recipes. In 3 cases an ‘internal focus’ seemed to pre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or knowledge had a strong legitimizing/political role. The social capital that gave people status in decision making processes (the stake in the game). People who had sector know-how in abundance were central, those who lacked it were peripheral p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10:57:25Z</dcterms:created>
  <dc:creator>Robin Fincham</dc:creator>
  <dc:description/>
  <dc:language>en-US</dc:language>
  <cp:lastModifiedBy>Robin Fincham</cp:lastModifiedBy>
  <dcterms:modified xsi:type="dcterms:W3CDTF">2007-11-15T12:40:55Z</dcterms:modified>
  <cp:revision>5</cp:revision>
  <dc:subject/>
  <dc:title>The role of ‘sector knowledge’ in client-consultant relationships: comparative case studies  Robin Fincham,* Timothy Clark, Karen Handley and Andrew Sturdy </dc:title>
</cp:coreProperties>
</file>