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7D3-FE2D-4091-B331-35DD60F7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617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D3A-C8BB-4685-B725-39B94A5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144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4D8-F3AB-4349-883C-13713FA0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71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25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71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25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661-BBC0-42C8-BE97-4E5F998A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AE0-B804-4380-B03F-9EA5CC1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383-2A67-42ED-ACE0-24ECD96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4ED-B83C-4A28-84FE-64E3B050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06B-21B9-42CA-98CB-04095C5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1200" y="914040"/>
            <a:ext cx="8521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C5A-863A-4B24-A00A-5222FA56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231-541B-4480-BB7C-89254AE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144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E10-DD79-44FE-8B48-FF6B642E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D73-362A-4ED7-A9AA-16716D3D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54C1-840A-45CA-8982-CB95213F1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1600200"/>
            <a:ext cx="5715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916360" y="189000"/>
            <a:ext cx="1239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umour in the Client Consultant Relationship: Who is In and Ou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thy Cla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 Finch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Hand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Stu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adg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eem a large number of problems to fix before the next conversion. We only have one more meeting af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. Can you be confident that we can go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. But if you look at the incident report most of the problems are cleared-up on average in less than (.) a day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 active issues are not high priority and so show stoppers. (.) But it would be helpful if we could hav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 Sarah’s time. (.) I know she’s pressed on other jobs (.) but her input would help in fixing Summit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the new format MFS’s and (.) QFS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after his (.) red ba-hh-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ves her security bad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LLLLL[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                  (wry sm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[She’s our-h Sarah now not your Sara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LLLLll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                    (sm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lish Version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natha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ou got Georges’s repo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eter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eorge sent me something that I didn’t have a clue about.  Now I’ve got the English versio-h-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[Expansive smile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LLLLLLLLLL[L-L-L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llllll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[Right uhm Do we take a machine out of Post Office Row and install some ki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emporary arrangement? It would mean maintaining a lim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sons for Laughing at “English Version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Puma: ‘I felt Peter was criticizing Puma and the way they can sometimes make things overly technical and complex’. (Imperial employe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George: ‘I agree with Peter.  I saw that report and the guy just didn’t produce a clear report’. (Imperial employ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clarity: ‘We are all learning fast.  Peter was commenting on our frustration at having to make decisions with incomplete information’; ‘It was about Puma’s communication with us’. (Both Imperial employ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er’s preference for information: ‘Peter’s not technically-minded, I can just imagine his reaction to that report.  He likes things in plain English.  That’s what should have been done’. (Imperial employ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gruity: ‘They think of us as techies and often joke that we speak another language’. (Puma consul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funny: ‘I don’t really remember the remark.  I’m not sure if I laughed’. (Puma consul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ur is a pervasive but overlooked aspect of the client-consultant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ve response can hide important within group differences.  It does not automatically signal consen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ur does not represent a common definition of a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overcome tensions in the client-consultant relationshi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response most marked in relation to criticisms of the consul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nts themselves not unified in their response.  One consultant is closer to client than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ion of the Client-consultant relation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492280"/>
            <a:ext cx="3024360" cy="2880000"/>
          </a:xfrm>
          <a:prstGeom prst="ellipse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2565360"/>
            <a:ext cx="3024360" cy="2879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2000" y="5373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lt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0920" y="55166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oundaries in the client-consultant relation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bolic - ‘conceptual distinctions made to categoriz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s, practices, and even time and space’ (Lamont and Mo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, 2002, p. 16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al – Objectified and stable forms of social difference that have a constraining charac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rton identifies the notion of “status set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minality – part of the “consultant condition”, ‘blurring and merging of distinctions’ (Czarniawska and Mazza, 200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89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m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symbolic boundaries or the intersubjective creation and experience of fleeting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ey theme in humour is the notion of inclusion and exclusion; the creation of a momentary bond – a common definition of a sit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ghter is a collective act which appears to tie everyone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ur occurs in a “play frame” (Bateson, 1955).  It is a liminal act.  The conversational rules are different and ambiguity is celeb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ur can show the momentary shifts in symbolic boundaries between consultants and clients depending on whether they laugh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50920" y="2637000"/>
            <a:ext cx="5110200" cy="124776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76360" y="2060640"/>
            <a:ext cx="2577600" cy="2550960"/>
            <a:chOff x="1476360" y="2060640"/>
            <a:chExt cx="2577600" cy="2550960"/>
          </a:xfrm>
        </p:grpSpPr>
        <p:sp>
          <p:nvSpPr>
            <p:cNvPr id="59" name=""/>
            <p:cNvSpPr/>
            <p:nvPr/>
          </p:nvSpPr>
          <p:spPr>
            <a:xfrm>
              <a:off x="2669760" y="3176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81000" y="2331720"/>
              <a:ext cx="1404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771640" y="3460320"/>
              <a:ext cx="1368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04840" y="333072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9000" y="332100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30400" y="316872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5600" y="2060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0400" y="43592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6360" y="31719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77960" y="24303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3760" y="3968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2441520"/>
              <a:ext cx="22320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0960" y="39639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73160" y="2598480"/>
              <a:ext cx="61704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042640" y="3375000"/>
              <a:ext cx="61740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9640" y="2655720"/>
              <a:ext cx="591840" cy="5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49400" y="3419640"/>
              <a:ext cx="63432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64000" y="2060640"/>
            <a:ext cx="2516400" cy="2506680"/>
            <a:chOff x="5364000" y="2060640"/>
            <a:chExt cx="2516400" cy="2506680"/>
          </a:xfrm>
        </p:grpSpPr>
        <p:sp>
          <p:nvSpPr>
            <p:cNvPr id="77" name=""/>
            <p:cNvSpPr/>
            <p:nvPr/>
          </p:nvSpPr>
          <p:spPr>
            <a:xfrm>
              <a:off x="6494400" y="316080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607080" y="233676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594480" y="3414960"/>
              <a:ext cx="126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02320" y="330840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4680" y="33134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4000" y="315468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56480" y="316080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89720" y="431496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1800" y="2060640"/>
              <a:ext cx="223920" cy="25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64240" y="3932280"/>
              <a:ext cx="223920" cy="25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7360" y="243396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5640" y="243864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69120" y="391968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0120" y="2671920"/>
              <a:ext cx="5922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880" y="3394440"/>
              <a:ext cx="591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878440" y="3355920"/>
              <a:ext cx="61776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642000" y="2558880"/>
              <a:ext cx="689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19280" y="4724280"/>
            <a:ext cx="20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46530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lta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organisation – Imperial Building Socie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society over 15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3, it had assets of over £500 million, lent around £150 million and had approximately 200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2 Imperial made the decision to replace its IT infrastructure that supported the delivery of its mortgages, savings and investments products.  The contract was worth just under £2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 Puma Financial System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was used by 40% of the UK’s building societies as well as a range of bank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Issues / 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t to which system statutorily compl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the software (versions crashing, not delivering promised upgrades, proliferation of workarou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system to link with other elements (ATM network, FinPlan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responsibilities,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between clients and consulta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514600"/>
            <a:ext cx="4648320" cy="19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1752480"/>
            <a:ext cx="990720" cy="6858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752480"/>
            <a:ext cx="9907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752480"/>
            <a:ext cx="990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752480"/>
            <a:ext cx="99036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086280"/>
            <a:ext cx="990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572000"/>
            <a:ext cx="99036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572000"/>
            <a:ext cx="1143000" cy="685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4572000"/>
            <a:ext cx="1143000" cy="685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1905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24280"/>
            <a:ext cx="1447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244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85264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06864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Gwyneth Paltrow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lcome everyone. (.) I want to introduce you to Tim.  He works at [University Busines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chool] and is going to be observing our meetings.   Tim would you like to tell u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omething about your proj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im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ank you for letting me sit-in on your meetings. (.) I am conducting research into the transfer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between consultants and their clients with colleagues at two other universities […] (.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 […].  We are sponsored by […], (.) the main funder of social science research in the UK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t is not intended to be evaluative in any way.  I look forward to learning more about you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ject over the coming months and am happy to answer any questions you may ha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Great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Jan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.) when the research is finished (.) and the film of the book is m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[turns and looks at person to whom remarks addressed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ou will be played by Gwyneth Palt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articipant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LLLLLLLLL-L-l-l-l-l-l[-l-l-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[lll Right (.) let’s follow the agenda. Minutes of the last meeting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y comments, upda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35:23Z</dcterms:created>
  <dc:creator>tclark</dc:creator>
  <dc:description/>
  <dc:language>en-US</dc:language>
  <cp:lastModifiedBy>turer</cp:lastModifiedBy>
  <dcterms:modified xsi:type="dcterms:W3CDTF">2007-11-20T08:49:09Z</dcterms:modified>
  <cp:revision>56</cp:revision>
  <dc:subject/>
  <dc:title>Offline-communication in the client-consultant relationship</dc:title>
</cp:coreProperties>
</file>