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716B-C7BB-4E8C-86A9-08BCBF7ED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1200" y="897480"/>
            <a:ext cx="8521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80010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1760" y="3861720"/>
            <a:ext cx="80010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2F9E-974D-413D-A452-2D21F9A24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41200" y="897480"/>
            <a:ext cx="8521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3904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61440" y="1752120"/>
            <a:ext cx="3904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1760" y="3861720"/>
            <a:ext cx="3904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61440" y="3861720"/>
            <a:ext cx="3904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6C7A-B01A-4BBD-A141-E368450BA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41200" y="897480"/>
            <a:ext cx="8521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25761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7160" y="1752120"/>
            <a:ext cx="25761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2560" y="1752120"/>
            <a:ext cx="25761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1760" y="3861720"/>
            <a:ext cx="25761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7160" y="3861720"/>
            <a:ext cx="25761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2560" y="3861720"/>
            <a:ext cx="25761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BC82-DDD1-44A0-9A73-7E35E3132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1200" y="897480"/>
            <a:ext cx="8521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1760" y="1752120"/>
            <a:ext cx="80010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0D7F-6F0E-4877-B1C8-3E3DBB5C1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1200" y="897480"/>
            <a:ext cx="8521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80010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49C2-CCA2-48B2-8BD4-BB6D760EF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41200" y="897480"/>
            <a:ext cx="8521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39042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61440" y="1752120"/>
            <a:ext cx="39042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9DD7-F279-4A3D-A0F5-9AE96C7B1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1200" y="897480"/>
            <a:ext cx="8521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BD8A-384D-41BF-99ED-24373C5FC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41200" y="914040"/>
            <a:ext cx="8521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11ED-699D-4E1B-8484-297802DFF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41200" y="897480"/>
            <a:ext cx="8521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3904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61440" y="1752120"/>
            <a:ext cx="39042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1760" y="3861720"/>
            <a:ext cx="3904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FAA9-038D-4A57-8635-FA988522A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41200" y="897480"/>
            <a:ext cx="8521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39042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61440" y="1752120"/>
            <a:ext cx="3904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61440" y="3861720"/>
            <a:ext cx="3904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EC5C-ACCD-492E-BF29-723C943CF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41200" y="897480"/>
            <a:ext cx="8521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3904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61440" y="1752120"/>
            <a:ext cx="3904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1760" y="3861720"/>
            <a:ext cx="80010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7A78-E0BB-4459-8A3F-0FBDF2904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1200" y="914040"/>
            <a:ext cx="8521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1752120"/>
            <a:ext cx="80010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8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6EFD7-54C0-4ACF-9F9F-1C8FA6F4AC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38080" y="1600200"/>
            <a:ext cx="5715000" cy="0"/>
          </a:xfrm>
          <a:prstGeom prst="line">
            <a:avLst/>
          </a:prstGeom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2916360" y="189000"/>
            <a:ext cx="1239840" cy="388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Humour in the Client Consultant Relationship: Who is In and Out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othy Clark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bin Fincha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ren Handle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rew Stur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1200" y="914040"/>
            <a:ext cx="8521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 Badge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80010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vid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seem a large number of problems to fix before the next conversion. We only have one more meeting afte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. Can you be confident that we can go li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natha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e. But if you look at the incident report most of the problems are cleared-up on average in less than (.) a day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of the active issues are not high priority and so show stoppers. (.) But it would be helpful if we could hav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of Sarah’s time. (.) I know she’s pressed on other jobs (.) but her input would help in fixing Summit t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 the new format MFS’s and (.) QFS’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verley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’s after his (.) red ba-hh-dg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waves her security badg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vid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verley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LLLLLL[ll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nathan:                  (wry sm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ham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LLll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verle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[She’s our-h Sarah now not your Sara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vid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verley: 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LLLLLll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nathan:                    (sm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ham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Lll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1200" y="914040"/>
            <a:ext cx="8521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nglish Version</a:t>
            </a:r>
            <a:br>
              <a:rPr sz="3200"/>
            </a:b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80010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Jonathan: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You got Georges’s report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eter: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George sent me something that I didn’t have a clue about.  Now I’ve got the English versio-h-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[Expansive smile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vid: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verley: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LLLLLLLLLLL[L-L-L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nathan: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ham: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LLlllllllll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ter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[Right uhm Do we take a machine out of Post Office Row and install some kind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f temporary arrangement? It would mean maintaining a lim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41200" y="914040"/>
            <a:ext cx="8521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asons for Laughing at “English Version”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80010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iticism of Puma: ‘I felt Peter was criticizing Puma and the way they can sometimes make things overly technical and complex’. (Imperial employee)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iticism of George: ‘I agree with Peter.  I saw that report and the guy just didn’t produce a clear report’. (Imperial employe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ck of clarity: ‘We are all learning fast.  Peter was commenting on our frustration at having to make decisions with incomplete information’; ‘It was about Puma’s communication with us’. (Both Imperial employe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ter’s preference for information: ‘Peter’s not technically-minded, I can just imagine his reaction to that report.  He likes things in plain English.  That’s what should have been done’. (Imperial employe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congruity: ‘They think of us as techies and often joke that we speak another language’. (Puma consulta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 funny: ‘I don’t really remember the remark.  I’m not sure if I laughed’. (Puma consulta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1200" y="914040"/>
            <a:ext cx="8521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ey Poi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80010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mour is a pervasive but overlooked aspect of the client-consultant relationshi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ctive response can hide important within group differences.  It does not automatically signal consens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mour does not represent a common definition of a sit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overcome tensions in the client-consultant relationship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ces in response most marked in relation to criticisms of the consulta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ultants themselves not unified in their response.  One consultant is closer to client than the 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1200" y="914040"/>
            <a:ext cx="8521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ception of the Client-consultant relationshi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80010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87280" y="2492280"/>
            <a:ext cx="3024360" cy="2880000"/>
          </a:xfrm>
          <a:prstGeom prst="ellipse">
            <a:avLst/>
          </a:pr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859280" y="2565360"/>
            <a:ext cx="3024360" cy="287964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772000" y="5373720"/>
            <a:ext cx="170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ulta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10920" y="5516640"/>
            <a:ext cx="24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ent organi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2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6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1200" y="914040"/>
            <a:ext cx="8521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Boundaries in the client-consultant relationshi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80010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0008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ymbolic - ‘conceptual distinctions made to categoriz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bjects, practices, and even time and space’ (Lamont and Mol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r, 2002, p. 168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0008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ocial – Objectified and stable forms of social difference that have a constraining characte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0008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erton identifies the notion of “status sets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0008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iminality – part of the “consultant condition”, ‘blurring and merging of distinctions’ (Czarniawska and Mazza, 2003)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765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22892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80008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1200" y="914040"/>
            <a:ext cx="8521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umour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80010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8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cus on symbolic boundaries or the intersubjective creation and experience of fleeting bound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8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key theme in humour is the notion of inclusion and exclusion; the creation of a momentary bond – a common definition of a sit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8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ughter is a collective act which appears to tie everyone togeth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8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umour occurs in a “play frame” (Bateson, 1955).  It is a liminal act.  The conversational rules are different and ambiguity is celebra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8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umour can show the momentary shifts in symbolic boundaries between consultants and clients depending on whether they laugh togeth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050920" y="2637000"/>
            <a:ext cx="5110200" cy="1247760"/>
          </a:xfrm>
          <a:prstGeom prst="ellipse">
            <a:avLst/>
          </a:prstGeom>
          <a:noFill/>
          <a:ln w="2844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1476360" y="2060640"/>
            <a:ext cx="2577600" cy="2550960"/>
            <a:chOff x="1476360" y="2060640"/>
            <a:chExt cx="2577600" cy="2550960"/>
          </a:xfrm>
        </p:grpSpPr>
        <p:sp>
          <p:nvSpPr>
            <p:cNvPr id="59" name=""/>
            <p:cNvSpPr/>
            <p:nvPr/>
          </p:nvSpPr>
          <p:spPr>
            <a:xfrm>
              <a:off x="2669760" y="3176640"/>
              <a:ext cx="223560" cy="252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2781000" y="2331720"/>
              <a:ext cx="14040" cy="8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2771640" y="3460320"/>
              <a:ext cx="13680" cy="88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04840" y="3330720"/>
              <a:ext cx="89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19000" y="3321000"/>
              <a:ext cx="89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830400" y="3168720"/>
              <a:ext cx="223560" cy="252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685600" y="2060640"/>
              <a:ext cx="223560" cy="252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660400" y="4359240"/>
              <a:ext cx="223560" cy="252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476360" y="3171960"/>
              <a:ext cx="223560" cy="252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477960" y="2430360"/>
              <a:ext cx="223560" cy="252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23760" y="3968640"/>
              <a:ext cx="223560" cy="252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857240" y="2441520"/>
              <a:ext cx="223200" cy="252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450960" y="3963960"/>
              <a:ext cx="223560" cy="252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2873160" y="2598480"/>
              <a:ext cx="617040" cy="63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2042640" y="3375000"/>
              <a:ext cx="617400" cy="63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069640" y="2655720"/>
              <a:ext cx="591840" cy="56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849400" y="3419640"/>
              <a:ext cx="634320" cy="60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5364000" y="2060640"/>
            <a:ext cx="2516400" cy="2506680"/>
            <a:chOff x="5364000" y="2060640"/>
            <a:chExt cx="2516400" cy="2506680"/>
          </a:xfrm>
        </p:grpSpPr>
        <p:sp>
          <p:nvSpPr>
            <p:cNvPr id="77" name=""/>
            <p:cNvSpPr/>
            <p:nvPr/>
          </p:nvSpPr>
          <p:spPr>
            <a:xfrm>
              <a:off x="6494400" y="3160800"/>
              <a:ext cx="223920" cy="252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6607080" y="2336760"/>
              <a:ext cx="0" cy="84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6594480" y="3414960"/>
              <a:ext cx="12600" cy="88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602320" y="3308400"/>
              <a:ext cx="90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754680" y="3313440"/>
              <a:ext cx="90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364000" y="3154680"/>
              <a:ext cx="223920" cy="252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656480" y="3160800"/>
              <a:ext cx="223920" cy="252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89720" y="4314960"/>
              <a:ext cx="223920" cy="252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81800" y="2060640"/>
              <a:ext cx="223920" cy="252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64240" y="3932280"/>
              <a:ext cx="223920" cy="252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697360" y="2433960"/>
              <a:ext cx="223920" cy="252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235640" y="2438640"/>
              <a:ext cx="223920" cy="252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269120" y="3919680"/>
              <a:ext cx="223920" cy="252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0120" y="2671920"/>
              <a:ext cx="592200" cy="56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689880" y="3394440"/>
              <a:ext cx="591840" cy="56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5878440" y="3355920"/>
              <a:ext cx="617760" cy="63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6642000" y="2558880"/>
              <a:ext cx="689040" cy="64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1619280" y="4724280"/>
            <a:ext cx="20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ient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508720" y="4653000"/>
            <a:ext cx="201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ultant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32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0"/>
                            </p:stCondLst>
                            <p:childTnLst>
                              <p:par>
                                <p:cTn id="3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43200000">
                                      <p:cBhvr>
                                        <p:cTn id="35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1200" y="914040"/>
            <a:ext cx="8521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se organisation – Imperial Building Societ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80010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8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uilding society over 150 years o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003, it had assets of over £500 million, lent around £150 million and had approximately 200 employe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002 Imperial made the decision to replace its IT infrastructure that supported the delivery of its mortgages, savings and investments products.  The contract was worth just under £2 mill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 Puma Financial Systems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s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 was used by 40% of the UK’s building societies as well as a range of bank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1200" y="914040"/>
            <a:ext cx="8521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ey Issues / Tens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80010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8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nt to which system statutorily compli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lity of the software (versions crashing, not delivering promised upgrades, proliferation of workaroun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ility of system to link with other elements (ATM network, FinPlan,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s and responsibilities, tr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1200" y="914040"/>
            <a:ext cx="8521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eting between clients and consulta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09680" y="2514600"/>
            <a:ext cx="4648320" cy="1981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057400" y="1752480"/>
            <a:ext cx="990720" cy="685800"/>
          </a:xfrm>
          <a:prstGeom prst="ellipse">
            <a:avLst/>
          </a:prstGeom>
          <a:noFill/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1280" y="1752480"/>
            <a:ext cx="990720" cy="6858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800600" y="1752480"/>
            <a:ext cx="990720" cy="68580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19920" y="1752480"/>
            <a:ext cx="990360" cy="68580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010280" y="3086280"/>
            <a:ext cx="990720" cy="68580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19920" y="4572000"/>
            <a:ext cx="990360" cy="68580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4572000"/>
            <a:ext cx="1143000" cy="68580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429000" y="4572000"/>
            <a:ext cx="1143000" cy="68580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19051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0" y="4724280"/>
            <a:ext cx="14479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SUL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95880" y="47242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V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934320" y="32446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5880" y="1905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V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051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AN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7600" y="19051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76720" y="4724280"/>
            <a:ext cx="1447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SUL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87640" y="2852640"/>
            <a:ext cx="28728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627280" y="3068640"/>
            <a:ext cx="28728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41200" y="914040"/>
            <a:ext cx="8521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MS Mincho"/>
              </a:rPr>
              <a:t>Gwyneth Paltrow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1536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Peter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Welcome everyone. (.) I want to introduce you to Tim.  He works at [University Business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School] and is going to be observing our meetings.   Tim would you like to tell us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something about your project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Tim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Thank you for letting me sit-in on your meetings. (.) I am conducting research into the transfer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between consultants and their clients with colleagues at two other universities […] (.)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and […].  We are sponsored by […], (.) the main funder of social science research in the UK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It is not intended to be evaluative in any way.  I look forward to learning more about your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project over the coming months and am happy to answer any questions you may hav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Peter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Great.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  <a:ea typeface="MS Mincho"/>
              </a:rPr>
              <a:t>Janic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 (.) when the research is finished (.) and the film of the book is ma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  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[turns and looks at person to whom remarks addressed]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you will be played by Gwyneth Paltrow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Participants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LLLLLLLLLL-L-l-l-l-l-l[-l-l-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Peter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[lll Right (.) let’s follow the agenda. Minutes of the last meeting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Any comments, updates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35:23Z</dcterms:created>
  <dc:creator>tclark</dc:creator>
  <dc:description/>
  <dc:language>en-US</dc:language>
  <cp:lastModifiedBy>turer</cp:lastModifiedBy>
  <dcterms:modified xsi:type="dcterms:W3CDTF">2007-11-20T08:49:09Z</dcterms:modified>
  <cp:revision>56</cp:revision>
  <dc:subject/>
  <dc:title>Offline-communication in the client-consultant relationship</dc:title>
</cp:coreProperties>
</file>