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D10-FD4A-4F20-B780-D4BC607F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837-B3BD-48FF-A670-CB3AF692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F26-F15C-415D-AA7D-6D49D94A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9DE-8612-411C-A66D-9B1C6A0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7F5-25B7-43BD-A0B1-C05B1FE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327-1C01-4F7C-B5E4-56A2D4ED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DE4-673E-4538-94D1-2549433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C20-5344-484E-A2C1-5521B2E9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FB0-D763-4DEA-B9B3-5FC3741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4D5-F849-426F-85DE-1A9AE25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C0E-C2A2-40B9-8601-83B628C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BFB-DB23-48E6-BE72-4349C15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AF8E-9509-4FB8-BD25-5EE67A11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IT-consult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 Benders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efan Heusinkveld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Nijmegen &amp; Tilburg University)</a:t>
            </a:r>
            <a:br>
              <a:rPr sz="18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Capabilities and the Role of Consultants in the Information Econom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heim, 19-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he case, part 2: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ueprint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lications will not be supported unless an excep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print consists of common structures, data definitions and processes for all participating business uni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one central maintenance organiz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olution changes are subject to strict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methodology and toolset are standard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ple of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t location, controlled from elsewhere, enabled by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ntenance essential 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 disastrous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cording to SAP-da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t step in procedure, to “report read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ove scaffol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Yet: inefficient if scheduled maintenance later at same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or dilem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move scaffolding, and be ineffici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 efficient, report ready yet keep scaffo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oice between inefficiency and data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ple of creation “virtual reality”: dangerous in ERP-system yet feels safe to present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thorities threaten to cl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sultant: “creates a lot of work”, doubts about proper solution yet overruled: ‘”client lik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sultants help creating &amp; solving ERP-problems; link in “materia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ce again: “political rationality” prev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l actors &amp; consultants are well aware, and play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P-added: study of how consultants operate in local decisions to “stick to standards”, certainly in case of potential misfit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Wrong title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ERP-consult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 Benders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efan Heusinkveld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Nijmegen &amp; Tilburg University)</a:t>
            </a:r>
            <a:br>
              <a:rPr sz="18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Capabilities and the Role of Consultants in the Information Econom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heim, 19-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nes two 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zation concepts, and role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P-systems in mould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on presentation”, including “investment proposal”: part VW-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nts: acquainted with manager for about three years, with consultant half year, engaged in sam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 frequently, often with inform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uments including Master 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o inter-link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echnical isomorphism”</a:t>
            </a:r>
            <a:br>
              <a:rPr sz="40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enders, Batenburg &amp; Van der Blonk, 2006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P aims at control, i.e. centralistic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 practices”, “industry solutions”, “templates” inscribed int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-defined “solu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t deterministic, yet are likely to become enacted: pressures to co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P: mechanisms to stimulate conformanc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atenburg, Benders &amp; van der Blonk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ase; part I: the “Business c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cision: Global blue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sons: show conformance to external institutions, credibility to analysts, IT-h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of profitability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t-decision, 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l: insufficient skills to formulate business case convincingly: consultanc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business case”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rst calcula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esent Value (NPV) positive, ye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he business case”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from best practices and common proc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ful: original NPV times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weve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from the global platform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PV lifted  to 44 times the original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guments “credible, and hard to att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7966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1:38:34Z</dcterms:created>
  <dc:creator>j.benders</dc:creator>
  <dc:description/>
  <dc:language>en-US</dc:language>
  <cp:lastModifiedBy>lec</cp:lastModifiedBy>
  <dcterms:modified xsi:type="dcterms:W3CDTF">2007-11-19T07:20:24Z</dcterms:modified>
  <cp:revision>17</cp:revision>
  <dc:subject/>
  <dc:title>What about IT-consulting?  Jos Benders &amp;  Stefan Heusinkveld (Nijmegen &amp; Tilburg)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6495332</vt:r8>
  </property>
  <property fmtid="{D5CDD505-2E9C-101B-9397-08002B2CF9AE}" pid="3" name="_AuthorEmail">
    <vt:lpwstr>J.Benders@fm.ru.nl</vt:lpwstr>
  </property>
  <property fmtid="{D5CDD505-2E9C-101B-9397-08002B2CF9AE}" pid="4" name="_AuthorEmailDisplayName">
    <vt:lpwstr>Jos Bender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