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BD9-9A80-41C3-8AF3-3F556BF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AE1-D457-4E70-9D59-9C0A9A5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005-5157-4527-BFBE-FEE51CC4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DBC-ECCE-47A8-AB0F-815E6310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F08-DCCA-4B1A-BF28-DF4D35C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0CD-0673-4CE5-8E31-8376E771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068-D65E-46D8-96E2-7125305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9A9-1640-4C99-8D04-78B24CE1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BB5-89E6-44B9-8D31-1C4DB05D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2DC-184F-4BEA-9D57-2F11FAE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EB5-DF83-4507-A32D-DE1A57D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6E8-D9EE-44D6-85A8-0EEAD8A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62E-5EB2-43BD-8EE1-4B2C9F37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IT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case, part 2: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ueprint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lications will not be supported unless an excep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print consists of common structures, data definitions and processes for all participating business uni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one central maintenance organiz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olution changes are subject to strict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methodology and toolset are standard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t location, controlled from elsewhere, enabled by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ntenance essential 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 disastrous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cording to SAP-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t step in procedure, to “report read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ove scaffol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Yet: inefficient if scheduled maintenance later at same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or dile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move scaffolding, and be ineffici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 efficient, report ready yet keep scaffo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oice between inefficiency and data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creation “virtual reality”: dangerous in ERP-system yet feels safe to present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thorities threaten to cl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: “creates a lot of work”, doubts about proper solution yet overruled: ‘”client lik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s help creating &amp; solving ERP-problems; link in “materia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ce again: “political rationality” prev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 actors &amp; consultants are well aware, and play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-added: study of how consultants operate in local decisions to “stick to standards”, certainly in case of potential misfit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Wrong title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ERP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nes two 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zation concepts, and role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P-systems in mould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on presentation”, including “investment proposal”: part VW-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nts: acquainted with manager for about three years, with consultant half year, engaged in sam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 frequently, often with inform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uments including Master 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o inter-link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echnical isomorphism”</a:t>
            </a:r>
            <a:br>
              <a:rPr sz="40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enders, Batenburg &amp; Van der Blonk, 2006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 aims at control, i.e. centralistic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 practices”, “industry solutions”, “templates” inscribed int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-defined “solu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t deterministic, yet are likely to become enacted: pressures to co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P: mechanisms to stimulate conformanc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atenburg, Benders &amp; van der Blonk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ase; part I: the “Business 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ision: Global blue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sons: show conformance to external institutions, credibility to analysts, IT-h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of profitability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t-decision, 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: insufficient skills to formulate business case convincingly: consultanc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business case”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rst calcula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 (NPV) positive, ye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business case”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best practices and common proc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ful: original NPV times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eve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the global platform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PV lifted  to 44 times the original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guments “credible, and hard to att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7966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1:38:34Z</dcterms:created>
  <dc:creator>j.benders</dc:creator>
  <dc:description/>
  <dc:language>en-US</dc:language>
  <cp:lastModifiedBy>lec</cp:lastModifiedBy>
  <dcterms:modified xsi:type="dcterms:W3CDTF">2007-11-19T07:20:24Z</dcterms:modified>
  <cp:revision>17</cp:revision>
  <dc:subject/>
  <dc:title>What about IT-consulting?  Jos Benders &amp;  Stefan Heusinkveld (Nijmegen &amp; Tilburg)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6495332</vt:r8>
  </property>
  <property fmtid="{D5CDD505-2E9C-101B-9397-08002B2CF9AE}" pid="3" name="_AuthorEmail">
    <vt:lpwstr>J.Benders@fm.ru.nl</vt:lpwstr>
  </property>
  <property fmtid="{D5CDD505-2E9C-101B-9397-08002B2CF9AE}" pid="4" name="_AuthorEmailDisplayName">
    <vt:lpwstr>Jos Bender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