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929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9EB-6C8E-40CC-A926-8EBB76B1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517-CDC8-40B1-BB95-16D6C0D1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407-5126-4050-9794-09C2F47A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020-83F0-4100-B9A0-55D37870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752-5CC8-4DF6-B051-F2ED45EB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883-3F8B-4422-9ECC-EDB05392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E03-8433-4E87-8CAC-C5E9A6B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093-09F6-49FF-80C0-01257FF4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083-0488-4B1F-B081-4AF4161C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90A-001A-4005-BCF4-A922D2FD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DC3-CA05-4C55-834E-C9536EB9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744-300F-4AB5-A325-7ADD4BA8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4F2B-5186-47E5-9538-62CC44585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IT-consulting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 Benders 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efan Heusinkveld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iversity of Nijmegen &amp; Tilburg University)</a:t>
            </a:r>
            <a:br>
              <a:rPr sz="1800"/>
            </a:br>
            <a:br>
              <a:rPr sz="40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Capabilities and the Role of Consultants in the Information Econom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heim, 19-20 Nov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he case, part 2: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ueprint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applications will not be supported unless an excep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print consists of common structures, data definitions and processes for all participating business uni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one central maintenance organiz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olution changes are subject to strict contro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lementation methodology and toolset are standard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mplement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ple of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t location, controlled from elsewhere, enabled by 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intenance essential 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 disastrous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cording to SAP-dat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mplementatio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t step in procedure, to “report read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ove scaffold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Yet: inefficient if scheduled maintenance later at same 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erator dilem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move scaffolding, and be ineffici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 efficient, report ready yet keep scaffo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oice between inefficiency and data 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mplementation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ple of creation “virtual reality”: dangerous in ERP-system yet feels safe to present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thorities threaten to clo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sultant: “creates a lot of work”, doubts about proper solution yet overruled: ‘”client like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sultants help creating &amp; solving ERP-problems; link in “materia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ce again: “political rationality” prev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al actors &amp; consultants are well aware, and play th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P-added: study of how consultants operate in local decisions to “stick to standards”, certainly in case of potential misfit(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Wrong title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ERP-consulting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 Benders 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efan Heusinkveld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niversity of Nijmegen &amp; Tilburg University)</a:t>
            </a:r>
            <a:br>
              <a:rPr sz="1800"/>
            </a:br>
            <a:br>
              <a:rPr sz="40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Capabilities and the Role of Consultants in the Information Econom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heim, 19-20 Nov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bines two inter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zation concepts, and role consul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P-systems in moulding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ussion presentation”, including “investment proposal”: part VW-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ants: acquainted with manager for about three years, with consultant half year, engaged in sam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 frequently, often with inform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cuments including Master 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o inter-link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echnical isomorphism”</a:t>
            </a:r>
            <a:br>
              <a:rPr sz="40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enders, Batenburg &amp; Van der Blonk, 2006)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P aims at control, i.e. centralistic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 practices”, “industry solutions”, “templates” inscribed into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-defined “solu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t deterministic, yet are likely to become enacted: pressures to con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P: mechanisms to stimulate conformance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atenburg, Benders &amp; van der Blonk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ase; part I: the “Business cas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cision: Global blue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sons: show conformance to external institutions, credibility to analysts, IT-hob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of profitability!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st-decision, tha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al: insufficient skills to formulate business case convincingly: consultanc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e business case”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rst calculation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 of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Present Value (NPV) positive, yet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he business case”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from best practices and common proc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pful: original NPV times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weve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from the global platform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PV lifted  to 44 times the original N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guments “credible, and hard to att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7966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1:38:34Z</dcterms:created>
  <dc:creator>j.benders</dc:creator>
  <dc:description/>
  <dc:language>en-US</dc:language>
  <cp:lastModifiedBy>lec</cp:lastModifiedBy>
  <dcterms:modified xsi:type="dcterms:W3CDTF">2007-11-19T07:20:24Z</dcterms:modified>
  <cp:revision>17</cp:revision>
  <dc:subject/>
  <dc:title>What about IT-consulting?  Jos Benders &amp;  Stefan Heusinkveld (Nijmegen &amp; Tilburg)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16495332</vt:r8>
  </property>
  <property fmtid="{D5CDD505-2E9C-101B-9397-08002B2CF9AE}" pid="3" name="_AuthorEmail">
    <vt:lpwstr>J.Benders@fm.ru.nl</vt:lpwstr>
  </property>
  <property fmtid="{D5CDD505-2E9C-101B-9397-08002B2CF9AE}" pid="4" name="_AuthorEmailDisplayName">
    <vt:lpwstr>Jos Benders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