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CDA-7196-4609-AE34-9E9A732736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pose: since 2004: conservation or recovering of employability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004-1CFD-4AA9-BD09-15FD0E0D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164-17C1-467E-8132-B822B4FC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451-C933-4F45-A1B5-820F6908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48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198108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124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48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130640"/>
            <a:ext cx="236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A6F-9BD4-4D6E-BBEA-1DF1449E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246-6B6B-4065-B702-2D98D3BE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57D-0567-49DA-9938-C2B20152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572-587A-4FD8-B886-12ACE41E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CB0-023E-491D-97E0-2F537CFF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1600" y="917640"/>
            <a:ext cx="75297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9FD-1189-4193-AB85-13E1741B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C61-9E3D-4D23-BBEB-B0BC656F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413064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821-E46C-4476-9B2F-4F612C2F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981080"/>
            <a:ext cx="3589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1240" y="4130640"/>
            <a:ext cx="735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E02-DD52-4531-A7BE-60F2D39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7947"/>
          <a:stretch/>
        </p:blipFill>
        <p:spPr>
          <a:xfrm>
            <a:off x="0" y="0"/>
            <a:ext cx="9144000" cy="282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etaNormalLF-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etaNormalLF-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etaNormalLF-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F9F-E866-44DE-AB0C-6838BC9B6817}" type="slidenum">
              <a:rPr b="0" lang="en-US" sz="1400" spc="-1" strike="noStrike">
                <a:solidFill>
                  <a:srgbClr val="000000"/>
                </a:solidFill>
                <a:latin typeface="MetaNormalLF-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179280"/>
            <a:ext cx="74772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taNormalLF-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3160" y="1542960"/>
            <a:ext cx="752976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ow Do Employment Effects of Job Creation Schemes Differ with Respect to the Foregoing Unemployment Duration?</a:t>
            </a:r>
            <a:endParaRPr b="0" lang="en-US" sz="28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6120" y="4373640"/>
            <a:ext cx="622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hard H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iversity Frankfurt/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rd Conference on Evaluation Research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4640" y="348768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phan L. Thom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W, Mann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8520" y="1430280"/>
            <a:ext cx="836928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tion of non-participation is not straightforwar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ersons are potential non-participants as long as they do not join a programme or leave the labour market for work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until start of programme contains important information for the effects and has to be considered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 with respect to the starting point of programm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25480" y="4307040"/>
            <a:ext cx="569304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ameter answers the following question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impact at tim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participation in JCS for an individual that joined the programme in time t of the unemployment spell?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tive comparison of the estimated programme effects for the single points 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ausal interpretation of differences!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612720"/>
            <a:ext cx="75294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3. Evaluation Approach – Matching (4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397160"/>
            <a:ext cx="829764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a: Conditioning on all relevant characteristics, X, to make both groups compar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must be observable!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osenbaum/Rubin (1983): not the single X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calar function, p(X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ensity scor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ing Assumption (Mean Conditional Independence Assumption for 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ynamic Setting (see Fitzenberger/Speckesser, 2005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36800" y="5384880"/>
          <a:ext cx="57006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5384880"/>
                    <a:ext cx="5700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46160" y="4309920"/>
          <a:ext cx="7140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4309920"/>
                    <a:ext cx="7140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 Samples of part. and non-part. (1:20)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ul, Sep, Nov 00, Jan, Mar, May 01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sourc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Participants’ Master 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b-Seekers Data Base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loyment Statistics Register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ailable information (objective and subjective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o-demographics (e.g., age, gender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fication/career variables (e.g., schooling, occupation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history (e.g., duration of last job),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tion on regional labour mark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 variable: Regular employment (until Dec 03)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. Data Set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of the six samples are pooled (32,641 participants/ 1,104,664 non-participant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of time individuals spent in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younger than 25 years or older than 55 are excluded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tter homogeneity of group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ment effects are analysed separately for East and West Germany and gender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rlin is excluded from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- Implement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mployment is discretised into quarters (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=1,…,12=U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of JCS are analysed for programmes starting during the first three years of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effects are estimated until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30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ation of four series of 12 probit model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the first programme in the current unemployment spell is analysed, subsequent programmes are viewed as an outcome of the firs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4320" y="752040"/>
            <a:ext cx="7529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mployment Effects for Men (t=1, t=5,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440" y="1986120"/>
            <a:ext cx="2894040" cy="2103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70080" y="19828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32520" y="199224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54400" y="10796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9160" y="45687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0909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59520" y="45687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81120" y="3940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8200" y="16207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8200" y="1650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56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1.0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.8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1748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for Women (t=1, t=5 and t=9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81840" y="457668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160" y="457524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102120" y="4575240"/>
            <a:ext cx="2939760" cy="21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72120" y="198108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92160" y="1987560"/>
            <a:ext cx="2940120" cy="213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084480" y="1987560"/>
            <a:ext cx="2940120" cy="213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41880" y="1071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6840" y="3933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80" y="423396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,30)= -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25840" y="4264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,30)= 2.3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6200" y="427032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9,30)= -1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320" y="1620720"/>
            <a:ext cx="24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,30)= -2.6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8680" y="165096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,30)= 1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9040" y="165744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,30)= 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. Employment Effects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mployment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sitive when starting after one or two years, but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 could not be established for all group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gative effects when starting early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positive effects for any of the groups in analysi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. Conclus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520" y="1287360"/>
            <a:ext cx="83469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ects differ by t (descriptive comparison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is associated with strong locking-in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sons who join after a short period of unemployment are worse off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s tend to be better for long-term unemployed peopl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grammes do not improve the re-employment chances of the participants compared to non-participation (in adequate time after start of programmes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ults indicate a low target-oriented allocation of unemployed persons into programm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01600" y="917640"/>
            <a:ext cx="75297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01240" y="1981080"/>
            <a:ext cx="73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b Creation Schemes in Germany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 Approach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ployment Effects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b Creation Schemes (JCS) are part of German ALMP since 1969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sidised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-integration of participants into regular employment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5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sion of stable foundation 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t qualifications 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-5227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tween 1997 and 2003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out 1.6 million 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227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rresponding spending: about 23 billion Euro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2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epticism about effectivenes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components that improve human capital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gmatis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ent empirical literature (e.g., Sianesi, 2004, Abbring/van den Berg, 2003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of treatment in the unemployment spell i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 for evaluating effec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all finding of previous empirical studies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CS do not improve the employment rate of t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nts 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otivation (3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ious empirical studies evaluating JCS do not account for the timing of the programme explicitly, bu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iming seems to be important for JC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ces should be analys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ta used for the analysis: merged data from administrative sources of Federal Employment Agency (FEA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aluation Approach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ensity Score Matching in Dynamic Setting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520200"/>
            <a:ext cx="775980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8520" y="1163520"/>
            <a:ext cx="83469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jobs at public and non-commercial institutions for unemployed persons facing barriers to 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ng-term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lder unemploy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ng unemployed without professional training/ apprenticeship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al assistance (paid to the employer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age subsidy of 30 to 75% (until 2003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ump sum payment (since 2002 optional/ 2004 mandatory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rmally 1 year, but for two and up to three year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Job Creation Schemes – Pre-Condition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jobs to be promo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ional in nature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the collective goo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priate to the problems of the regional labour marke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0">
              <a:lnSpc>
                <a:spcPct val="110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participan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long-term) unemployment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lvl="1" marL="952560" indent="-49536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gible for unemployment insurance benefit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800" y="917640"/>
            <a:ext cx="819144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Expected/Possible Effects of Job Creation Schemes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4120" y="1627200"/>
          <a:ext cx="8369280" cy="4280040"/>
        </p:xfrm>
        <a:graphic>
          <a:graphicData uri="http://schemas.openxmlformats.org/drawingml/2006/table">
            <a:tbl>
              <a:tblPr/>
              <a:tblGrid>
                <a:gridCol w="4184640"/>
                <a:gridCol w="418464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(prevention) of human capital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to regular employment/ reti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‘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‘ human capital effects/ Improve Mo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ation of human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Signal to potential emplo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one‘s own initi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king-i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rage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economic 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ef of labour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 in infra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allocation of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on with privat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 and substitution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698040"/>
            <a:ext cx="77594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valuation Approach (1)</a:t>
            </a:r>
            <a:endParaRPr b="0" lang="en-US" sz="2400" spc="-1" strike="noStrike">
              <a:solidFill>
                <a:srgbClr val="000000"/>
              </a:solidFill>
              <a:latin typeface="MetaNormalLF-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8520" y="1429920"/>
            <a:ext cx="8346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ndard framework: model of potential outcomes (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ed for the case where programme is exposed once and at one specific point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rpose: Estimation of causal effect, e.g., average effect of treatment on the treated (ATT):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E(Y</a:t>
            </a:r>
            <a:r>
              <a:rPr b="0" i="1" lang="de-DE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|D=1)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has to be estimated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-533520">
              <a:lnSpc>
                <a:spcPct val="11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comprehensive ALMP systems, unemployed persons</a:t>
            </a:r>
            <a:endParaRPr b="0" lang="en-US" sz="22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e a number of different programs,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  <a:p>
            <a:pPr marL="533520" indent="0">
              <a:lnSpc>
                <a:spcPct val="110000"/>
              </a:lnSpc>
              <a:spcBef>
                <a:spcPts val="125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ld start at different points of time</a:t>
            </a:r>
            <a:endParaRPr b="0" lang="en-US" sz="2000" spc="-1" strike="noStrike">
              <a:solidFill>
                <a:srgbClr val="000000"/>
              </a:solidFill>
              <a:latin typeface="MetaNormalLF-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35080" y="3541680"/>
            <a:ext cx="488628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7:11:36Z</dcterms:created>
  <dc:creator>Michael Weiland</dc:creator>
  <dc:description/>
  <dc:language>en-US</dc:language>
  <cp:lastModifiedBy>fhe</cp:lastModifiedBy>
  <dcterms:modified xsi:type="dcterms:W3CDTF">2006-10-27T12:37:54Z</dcterms:modified>
  <cp:revision>75</cp:revision>
  <dc:subject/>
  <dc:title>PowerPoint-Präsentation</dc:title>
</cp:coreProperties>
</file>