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2A9F-D2EF-4E96-887C-56309C47A3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14E-4B0B-4400-8BB6-9DCA9841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C8C-6C90-47C0-BEBC-467439CB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E89-DA94-45C3-B35F-4D6845DD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EDA-3202-4D7E-8E26-1C49AAD3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E58-6FE8-4D06-ABA4-A3175AA2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6B6-CBAF-48F8-8240-83FD4C71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26A-0865-4346-8FC9-51A2CCF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BD3-FF2F-4511-9B8B-E3187023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A3E-3A14-40A6-BB9F-0556616B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055-6FE4-4355-9DB3-8E9FBF5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0B1-F7AB-417B-A174-8CC0586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C4D-C5F2-42CB-B245-5944CA85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84FF-F956-4FBE-AE6C-E80813ECF03E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3160" y="1542960"/>
            <a:ext cx="75297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ow Do Employment Effects of Job Creation Schemes Differ with Respect to the Foregoing Unemployment Duration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6120" y="4373640"/>
            <a:ext cx="622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hard H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iversity Frankfurt/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rd Conference on Evaluation Research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4640" y="348768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phan L. Thom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W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8520" y="1430280"/>
            <a:ext cx="836928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ition of non-participation is not straightforwar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ersons are potential non-participants as long as they do not join a programme or leave the labour market for work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until start of programme contains important information for the effects and has to be considere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 with respect to the starting point of programm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25480" y="4307040"/>
            <a:ext cx="56930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ameter answers the following question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is the impact at tim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participation in JCS for an individual that joined the programme in time t of the unemployment spell?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tive comparison of the estimated programme effects for the single points 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ausal interpretation of differences!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040" y="61272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 Evaluation Approach – Matching (4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560" y="1397160"/>
            <a:ext cx="829764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a: Conditioning on all relevant characteristics, X, to make both groups compar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must be observable!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senbaum/Rubin (1983): not the single X, bu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calar function, p(X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ensity scor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ing Assumption (Mean Conditional Independence Assumption for ATT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ynamic Setting (see Fitzenberger/Speckesser, 2005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36800" y="5384880"/>
          <a:ext cx="57006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5384880"/>
                    <a:ext cx="5700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46160" y="4309920"/>
          <a:ext cx="7140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6160" y="4309920"/>
                    <a:ext cx="7140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Data Set (1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 Samples of part. and non-part. (1:20):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l, Sep, Nov 00, Jan, Mar, May 01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 sourc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Participants’ Master Data S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b-Seekers Data Base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loyment Statistics Registe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vailable information (objective and subjective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o-demographics (e.g., age, gender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fication/career variables (e.g., schooling, occupation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history (e.g., duration of last job),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on regional labour mark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 variable: Regular employment (until Dec 03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Data Set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of the six samples are pooled (32,641 participants/ 1,104,664 non-participants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ation of time individuals spent in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younger than 25 years or older than 55 are excluded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tter homogeneity of group in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ment effects are analysed separately for East and West Germany and gender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rlin is excluded from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- Implementat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employment is discretised into quarters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=1,…,12=U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effects of JCS are analysed for programmes starting during the first three years of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effects are estimated until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30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imation of four series of 12 probit model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the first programme in the current unemployment spell is analysed, subsequent programmes are viewed as an outcome of the firs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4320" y="752040"/>
            <a:ext cx="7529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mployment Effects for Men (t=1, t=5, and t=9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440" y="1986120"/>
            <a:ext cx="2894040" cy="2103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70080" y="198288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32520" y="199224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54400" y="10796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9160" y="456876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090960" y="457524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059520" y="456876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81120" y="3940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8200" y="162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8200" y="1650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,30)= 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560" y="165744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,30)= 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" y="4233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25840" y="4264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0)= 1.0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96200" y="42703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9,30)= -.8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1748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for Women (t=1, t=5 and t=9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81840" y="4576680"/>
            <a:ext cx="2939760" cy="21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160" y="457524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102120" y="4575240"/>
            <a:ext cx="2939760" cy="2138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72120" y="198108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92160" y="198756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084480" y="198756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41880" y="10717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6840" y="3933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480" y="4233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25840" y="4264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0)= 2.3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96200" y="42703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9,30)= -1.6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320" y="162072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30)= -2.6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8680" y="165096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,30)= 1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9040" y="165744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,30)= 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gative employment effects when starting earl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sitive when starting after one or two years, but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 could not be established for all group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ast German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gative effects when starting earl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positive effects for any of the groups in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s differ by t (descriptive comparison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is associated with strong locking-in effec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who join after a short period of unemployment are worse off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s tend to be better for long-term unemployed peopl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grammes do not improve the re-employment chances of the participants compared to non-participation (in adequate time after start of programmes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ults indicate a low target-oriented allocation of unemployed persons into programm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b Creation Schemes in German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aluation Approach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ployment Effects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b Creation Schemes (JCS) are part of German ALMP since 1969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sidised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unemployed persons facing barriers to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-integration of participants into regular employment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5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sion of stable foundation a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alifications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tween 1997 and 2003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1.6 million participants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rresponding spending: about 23 billion Euro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epticism about effectivenes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components that improve human capital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gmatisa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ent empirical literature (e.g., Sianesi, 2004, Abbring/van den Berg, 2003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ing of treatment in the unemployment spell i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 for evaluating effec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all finding of previous empirical studi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CS do not improve the employment rate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ious empirical studies evaluating JCS do not account for the timing of the programme explicitly, bu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ing seems to be important for JC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ces should be analys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used for the analysis: merged data from administrative sources of Federal Employment Agency (FEA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aluation Approach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ensity Score Matching in Dynamic Setting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520200"/>
            <a:ext cx="77598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Job Creation Schem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8520" y="1163520"/>
            <a:ext cx="83469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jobs at public and non-commercial institutions for unemployed persons facing barriers to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ng-term unemploy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lder unemploy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ng unemployed without professional training/ apprenticeship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ial assistance (paid to the employer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ge subsidy of 30 to 75% (until 2003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ump sum payment (since 2002 optional/ 2004 mandatory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rmally 1 year, but for two and up to three year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Job Creation Schemes – Pre-Condition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jobs to be promot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tional in natur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the collective goo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priate to the problems of the regional labour marke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participan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long-term)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igible for unemployment insurance benefi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800" y="917640"/>
            <a:ext cx="819144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Expected/Possible Effects of Job Creation Schem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4120" y="1627200"/>
          <a:ext cx="8369280" cy="4280040"/>
        </p:xfrm>
        <a:graphic>
          <a:graphicData uri="http://schemas.openxmlformats.org/drawingml/2006/table">
            <a:tbl>
              <a:tblPr/>
              <a:tblGrid>
                <a:gridCol w="4184640"/>
                <a:gridCol w="418464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economic 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(prevention) of human capital (l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to regular employment/ ret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‘ human capital effects/ Improve 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ation of human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Signal to potential emplo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one‘s own initi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king-in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rage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economic 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ef of labour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 in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allocation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on with privat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 and substitution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1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ndard framework: model of potential outcomes (Y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ed for the case where programme is exposed once and at one specific point of tim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rpose: Estimation of causal effect, e.g., average effect of treatment on the treated (ATT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E(Y</a:t>
            </a:r>
            <a:r>
              <a:rPr b="0" i="1" lang="de-DE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|D=1)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has to be estimat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comprehensive ALMP systems, unemployed person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e a number of different programs,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start at different points of tim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35080" y="3541680"/>
            <a:ext cx="488628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he</cp:lastModifiedBy>
  <dcterms:modified xsi:type="dcterms:W3CDTF">2006-10-27T12:37:54Z</dcterms:modified>
  <cp:revision>75</cp:revision>
  <dc:subject/>
  <dc:title>PowerPoint-Präsentation</dc:title>
</cp:coreProperties>
</file>