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778-4853-47AF-8D88-A2773E3B9B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EC2-8F1C-4EDB-84C7-BBD5C2AF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0EC-E796-4448-BFDB-AE241DA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4D2-FAEA-4112-8CB3-D14B2E8F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E4D-E110-47BE-90AE-D0B32FA2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61A-98C3-4D34-9F80-7856F65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C39-C8A0-42A3-8262-BE7328E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AF2-A9EA-479C-ACE1-1A5CE18B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130-92D0-49E1-94A3-29D540B4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7B5-E58A-486D-BB1A-E29EBC2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091-617A-43B7-9C8D-5A71ACB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F41-B0EE-48D6-AD32-77416D8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D98-637F-4FD1-B81A-B5B7BFB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23EB-6558-4BF9-970A-6EB439A6B4A1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3160" y="1542960"/>
            <a:ext cx="75297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ow Do Employment Effects of Job Creation Schemes Differ with Respect to the Foregoing Unemployment Duratio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6120" y="4373640"/>
            <a:ext cx="62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hard H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versity Frankfurt/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rd Conference on Evaluation Research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4640" y="348768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phan L. Thom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W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520" y="1430280"/>
            <a:ext cx="836928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tion of non-participation is not straightforwar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ersons are potential non-participants as long as they do not join a programme or leave the labour market for wor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until start of programme contains important information for the effects and has to be considere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 with respect to the starting point of programm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25480" y="4307040"/>
            <a:ext cx="56930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ameter answers the following question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impact at tim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participation in JCS for an individual that joined the programme in time t of the unemployment spell?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tive comparison of the estimated programme effects for the single points 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ausal interpretation of differences!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6127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Evaluation Approach – Matching (4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397160"/>
            <a:ext cx="829764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a: Conditioning on all relevant characteristics, X, to make both groups compar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must be observable!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senbaum/Rubin (1983): not the single X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alar function, p(X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ensity scor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ing Assumption (Mean Conditional Independence Assumption for 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ynamic Setting (see Fitzenberger/Speckesser, 2005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36800" y="5384880"/>
          <a:ext cx="57006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5384880"/>
                    <a:ext cx="5700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6160" y="4309920"/>
          <a:ext cx="7140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4309920"/>
                    <a:ext cx="7140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 Samples of part. and non-part. (1:20)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l, Sep, Nov 00, Jan, Mar, May 01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sourc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Participants’ Master 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b-Seekers Data Base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loyment Statistics Regist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ailable information (objective and subjective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o-demographics (e.g., age, gender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fication/career variables (e.g., schooling, occupation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history (e.g., duration of last job),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on regional labour mark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 variable: Regular employment (until Dec 03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of the six samples are pooled (32,641 participants/ 1,104,664 non-participant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of time individuals spent in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younger than 25 years or older than 55 are excluded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tter homogeneity of group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ment effects are analysed separately for East and West Germany and gende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rlin is excluded from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- Implement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mployment is discretised into quart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=1,…,12=U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of JCS are analysed for programmes starting during the first three years of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are estimated until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ation of four series of 12 probit model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the first programme in the current unemployment spell is analysed, subsequent programmes are viewed as an outcome of the firs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4320" y="752040"/>
            <a:ext cx="7529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mployment Effects for Men (t=1, t=5,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440" y="1986120"/>
            <a:ext cx="2894040" cy="2103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70080" y="19828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32520" y="199224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54400" y="10796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9160" y="45687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0909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59520" y="45687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81120" y="3940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8200" y="162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8200" y="1650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56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1.0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.8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1748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for Women (t=1, t=5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1840" y="457668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1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102120" y="457524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72120" y="19810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92160" y="19875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084480" y="19875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41880" y="1071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6840" y="39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2.3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1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" y="162072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30)= -2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8680" y="165096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1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904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mployment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itive when starting after one or two years, but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 could not be established for all group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positive effects for any of the groups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s differ by t (descriptive comparison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s associated with strong locking-in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who join after a short period of unemployment are worse off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s tend to be better for long-term unemployed peopl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grammes do not improve the re-employment chances of the participants compared to non-participation (in adequate time after start of programme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ults indicate a low target-oriented allocation of unemployed persons into programm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b Creation Schemes in German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 Approa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loyment Effect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b Creation Schemes (JCS) are part of German ALMP since 1969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sidised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-integration of participants into regular employment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5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sion of stable foundation 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alifications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tween 1997 and 2003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1.6 million 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rresponding spending: about 23 billion Euro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epticism about effectivenes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components that improve human capital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gmatis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ent empirical literature (e.g., Sianesi, 2004, Abbring/van den Berg, 2003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of treatment in the unemployment spell i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 for evaluating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all finding of previous empirical studi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CS do not improve the employment rat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ious empirical studies evaluating JCS do not account for the timing of the programme explicitly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seems to be important for JC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s should be analys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used for the analysis: merged data from administrative sources of Federal Employment Agency (FEA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 Approach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ensity Score Matching in Dynamic Setting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520200"/>
            <a:ext cx="77598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520" y="1163520"/>
            <a:ext cx="83469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jobs at public and non-commercial institutions 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ng-term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lder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ng unemployed without professional training/ apprenticeship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al assistance (paid to the employer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ge subsidy of 30 to 75% (until 2003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ump sum payment (since 2002 optional/ 2004 mandatory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rmally 1 year, but for two and up to three year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 – Pre-Condition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jobs to be promo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ional in natur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the collective goo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priate to the problems of the regional labour marke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participan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long-term)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gible for unemployment insurance benefi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800" y="917640"/>
            <a:ext cx="819144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Expected/Possible Effects of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4120" y="1627200"/>
          <a:ext cx="8369280" cy="4280040"/>
        </p:xfrm>
        <a:graphic>
          <a:graphicData uri="http://schemas.openxmlformats.org/drawingml/2006/table">
            <a:tbl>
              <a:tblPr/>
              <a:tblGrid>
                <a:gridCol w="4184640"/>
                <a:gridCol w="418464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(prevention) of human capital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to regular employment/ ret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‘ human capital effects/ Improve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ation of human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Signal to potential emplo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one‘s own initi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ing-i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rage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f of labour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 in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allo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on with privat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and substitutio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ndard framework: model of potential outcomes (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ed for the case where programme is exposed once and at one specific point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Estimation of causal effect, e.g., average effect of treatment on the treated (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E(Y</a:t>
            </a:r>
            <a:r>
              <a:rPr b="0" i="1" lang="de-DE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|D=1)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has to be estima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omprehensive ALMP systems, unemployed person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e a number of different programs,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start at different points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35080" y="3541680"/>
            <a:ext cx="488628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2:37:54Z</dcterms:modified>
  <cp:revision>75</cp:revision>
  <dc:subject/>
  <dc:title>PowerPoint-Präsentation</dc:title>
</cp:coreProperties>
</file>