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50"/>
              </a:spcBef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50"/>
              </a:spcBef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13 May 2006(</a:t>
            </a:r>
            <a:fld id="{E409F700-C145-4768-91CE-BBE69B4B9799}" type="slidenum">
              <a:rPr b="1" lang="en-US" sz="8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r>
              <a:rPr b="1" lang="en-US" sz="800" spc="-1" strike="noStrike">
                <a:solidFill>
                  <a:srgbClr val="5f5f5f"/>
                </a:solidFill>
                <a:latin typeface="Times New Roman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84360" y="6308640"/>
            <a:ext cx="387360" cy="317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172360" y="6345360"/>
            <a:ext cx="358920" cy="2984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4211640" y="6308640"/>
            <a:ext cx="100800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imating the impact of a policy reform on welfare participation: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br>
              <a:rPr sz="1800"/>
            </a:b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The 2001 extension to the </a:t>
            </a:r>
            <a:br>
              <a:rPr sz="2800"/>
            </a:b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Minimum Income Guarantee for UK pension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3284640"/>
            <a:ext cx="74674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teve Pudne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rancesca Zantom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nstitute for Social &amp; Economic Research, University of Es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uth Hancoc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partment of Health &amp; Human Sciences, University of Es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00000" y="476280"/>
          <a:ext cx="7344000" cy="5545080"/>
        </p:xfrm>
        <a:graphic>
          <a:graphicData uri="http://schemas.openxmlformats.org/drawingml/2006/table">
            <a:tbl>
              <a:tblPr/>
              <a:tblGrid>
                <a:gridCol w="1322640"/>
                <a:gridCol w="1290600"/>
                <a:gridCol w="1208160"/>
                <a:gridCol w="1176120"/>
                <a:gridCol w="1211400"/>
                <a:gridCol w="1135080"/>
              </a:tblGrid>
              <a:tr h="3826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 recipients, entitled non recipients and caseload take-up rate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Fema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Recipi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housands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20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of Entitled non Recipient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20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-1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1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-4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-7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1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-3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-6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2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-1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-4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8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load Take-up Range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20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-7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-7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-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-7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6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7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-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-7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-6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-7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-7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-7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anges are 95% confidence interval to reflect sampling error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 source: DWP (200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33B1C-326B-41BD-AEAB-B78A92B9109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he evaluation problem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ubin-type evaluation methods require an experimental implementation and a comparison group outside the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Limit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ssume a limited number of policy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 non-universalist approach to policy that allows small-scale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In the UK experiments are rare because these conditions aren’t fulfi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lots of policy options are considered in advance of r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there is a centralised or universalist approach to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policy is designed with a very short time horizon – by the time an experiment would be designed, implemented &amp; evaluated, government has lost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The dominant approach remains “behavioural” modelling, which allows generalisation from past experience to hypothetical new policy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aises issues 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specification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other modelling problems, such as measurement err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383F9-FD3C-482A-B0C6-3E1F0272FA6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ur evaluation probl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want to identify the average treatment effect  of the reform on the take-up of the t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ere can be no “control” group si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all before-reform eligible people were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on-eligible people have no take-up behaviour to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for any pensioner we observe the take-up behaviour only under one benefit regime (either before or after the reform)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573360"/>
            <a:ext cx="217440" cy="505080"/>
          </a:xfrm>
          <a:prstGeom prst="downArrow">
            <a:avLst>
              <a:gd name="adj1" fmla="val 50000"/>
              <a:gd name="adj2" fmla="val 58071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76640"/>
            <a:ext cx="91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Selection on observables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” approach: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re-reform interviewed pensionersare are matched in terms of pre-reform and post reform entitlements (and demographic characteristics) to post-reform interviewed pensioners and used as conterfactual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712BD-1C64-4B42-9BC2-C414766291B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mily Resources Survey Da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Annual cross-section surveys for Department for Work &amp; Pensions (DW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2 years’ data, for </a:t>
            </a:r>
            <a:r>
              <a:rPr b="0" i="1" lang="en-GB" sz="22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 = 0 (FY 2000/1) &amp; 1 (FY 2001/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Pensioner units at least 5 years over state retirement age, in single unit hholds, without mortgages/earned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Extensive data cleaning of benefits data to minimize the scope for measurement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Benefit entitlement is simulated under the pre-reform rules and post-reform ru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Final sample of entitled pensioners contains </a:t>
            </a:r>
            <a:r>
              <a:rPr b="0" i="1" lang="en-GB" sz="2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 = 845 in 2000/1 &amp; </a:t>
            </a:r>
            <a:r>
              <a:rPr b="0" i="1" lang="en-GB" sz="2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 = 756 in 2001/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A72BA-5367-415B-B3A8-4567E417EC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Entitlement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= amount of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Book Antiqua"/>
              </a:rPr>
              <a:t>simulated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MIG entitlement in circumstances of yea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under benefit system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ake-up outcome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=  binary indicator of take-up status that would be observed in circumstances of yea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under benefit system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. 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is only meaningful if true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Survey response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binary indicator of survey response that would be encountered in yea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if selected for inter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We obser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{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1}  fo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ree population grou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eople ineligible before &amp; after reform  (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= 0 ,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eople ineligible before &amp; eligible after  (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= 0 ,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eople eligible before &amp; after  (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&gt; 0 ,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Our concern is with response to change in generosity of the benefit system, so we concentrate on group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C502D-3AD6-4CBB-96C6-418C0455DD0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16360" y="711000"/>
            <a:ext cx="102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Change i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take-up rate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003640" y="105264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75" name=""/>
          <p:cNvGraphicFramePr/>
          <p:nvPr/>
        </p:nvGraphicFramePr>
        <p:xfrm>
          <a:off x="0" y="0"/>
          <a:ext cx="9144000" cy="6372360"/>
        </p:xfrm>
        <a:graphic>
          <a:graphicData uri="http://schemas.openxmlformats.org/drawingml/2006/table">
            <a:tbl>
              <a:tblPr/>
              <a:tblGrid>
                <a:gridCol w="2546280"/>
                <a:gridCol w="1041480"/>
                <a:gridCol w="1041480"/>
                <a:gridCol w="1042920"/>
                <a:gridCol w="1155600"/>
                <a:gridCol w="1158840"/>
                <a:gridCol w="1157400"/>
              </a:tblGrid>
              <a:tr h="604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Empirical take-up rates, pre- and post-reform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standard errors in parentheses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Population group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Pre-reform 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0/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Post-reform 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1/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Mea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0/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Mea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1/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hange in mea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 189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8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57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5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07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5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4.6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73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8.21 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85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.5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54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, at least on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57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3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57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6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1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8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03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0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7.2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4.74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1.37  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5.34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.1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7.14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below 7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66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86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868  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5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00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7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6.4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74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2.3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3.68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5.8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4.08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70-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06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9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3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83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20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6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6.1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663 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9.4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10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3.2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68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75-7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16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1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90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73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04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5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4.5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39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8.60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05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4.0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48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80 or abov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15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8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3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58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-0.05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8.56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25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8.8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00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3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60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 at least one aged above 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57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4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49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6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31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7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-0.18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9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9.5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3.93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1.2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4.24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1.6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5.78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 both below 74, one below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8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44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2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476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1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6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8.6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0.48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52.0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8.92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.3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3.77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 both below 74, one above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1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38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0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70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9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4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5.6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1.78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7.7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7.02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2.0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3.71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All group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845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7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2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1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56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1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03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2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5.7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91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3.3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94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7.5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31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F515A-27CB-40C8-AC87-70DBF164EE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assump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549000"/>
            <a:ext cx="755784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rude change in take-up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6192720" cy="768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1700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usal impact of reform: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3602160" cy="801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2852640"/>
            <a:ext cx="7417080" cy="34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ssumptions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1 conditionally ignorable non-responc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1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  fo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and all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 where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=  (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2 no counfunding macro level changes, conditional on W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2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) independent of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fo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and all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Under these assumptions: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rcRect l="0" t="0" r="0" b="49727"/>
          <a:stretch/>
        </p:blipFill>
        <p:spPr>
          <a:xfrm>
            <a:off x="1692360" y="5445000"/>
            <a:ext cx="5832360" cy="623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87700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 causal effect + effect of change in distribution of covariate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380E2-6737-44E2-BC33-C4DE5AA8E18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ing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424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Matching on variables, not PSM: “selection” into year 0 &amp; year 1 samples is random so no confounding except for non-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tratification on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Xt (sex, age, marital status, dis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2592360" cy="882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2997360"/>
            <a:ext cx="73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85264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earest neighbour algorithm, distance minimization: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3392640" cy="458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352764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3960720" cy="34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221000"/>
            <a:ext cx="86407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Mahalanobis distance measure on (B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, B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matching with replacement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caliper options: reject matches breaching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788000" y="5084640"/>
            <a:ext cx="1511280" cy="4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54B15-2B07-4944-A206-64AE8DBB346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Matching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836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tratum </a:t>
            </a:r>
            <a:r>
              <a:rPr b="0" i="1" lang="it-IT" sz="2400" spc="-1" strike="noStrike">
                <a:solidFill>
                  <a:srgbClr val="000000"/>
                </a:solidFill>
                <a:latin typeface="Book Antiqua"/>
              </a:rPr>
              <a:t>k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estimator for change in take-up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3311640" cy="804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71640" y="342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verall estimator of the reform-induced chang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2016360" cy="105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42920" y="2421000"/>
            <a:ext cx="68486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7280" y="5229360"/>
            <a:ext cx="513576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D18F4-E56A-40EC-9827-BAC11019E2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940120" y="1844640"/>
            <a:ext cx="289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Impact with 2000/1 characteristics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211640" y="1484280"/>
          <a:ext cx="1872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1872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893200" y="1844640"/>
            <a:ext cx="289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Impact with 2001/2 characteristics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236000" y="1484280"/>
          <a:ext cx="19044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484280"/>
                    <a:ext cx="1904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50920" y="765000"/>
          <a:ext cx="8713800" cy="5529240"/>
        </p:xfrm>
        <a:graphic>
          <a:graphicData uri="http://schemas.openxmlformats.org/drawingml/2006/table">
            <a:tbl>
              <a:tblPr/>
              <a:tblGrid>
                <a:gridCol w="2652480"/>
                <a:gridCol w="757440"/>
                <a:gridCol w="757080"/>
                <a:gridCol w="757440"/>
                <a:gridCol w="758880"/>
                <a:gridCol w="757080"/>
                <a:gridCol w="757080"/>
                <a:gridCol w="758880"/>
                <a:gridCol w="757440"/>
              </a:tblGrid>
              <a:tr h="7315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estimates with and without demographic stratification and caliper options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andard errors in parentheses)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per: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2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2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strata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singles, couple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3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strata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singles by gender, couple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9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9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0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strata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demographic group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arital status, age, disability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stratification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0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4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9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627280" y="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43999-9F37-43D0-B2FF-2B1069CBB4A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r>
              <a:rPr b="1" lang="en-GB" sz="36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The MIG system and the 2001 r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Data and entitlements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1FA43-B5E6-4B77-B8EB-BF0A18F9484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6680" y="836640"/>
            <a:ext cx="31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stimate of impact with 2000/1 characteristics: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12000" y="907920"/>
          <a:ext cx="199800" cy="2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907920"/>
                    <a:ext cx="19980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50920" y="3716280"/>
            <a:ext cx="48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stimate of impact with 2001/2 characteristics: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940360" y="3716280"/>
          <a:ext cx="19044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716280"/>
                    <a:ext cx="1904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9280" y="260280"/>
          <a:ext cx="8964720" cy="6019920"/>
        </p:xfrm>
        <a:graphic>
          <a:graphicData uri="http://schemas.openxmlformats.org/drawingml/2006/table">
            <a:tbl>
              <a:tblPr/>
              <a:tblGrid>
                <a:gridCol w="1340280"/>
                <a:gridCol w="216000"/>
                <a:gridCol w="925200"/>
                <a:gridCol w="1225800"/>
                <a:gridCol w="1092600"/>
                <a:gridCol w="1049040"/>
                <a:gridCol w="863280"/>
                <a:gridCol w="1191240"/>
                <a:gridCol w="1061280"/>
              </a:tblGrid>
              <a:tr h="51120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estimates by increase in entitlement, with and without stratifi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andard errors in parentheses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of increase i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cas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atched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stratifi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£10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38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6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6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51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5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75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93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£10-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68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71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5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0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0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£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61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0 (0.145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4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0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of increase i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cas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atched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stratifi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£10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66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4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5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£10-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71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5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42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5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49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1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£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0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2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 (0.09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99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1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01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AFB42-B19A-4864-B4E2-789B04818C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620640"/>
          <a:ext cx="6769440" cy="571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6769440" cy="57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79280" y="0"/>
            <a:ext cx="89647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Matching quality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rcentage of cases matched  with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) &lt; threshold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F11C6-5E5C-404B-85CD-94ED3E2C603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arametric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3240000" cy="46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3887640" cy="490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4941720"/>
            <a:ext cx="4537080" cy="48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360" y="17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robit mod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70828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dicted change in the take-up rate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eg When i is sampled in 2000/1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BEEF3-E7AE-4663-B536-ACE3BCEA741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87280" y="4076640"/>
          <a:ext cx="200160" cy="2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76640"/>
                    <a:ext cx="20016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87280" y="1916280"/>
          <a:ext cx="20016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91628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87280" y="2637000"/>
          <a:ext cx="20016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263700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87280" y="5734080"/>
          <a:ext cx="2001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573408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7280" y="1413000"/>
          <a:ext cx="200160" cy="25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7280" y="141300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87280" y="4581360"/>
          <a:ext cx="200160" cy="2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581360"/>
                    <a:ext cx="20016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7280" y="5300640"/>
          <a:ext cx="200160" cy="25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87280" y="530064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87280" y="3068640"/>
          <a:ext cx="200160" cy="257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87280" y="306864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68360" y="333360"/>
          <a:ext cx="8351640" cy="6062760"/>
        </p:xfrm>
        <a:graphic>
          <a:graphicData uri="http://schemas.openxmlformats.org/drawingml/2006/table">
            <a:tbl>
              <a:tblPr/>
              <a:tblGrid>
                <a:gridCol w="1668240"/>
                <a:gridCol w="1671840"/>
                <a:gridCol w="1670040"/>
                <a:gridCol w="1671480"/>
                <a:gridCol w="1670040"/>
              </a:tblGrid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ric results: Predicted change in take-up rate (standard errors in parentheses) 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of increase i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£10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£10-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£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te probits for each year, whole sample, full covariates se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8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6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8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2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2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3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te probits for each year, whole sample; same regressors as stratification variables in non parametric analysi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6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6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7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8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3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7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E84E8-5A02-48B2-8D2E-E1458DAF0C1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Even without a real or natural experiment or a control group, it is worth trying to use nonparametric matching methods as a complement to parametric simul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e take-up of MIG was significantly increased by the 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e effect was particularly large for those with largest potential gains from claim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Overall, a conventional probit take-up model for the 2001 MIG reform for UK pensioners works OK compared to the nonparametric results; but there is some evidence of probit under-prediction of the response to reform by people facing large gains – with potentially important welfare i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Nex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8052E-2002-4ED0-B810-87B77F8BA6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C5B21-9F31-4EC0-8E1F-47584DBDF9E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24000" y="1448280"/>
            <a:ext cx="7920000" cy="4681080"/>
            <a:chOff x="324000" y="1448280"/>
            <a:chExt cx="7920000" cy="4681080"/>
          </a:xfrm>
        </p:grpSpPr>
        <p:sp>
          <p:nvSpPr>
            <p:cNvPr id="156" name=""/>
            <p:cNvSpPr/>
            <p:nvPr/>
          </p:nvSpPr>
          <p:spPr>
            <a:xfrm>
              <a:off x="684000" y="5589360"/>
              <a:ext cx="73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84000" y="1448280"/>
              <a:ext cx="0" cy="41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4000" y="432900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65080" y="3788640"/>
              <a:ext cx="0" cy="540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5080" y="3788640"/>
              <a:ext cx="197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44000" y="378864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744000" y="2528280"/>
              <a:ext cx="0" cy="1260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44000" y="2528280"/>
              <a:ext cx="36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4000" y="4689000"/>
              <a:ext cx="540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83640" y="468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24000" y="4509000"/>
              <a:ext cx="198000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re-reform period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4000" y="4149000"/>
              <a:ext cx="108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044000" y="3788640"/>
              <a:ext cx="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4000" y="3968640"/>
              <a:ext cx="161892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ublicity effect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924000" y="252828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24000" y="342864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24000" y="3068280"/>
              <a:ext cx="162000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form effect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744000" y="216828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4360" y="216828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64360" y="1988280"/>
              <a:ext cx="216000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ost-reform period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64720" y="3428640"/>
              <a:ext cx="17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64000" y="3428640"/>
              <a:ext cx="1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4000" y="3248640"/>
              <a:ext cx="162000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ublicity campaign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64360" y="5589360"/>
              <a:ext cx="107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1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4000" y="1627920"/>
              <a:ext cx="360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Take-up propensity</a:t>
              </a:r>
              <a:endParaRPr b="0" lang="en-US" sz="11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42920" y="260280"/>
            <a:ext cx="763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26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2000 MIG publicity campaign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A4A68-F7E8-4EDA-B2D6-360BE7EB64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765000"/>
          <a:ext cx="9143640" cy="4968720"/>
        </p:xfrm>
        <a:graphic>
          <a:graphicData uri="http://schemas.openxmlformats.org/drawingml/2006/table">
            <a:tbl>
              <a:tblPr/>
              <a:tblGrid>
                <a:gridCol w="2837160"/>
                <a:gridCol w="920160"/>
                <a:gridCol w="1182240"/>
                <a:gridCol w="917640"/>
                <a:gridCol w="920160"/>
                <a:gridCol w="1184040"/>
                <a:gridCol w="1182240"/>
              </a:tblGrid>
              <a:tr h="3826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ance of covariates with pair matching, no caliper, no stratification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0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with 2000/1 characteristic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treat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matched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Reduction in Absolute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before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after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5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.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with 2001/2 characteristic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treat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matched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Reduction in Absolute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before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after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9E5F2-3D31-4399-9F19-EA9223084E3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403280" y="0"/>
          <a:ext cx="6121080" cy="6453000"/>
        </p:xfrm>
        <a:graphic>
          <a:graphicData uri="http://schemas.openxmlformats.org/drawingml/2006/table">
            <a:tbl>
              <a:tblPr/>
              <a:tblGrid>
                <a:gridCol w="2077560"/>
                <a:gridCol w="973440"/>
                <a:gridCol w="942120"/>
                <a:gridCol w="1001520"/>
                <a:gridCol w="1126440"/>
              </a:tblGrid>
              <a:tr h="520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Take-up Probit estimates for single pensioners 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full covariates set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0/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1/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ress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wne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44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6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7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7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9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4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4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 work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8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 incom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.5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0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8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likelihoo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5.78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30.64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for parameter stability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=14.0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06327-CF03-484B-8818-A8D2D75D81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187280" y="0"/>
          <a:ext cx="6480000" cy="6453000"/>
        </p:xfrm>
        <a:graphic>
          <a:graphicData uri="http://schemas.openxmlformats.org/drawingml/2006/table">
            <a:tbl>
              <a:tblPr/>
              <a:tblGrid>
                <a:gridCol w="2213280"/>
                <a:gridCol w="1066680"/>
                <a:gridCol w="1016640"/>
                <a:gridCol w="1116720"/>
                <a:gridCol w="1066680"/>
              </a:tblGrid>
              <a:tr h="3596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 Probit estimates for pensioners couples full covariates set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0/2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1/2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vari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wne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6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94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bled hea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6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9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bled spous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1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 worked hea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 worked spous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’s education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use’s edu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0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 incom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9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9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 R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5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1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likelihoo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9.4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6.0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for parameter stability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)=13.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FBAFD-F96E-4F99-9BAB-93DE31E600B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on take-up”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People are observed NOT to claim means-tested welfare benefits to which they are entitl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ake-up rate measur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by caseload:  # claimants / # entitled benefit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by proportion of claimed government expendi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e phenomenon seem to be particulary severe for pensioners in the 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49AD2-E6CB-4458-B149-3BF3C0E8B22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042920" y="0"/>
          <a:ext cx="6841800" cy="6381360"/>
        </p:xfrm>
        <a:graphic>
          <a:graphicData uri="http://schemas.openxmlformats.org/drawingml/2006/table">
            <a:tbl>
              <a:tblPr/>
              <a:tblGrid>
                <a:gridCol w="2880000"/>
                <a:gridCol w="1066680"/>
                <a:gridCol w="933840"/>
                <a:gridCol w="1066680"/>
                <a:gridCol w="894600"/>
              </a:tblGrid>
              <a:tr h="538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Take-up probit estimates for pensioners 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tratification variables in non parametric analysis used as covariates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0/2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1/2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vari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0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, at least on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31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9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aged below 7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82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72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aged 70-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0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aged 75-7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 at least one aged over 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38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85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2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 both below 74, one below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7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0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 both below 74, one over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47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59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9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 R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likelihoo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15.97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44.05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w test for parameters stability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 = 16.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0CEAF-38B5-4578-B9B4-D6D5530FA9E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42920" y="1700280"/>
            <a:ext cx="7129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(i, j) = (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0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− 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1j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’V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0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− 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1j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A8FB8-525C-404F-889B-0CFD2BD098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UK Pensioners Take-up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2 million pensioners living in low income househo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Government commitment to ensure a decent income in retir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Welfare benefits (incl. state pension) make up the entire income of 15 % of pensio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Still between a quarter and a third of entitled pensioners do not claim income sup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Policy relev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12A9C-0F6E-4AB7-B270-2B5F9D88480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on take-up” rationa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Qualitative research (Costigan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et al.,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1999; CAG, 2002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suggests that welfare participation involves </a:t>
            </a: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claiming costs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due to</a:t>
            </a: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nformation and transaction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ignorance of the existence of th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 algn="ctr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insufficient knowledge of the administrative procedures or entitlement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language difficul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troubles in filling the forms and gathering required information and document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time, hassl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ntangible social stigma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distatste for welfare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self-humiliating fe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fear of stigmatisation from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fear of losing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3FD2C-DF6E-4AC7-883F-D74E0D6B612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Take-up” literatu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Social sciences literatures exploring various aspects of take-up behaviour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(Kerr,1982; Hirsh and Rank 1999; Kayser and Frick,2001; Castranove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et al.,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Economic literature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(Moffit,1983; Blundell et al., 1988; Duclos, 1995; Pudney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et al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., 2006; Hernandez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et al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.,200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Claiming as utility maximizing choice: expected benefit vs claiming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Entitlement amount acts as positive incentive to take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Econometric approach:entitlemnts simulation and parametric modelling of take-up probability, estimation of stigma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58C20-60A5-4792-AAA4-CAF7B5878F2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Our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Use of a policy change to pensioners income support system  to </a:t>
            </a: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identify the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impact of variation in entitlement on the take-up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Non parametric analysis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(misspec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Comparison with traditional parametric appro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Family Resorces Survey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(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samples of pensioners interviewed before and after the reform came into fo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38482-9D54-4C14-ADB7-C21DAB9C618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 Minimum Income Guarantee (MIG)</a:t>
            </a:r>
            <a:br>
              <a:rPr sz="3200"/>
            </a:b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Income support for pensioners (60+), 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income and asset-tested</a:t>
            </a:r>
            <a:r>
              <a:rPr b="0" lang="it-IT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247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brings income up to a minimum level, B = G(X) –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withdrawn at 100% as income r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MIG in 2000/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ssets between £3,000 &amp; £8,000 converted to notional in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no eligibility if assets &gt; £8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system of age-related ad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Reformed system in 2001/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real increase in guarante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bolition of age ad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sset limits raised to (£6,000, £12,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Every eligible pensioner gained;  some became newly-e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39D4A-F7BD-4834-944E-106BE04DFD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84360" y="1125360"/>
          <a:ext cx="3809880" cy="4751640"/>
        </p:xfrm>
        <a:graphic>
          <a:graphicData uri="http://schemas.openxmlformats.org/drawingml/2006/table">
            <a:tbl>
              <a:tblPr/>
              <a:tblGrid>
                <a:gridCol w="1380960"/>
                <a:gridCol w="1166760"/>
                <a:gridCol w="126216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owances and Premium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allowanc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2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9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r 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0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Pensioner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6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4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Pensioner 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8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 limi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-8,000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53964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E-REFORM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43280" y="1125360"/>
          <a:ext cx="3810240" cy="4735800"/>
        </p:xfrm>
        <a:graphic>
          <a:graphicData uri="http://schemas.openxmlformats.org/drawingml/2006/table">
            <a:tbl>
              <a:tblPr/>
              <a:tblGrid>
                <a:gridCol w="1381320"/>
                <a:gridCol w="1166760"/>
                <a:gridCol w="126216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owances and Premium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allowanc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0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2.21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2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1.93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r 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.48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6.39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Pensione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mium.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.48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6.39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Pensioner Premui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.48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6.39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 limi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00-12,00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788000" y="189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OST-REFORM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D6384-C879-46EF-B7AF-1FE2542D85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6T12:38:10Z</dcterms:created>
  <dc:creator>Computer Centre</dc:creator>
  <dc:description/>
  <dc:language>en-US</dc:language>
  <cp:lastModifiedBy>Your User Name</cp:lastModifiedBy>
  <dcterms:modified xsi:type="dcterms:W3CDTF">2006-10-27T19:09:55Z</dcterms:modified>
  <cp:revision>168</cp:revision>
  <dc:subject/>
  <dc:title>New Sampling Procedures  for NEW-ADAM</dc:title>
</cp:coreProperties>
</file>