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50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50"/>
              </a:spcBef>
              <a:buClr>
                <a:srgbClr val="5f5f5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50"/>
              </a:spcBef>
              <a:buClr>
                <a:srgbClr val="5f5f5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13 May 2006(</a:t>
            </a:r>
            <a:fld id="{4F6CC711-B65A-45C1-99C8-ACD06EACE5A8}" type="slidenum">
              <a:rPr b="1" lang="en-US" sz="8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r>
              <a:rPr b="1" lang="en-US" sz="800" spc="-1" strike="noStrike">
                <a:solidFill>
                  <a:srgbClr val="5f5f5f"/>
                </a:solidFill>
                <a:latin typeface="Times New Roman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84360" y="6308640"/>
            <a:ext cx="387360" cy="3175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172360" y="6345360"/>
            <a:ext cx="358920" cy="2984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4211640" y="6308640"/>
            <a:ext cx="100800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timating the impact of a policy reform on welfare participation: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000"/>
            </a:br>
            <a:br>
              <a:rPr sz="1800"/>
            </a:b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The 2001 extension to the </a:t>
            </a:r>
            <a:br>
              <a:rPr sz="2800"/>
            </a:b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Minimum Income Guarantee for UK pension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280" y="3284640"/>
            <a:ext cx="74674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teve Pudne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rancesca Zantom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nstitute for Social &amp; Economic Research, University of Es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Ruth Hancoc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partment of Health &amp; Human Sciences, University of Es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900000" y="476280"/>
          <a:ext cx="7344000" cy="5545080"/>
        </p:xfrm>
        <a:graphic>
          <a:graphicData uri="http://schemas.openxmlformats.org/drawingml/2006/table">
            <a:tbl>
              <a:tblPr/>
              <a:tblGrid>
                <a:gridCol w="1322640"/>
                <a:gridCol w="1290600"/>
                <a:gridCol w="1208160"/>
                <a:gridCol w="1176120"/>
                <a:gridCol w="1211400"/>
                <a:gridCol w="1135080"/>
              </a:tblGrid>
              <a:tr h="3826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 recipients, entitled non recipients and caseload take-up rates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Fema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Recipi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thousands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200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/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 of Entitled non Recipients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200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-1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1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-4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-7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/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-1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-14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-38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-6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2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-1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-48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-8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eload Take-up Range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200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-7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-79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-8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-78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/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69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-7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-8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-7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-6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-7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-7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-7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Ranges are 95% confidence interval to reflect sampling error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 source: DWP (2004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96B94-8DE7-40B4-8434-0C56414AD06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he evaluation problem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ubin-type evaluation methods require an experimental implementation and a comparison group outside the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Limit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assume a limited number of policy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a non-universalist approach to policy that allows small-scale experi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In the UK experiments are rare because these conditions aren’t fulfi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lots of policy options are considered in advance of r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there is a centralised or universalist approach to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policy is designed with a very short time horizon – by the time an experiment would be designed, implemented &amp; evaluated, government has lost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The dominant approach remains “behavioural” modelling, which allows generalisation from past experience to hypothetical new policy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aises issues 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specification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other modelling problems, such as measurement err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05441-51C4-48EA-9B16-FC303982E00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ur evaluation proble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want to identify the average treatment effect  of the reform on the take-up of the t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there can be no “control” group si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all before-reform eligible people were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on-eligible people have no take-up behaviour to stu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for any pensioner we observe the take-up behaviour only under one benefit regime (either before or after the reform)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3573360"/>
            <a:ext cx="217440" cy="505080"/>
          </a:xfrm>
          <a:prstGeom prst="downArrow">
            <a:avLst>
              <a:gd name="adj1" fmla="val 50000"/>
              <a:gd name="adj2" fmla="val 58071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076640"/>
            <a:ext cx="914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Selection on observables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” approach: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Pre-reform interviewed pensionersare are matched in terms of pre-reform and post reform entitlements (and demographic characteristics) to post-reform interviewed pensioners and used as conterfactual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4EDAD-B065-40D3-B728-8AF281E8DB5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mily Resources Survey Dat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Annual cross-section surveys for Department for Work &amp; Pensions (DW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2 years’ data, for </a:t>
            </a:r>
            <a:r>
              <a:rPr b="0" i="1" lang="en-GB" sz="22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 = 0 (FY 2000/1) &amp; 1 (FY 2001/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Pensioner units at least 5 years over state retirement age, in single unit hholds, without mortgages/earned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Extensive data cleaning of benefits data to minimize the scope for measurement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Benefit entitlement is simulated under the pre-reform rules and post-reform ru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Final sample of entitled pensioners contains </a:t>
            </a:r>
            <a:r>
              <a:rPr b="0" i="1" lang="en-GB" sz="22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 = 845 in 2000/1 &amp; </a:t>
            </a:r>
            <a:r>
              <a:rPr b="0" i="1" lang="en-GB" sz="22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 = 756 in 2001/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FC767-373F-483B-AAE1-A30E9F48A97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Entitlement: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= amount of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Book Antiqua"/>
              </a:rPr>
              <a:t>simulated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MIG entitlement in circumstances of yea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 under benefit system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ake-up outcome: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=  binary indicator of take-up status that would be observed in circumstances of yea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 under benefit system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.  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is only meaningful if true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Survey response: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binary indicator of survey response that would be encountered in yea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if selected for inter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We obser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{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,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|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1}  fo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Three population grou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People ineligible before &amp; after reform  (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= 0 , 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People ineligible before &amp; eligible after  (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= 0 , 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People eligible before &amp; after  (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&gt; 0 , 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Our concern is with response to change in generosity of the benefit system, so we concentrate on group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8F75D-4B9E-4F01-983B-BADB04DADE0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716360" y="711000"/>
            <a:ext cx="102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Change i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take-up rate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003640" y="105264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Δ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75" name=""/>
          <p:cNvGraphicFramePr/>
          <p:nvPr/>
        </p:nvGraphicFramePr>
        <p:xfrm>
          <a:off x="0" y="0"/>
          <a:ext cx="9144000" cy="6372360"/>
        </p:xfrm>
        <a:graphic>
          <a:graphicData uri="http://schemas.openxmlformats.org/drawingml/2006/table">
            <a:tbl>
              <a:tblPr/>
              <a:tblGrid>
                <a:gridCol w="2546280"/>
                <a:gridCol w="1041480"/>
                <a:gridCol w="1041480"/>
                <a:gridCol w="1042920"/>
                <a:gridCol w="1155600"/>
                <a:gridCol w="1158840"/>
                <a:gridCol w="1157400"/>
              </a:tblGrid>
              <a:tr h="604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Empirical take-up rates, pre- and post-reform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standard errors in parentheses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Population group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Pre-reform take-up r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FRS 2000/1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Post-reform take-up r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FRS 2001/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Mea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£ per week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FRS 2000/1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Mea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£ per week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FRS 2001/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Change in mea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£ per week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ingle disabl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 189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8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57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36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5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3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07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5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4.6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73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8.21 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858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.53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2.54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Couple, at least one disabl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57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3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579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66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1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8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039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08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7.23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4.742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1.37  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5.34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.1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7.14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ingle aged below 7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66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86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43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868  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5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00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7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6.4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74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2.3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3.68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5.8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4.083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ingle aged 70-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06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9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3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47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835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38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203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6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6.1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663 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9.4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2.10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3.2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2.683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ingle aged 75-7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16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1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90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43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73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41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04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5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4.5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396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8.60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2.05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4.0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2.48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ingle aged 80 or abov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215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8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3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33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58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36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-0.055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4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8.56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251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8.8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001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3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602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Couple at least one aged above 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57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4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49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67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31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7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-0.18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97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9.5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3.93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1.23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4.24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1.65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5.78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Couple both below 74, one below 6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8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2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44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2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476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12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03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6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8.69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0.48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52.0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8.928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.3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3.771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Couple both below 74, one above 6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21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2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38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08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70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9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32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4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5.6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1.786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7.7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7.022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2.09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3.71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All group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845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7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2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17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56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17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03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2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5.7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911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3.35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942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7.5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31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5DF8F-DF9C-43C5-87C8-6C44A2CDF43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assump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549000"/>
            <a:ext cx="755784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rude change in take-up 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6192720" cy="768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5640" y="170028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ausal impact of reform: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627280" y="2060640"/>
            <a:ext cx="3602160" cy="801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2852640"/>
            <a:ext cx="7417080" cy="34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Assumptions: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A1 conditionally ignorable non-responc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A1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|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  fo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 and all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 where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=  (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A2 no counfunding macro level changes, conditional on W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A2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|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) independent of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fo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 and all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Under these assumptions: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rcRect l="0" t="0" r="0" b="49727"/>
          <a:stretch/>
        </p:blipFill>
        <p:spPr>
          <a:xfrm>
            <a:off x="1692360" y="5445000"/>
            <a:ext cx="5832360" cy="623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587700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= causal effect + effect of change in distribution of covariate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5F4ED-ABCC-461E-B44A-B2C43B7D59F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ing approach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424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Matching on variables, not PSM: “selection” into year 0 &amp; year 1 samples is random so no confounding except for non-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stratification on 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Xt (sex, age, marital status, disa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2592360" cy="882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2997360"/>
            <a:ext cx="73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85264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Nearest neighbour algorithm, distance minimization: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27280" y="3645000"/>
            <a:ext cx="3392640" cy="458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0000" y="3284640"/>
            <a:ext cx="352764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500720" y="3284640"/>
            <a:ext cx="3960720" cy="34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4221000"/>
            <a:ext cx="864072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Mahalanobis distance measure on (B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, B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matching with replacement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caliper options: reject matches breaching 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788000" y="5084640"/>
            <a:ext cx="1511280" cy="40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7C41C-77BE-4BE8-A4EE-65774DDC1A6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Matching approach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836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Stratum </a:t>
            </a:r>
            <a:r>
              <a:rPr b="0" i="1" lang="it-IT" sz="2400" spc="-1" strike="noStrike">
                <a:solidFill>
                  <a:srgbClr val="000000"/>
                </a:solidFill>
                <a:latin typeface="Book Antiqua"/>
              </a:rPr>
              <a:t>k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estimator for change in take-up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3311640" cy="804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71640" y="3429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verall estimator of the reform-induced chang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132000" y="4149720"/>
            <a:ext cx="2016360" cy="1057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042920" y="2421000"/>
            <a:ext cx="6848640" cy="295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7280" y="5229360"/>
            <a:ext cx="513576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BFAF4-9771-49BC-B181-EC20F93E6A8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940120" y="1844640"/>
            <a:ext cx="289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Impact with 2000/1 characteristics</a:t>
            </a: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211640" y="1484280"/>
          <a:ext cx="1872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84280"/>
                    <a:ext cx="1872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893200" y="1844640"/>
            <a:ext cx="289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Impact with 2001/2 characteristics</a:t>
            </a: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236000" y="1484280"/>
          <a:ext cx="190440" cy="2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484280"/>
                    <a:ext cx="1904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50920" y="765000"/>
          <a:ext cx="8713800" cy="5529240"/>
        </p:xfrm>
        <a:graphic>
          <a:graphicData uri="http://schemas.openxmlformats.org/drawingml/2006/table">
            <a:tbl>
              <a:tblPr/>
              <a:tblGrid>
                <a:gridCol w="2652480"/>
                <a:gridCol w="757440"/>
                <a:gridCol w="757080"/>
                <a:gridCol w="757440"/>
                <a:gridCol w="758880"/>
                <a:gridCol w="757080"/>
                <a:gridCol w="757080"/>
                <a:gridCol w="758880"/>
                <a:gridCol w="757440"/>
              </a:tblGrid>
              <a:tr h="73152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ing estimates with and without demographic stratification and caliper options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andard errors in parentheses)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per: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0.02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0.0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0.02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0.0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strata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singles, couples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3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8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8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7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7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8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8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8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6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4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4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4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5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strata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singles by gender, couples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9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4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5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7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9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8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7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2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2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7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80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strata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demographic groups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arital status, age, disability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5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9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6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6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7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6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3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7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5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5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stratification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0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2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2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3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4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7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9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8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8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9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627280" y="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03901-3A30-4993-AD47-73EF8158C96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r>
              <a:rPr b="1" lang="en-GB" sz="36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The MIG system and the 2001 re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Data and entitlements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4735E-0F7C-400E-A4BE-2B524AD2514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6680" y="836640"/>
            <a:ext cx="31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stimate of impact with 2000/1 characteristics:</a:t>
            </a: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12000" y="907920"/>
          <a:ext cx="199800" cy="2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907920"/>
                    <a:ext cx="19980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50920" y="3716280"/>
            <a:ext cx="48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stimate of impact with 2001/2 characteristics:</a:t>
            </a: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940360" y="3716280"/>
          <a:ext cx="190440" cy="2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716280"/>
                    <a:ext cx="1904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9280" y="260280"/>
          <a:ext cx="8964720" cy="6019920"/>
        </p:xfrm>
        <a:graphic>
          <a:graphicData uri="http://schemas.openxmlformats.org/drawingml/2006/table">
            <a:tbl>
              <a:tblPr/>
              <a:tblGrid>
                <a:gridCol w="1340280"/>
                <a:gridCol w="216000"/>
                <a:gridCol w="925200"/>
                <a:gridCol w="1225800"/>
                <a:gridCol w="1092600"/>
                <a:gridCol w="1049040"/>
                <a:gridCol w="863280"/>
                <a:gridCol w="1191240"/>
                <a:gridCol w="1061280"/>
              </a:tblGrid>
              <a:tr h="51120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ing estimates by increase in entitlement, with and without stratific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andard errors in parentheses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of increase i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case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-up r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/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-up r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atched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stratific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£10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38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64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6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51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65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1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75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93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£10-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68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71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58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80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5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86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106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£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0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3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61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0 (0.145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47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06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6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of increase i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case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-up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/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atched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-up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stratific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£10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66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2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4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48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5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8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68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88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£10-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1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71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4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57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4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142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5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149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8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116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£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0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2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27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6 (0.097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99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1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01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5CD74-CB99-40DD-ACAF-F4A9156588D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26920" y="620640"/>
          <a:ext cx="6769440" cy="571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6769440" cy="57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79280" y="0"/>
            <a:ext cx="89647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Matching quality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rcentage of cases matched  with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) &lt; threshold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7EAAF-DEF6-42DC-8E83-6C300CCEA24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arametric approach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3240000" cy="46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340000" y="3933720"/>
            <a:ext cx="3887640" cy="490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268360" y="4941720"/>
            <a:ext cx="4537080" cy="484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360" y="170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robit mod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70828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dicted change in the take-up rate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eg When i is sampled in 2000/1)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19152-ABAD-44CF-BAFF-33FF108B100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87280" y="4076640"/>
          <a:ext cx="200160" cy="2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076640"/>
                    <a:ext cx="20016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87280" y="1916280"/>
          <a:ext cx="20016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191628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87280" y="2637000"/>
          <a:ext cx="20016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263700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87280" y="5734080"/>
          <a:ext cx="200160" cy="25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573408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7280" y="1413000"/>
          <a:ext cx="200160" cy="25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7280" y="141300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87280" y="4581360"/>
          <a:ext cx="200160" cy="25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4581360"/>
                    <a:ext cx="20016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87280" y="5300640"/>
          <a:ext cx="200160" cy="257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87280" y="530064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87280" y="3068640"/>
          <a:ext cx="200160" cy="257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87280" y="306864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68360" y="333360"/>
          <a:ext cx="8351640" cy="6062760"/>
        </p:xfrm>
        <a:graphic>
          <a:graphicData uri="http://schemas.openxmlformats.org/drawingml/2006/table">
            <a:tbl>
              <a:tblPr/>
              <a:tblGrid>
                <a:gridCol w="1668240"/>
                <a:gridCol w="1671840"/>
                <a:gridCol w="1670040"/>
                <a:gridCol w="1671480"/>
                <a:gridCol w="1670040"/>
              </a:tblGrid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ric results: Predicted change in take-up rate (standard errors in parentheses) 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of increase i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£10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£10-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£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arate probits for each year, whole sample, full covariates se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8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66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1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8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2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5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61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5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2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3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arate probits for each year, whole sample; same regressors as stratification variables in non parametric analysi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6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0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0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6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5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0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7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5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8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3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7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5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FD2DB-AC14-45B4-9736-E825945A8B9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Even without a real or natural experiment or a control group, it is worth trying to use nonparametric matching methods as a complement to parametric simula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The take-up of MIG was significantly increased by the r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The effect was particularly large for those with largest potential gains from claim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Overall, a conventional probit take-up model for the 2001 MIG reform for UK pensioners works OK compared to the nonparametric results; but there is some evidence of probit under-prediction of the response to reform by people facing large gains – with potentially important welfare i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Nex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BAAAD-C5EB-4CEE-822A-E319C5AF7EA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0040E-6F62-4578-A53A-7D6FB6D15CE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324000" y="1448280"/>
            <a:ext cx="7920000" cy="4681080"/>
            <a:chOff x="324000" y="1448280"/>
            <a:chExt cx="7920000" cy="4681080"/>
          </a:xfrm>
        </p:grpSpPr>
        <p:sp>
          <p:nvSpPr>
            <p:cNvPr id="156" name=""/>
            <p:cNvSpPr/>
            <p:nvPr/>
          </p:nvSpPr>
          <p:spPr>
            <a:xfrm>
              <a:off x="684000" y="5589360"/>
              <a:ext cx="73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84000" y="1448280"/>
              <a:ext cx="0" cy="41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4000" y="432900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865080" y="3788640"/>
              <a:ext cx="0" cy="540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5080" y="3788640"/>
              <a:ext cx="197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44000" y="3788640"/>
              <a:ext cx="9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744000" y="2528280"/>
              <a:ext cx="0" cy="1260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44000" y="2528280"/>
              <a:ext cx="36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4000" y="4689000"/>
              <a:ext cx="540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83640" y="46890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24000" y="4509000"/>
              <a:ext cx="198000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re-reform period</a:t>
              </a:r>
              <a:endParaRPr b="0" lang="en-US" sz="10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4000" y="4149000"/>
              <a:ext cx="108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044000" y="3788640"/>
              <a:ext cx="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24000" y="3968640"/>
              <a:ext cx="161892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ublicity effect</a:t>
              </a:r>
              <a:endParaRPr b="0" lang="en-US" sz="10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924000" y="252828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24000" y="342864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24000" y="3068280"/>
              <a:ext cx="162000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eform effect</a:t>
              </a:r>
              <a:endParaRPr b="0" lang="en-US" sz="10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744000" y="2168280"/>
              <a:ext cx="7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4360" y="2168280"/>
              <a:ext cx="7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64360" y="1988280"/>
              <a:ext cx="216000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ost-reform period</a:t>
              </a:r>
              <a:endParaRPr b="0" lang="en-US" sz="10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864720" y="3428640"/>
              <a:ext cx="17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64000" y="3428640"/>
              <a:ext cx="1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44000" y="3248640"/>
              <a:ext cx="162000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ublicity campaign</a:t>
              </a:r>
              <a:endParaRPr b="0" lang="en-US" sz="10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64360" y="5589360"/>
              <a:ext cx="107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1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4000" y="1627920"/>
              <a:ext cx="360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Take-up propensity</a:t>
              </a:r>
              <a:endParaRPr b="0" lang="en-US" sz="11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042920" y="260280"/>
            <a:ext cx="763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260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2000 MIG publicity campaign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5E317-41E5-4C7A-911F-275D2AF561C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0" y="765000"/>
          <a:ext cx="9143640" cy="4968720"/>
        </p:xfrm>
        <a:graphic>
          <a:graphicData uri="http://schemas.openxmlformats.org/drawingml/2006/table">
            <a:tbl>
              <a:tblPr/>
              <a:tblGrid>
                <a:gridCol w="2837160"/>
                <a:gridCol w="920160"/>
                <a:gridCol w="1182240"/>
                <a:gridCol w="917640"/>
                <a:gridCol w="920160"/>
                <a:gridCol w="1184040"/>
                <a:gridCol w="1182240"/>
              </a:tblGrid>
              <a:tr h="3826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lance of covariates with pair matching, no caliper, no stratification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04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ing with 2000/1 characteristic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treat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contro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matched contro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 %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fore matching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 %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matching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Reduction in Absolute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itlement before refor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3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5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itlement after refor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3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5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.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ing with 2001/2 characteristic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treat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contro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matched contro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 %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fore matching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 %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matching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Reduction in Absolute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itlement before refor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3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itlement after refor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3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0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CFCE0-D4B5-4A83-ACB7-4753FC38B2D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403280" y="0"/>
          <a:ext cx="6121080" cy="6453000"/>
        </p:xfrm>
        <a:graphic>
          <a:graphicData uri="http://schemas.openxmlformats.org/drawingml/2006/table">
            <a:tbl>
              <a:tblPr/>
              <a:tblGrid>
                <a:gridCol w="2077560"/>
                <a:gridCol w="973440"/>
                <a:gridCol w="942120"/>
                <a:gridCol w="1001520"/>
                <a:gridCol w="1126440"/>
              </a:tblGrid>
              <a:tr h="520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Take-up Probit estimates for single pensioners 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full covariates set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0/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1/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ress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wne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44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69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7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7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9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4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64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bl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s work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6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3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8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 incom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1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a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3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2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.5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eudo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0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8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likelihoo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5.78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30.64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 for parameter stability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)=14.0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5985A-6066-4985-AD43-9DC3C93078A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187280" y="0"/>
          <a:ext cx="6480000" cy="6453000"/>
        </p:xfrm>
        <a:graphic>
          <a:graphicData uri="http://schemas.openxmlformats.org/drawingml/2006/table">
            <a:tbl>
              <a:tblPr/>
              <a:tblGrid>
                <a:gridCol w="2213280"/>
                <a:gridCol w="1066680"/>
                <a:gridCol w="1016640"/>
                <a:gridCol w="1116720"/>
                <a:gridCol w="1066680"/>
              </a:tblGrid>
              <a:tr h="3596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-up Probit estimates for pensioners couples full covariates set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0/2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1/20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vari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wne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6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3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94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bled hea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6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9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bled spous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1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7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s worked hea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s worked spous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1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’s education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use’s educ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0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 incom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a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9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9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3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eudo R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5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1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likelihoo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9.4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6.09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 for parameter stability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)=13.1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1E894-19AC-45E9-AE8F-4FA8B96ED4D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Non take-up”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People are observed NOT to claim means-tested welfare benefits to which they are entitl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ake-up rate measur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by caseload:  # claimants / # entitled benefit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by proportion of claimed government expendi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he phenomenon seem to be particulary severe for pensioners in the 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7F7A3-549E-4D11-B79E-A37999D1433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042920" y="0"/>
          <a:ext cx="6841800" cy="6381360"/>
        </p:xfrm>
        <a:graphic>
          <a:graphicData uri="http://schemas.openxmlformats.org/drawingml/2006/table">
            <a:tbl>
              <a:tblPr/>
              <a:tblGrid>
                <a:gridCol w="2880000"/>
                <a:gridCol w="1066680"/>
                <a:gridCol w="933840"/>
                <a:gridCol w="1066680"/>
                <a:gridCol w="894600"/>
              </a:tblGrid>
              <a:tr h="538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Take-up probit estimates for pensioners 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tratification variables in non parametric analysis used as covariates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0/2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1/20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vari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disabl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3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20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, at least one disabl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31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9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9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aged below 7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82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72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aged 70-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60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aged 75-7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6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 at least one aged over 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38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85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2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 both below 74, one below 6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73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5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0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 both below 74, one over 6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47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6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259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8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3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a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98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.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2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eudo R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3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likelihoo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15.97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44.05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w test for parameters stability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) = 16.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7BF46-5D1B-424F-8A32-74706ABAD31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42920" y="1700280"/>
            <a:ext cx="7129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(i, j) = (P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0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− P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1j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’V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0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− P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1j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23A84-5AB6-42BE-9C4A-2339ED89DF4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UK Pensioners Take-up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2 million pensioners living in low income househo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Government commitment to ensure a decent income in retir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Welfare benefits (incl. state pension) make up the entire income of 15 % of pensio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Still between a quarter and a third of entitled pensioners do not claim income sup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Policy relev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C612C-53F9-4CF7-854E-5DCB1FB9C64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Non take-up” rational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Qualitative research (Costigan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et al.,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1999; CAG, 2002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suggests that welfare participation involves </a:t>
            </a:r>
            <a:r>
              <a:rPr b="1" lang="it-IT" sz="2200" spc="-1" strike="noStrike">
                <a:solidFill>
                  <a:srgbClr val="000000"/>
                </a:solidFill>
                <a:latin typeface="Book Antiqua"/>
              </a:rPr>
              <a:t>claiming costs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due to</a:t>
            </a:r>
            <a:r>
              <a:rPr b="1" lang="it-IT" sz="2200" spc="-1" strike="noStrike">
                <a:solidFill>
                  <a:srgbClr val="000000"/>
                </a:solidFill>
                <a:latin typeface="Book Antiqu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Information and transaction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ignorance of the existence of th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 algn="ctr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insufficient knowledge of the administrative procedures or entitlement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language difficul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troubles in filling the forms and gathering required information and documenta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time, hassl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Intangible social stigma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distatste for welfare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self-humiliating fe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fear of stigmatisation from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fear of losing in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C2777-C27F-4BDC-BA9F-2C3460897E2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Take-up” literatu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Social sciences literatures exploring various aspects of take-up behaviour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(Kerr,1982; Hirsh and Rank 1999; Kayser and Frick,2001; Castranove </a:t>
            </a:r>
            <a:r>
              <a:rPr b="0" i="1" lang="it-IT" sz="2000" spc="-1" strike="noStrike">
                <a:solidFill>
                  <a:srgbClr val="000000"/>
                </a:solidFill>
                <a:latin typeface="Book Antiqua"/>
              </a:rPr>
              <a:t>et al.,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Economic literature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(Moffit,1983; Blundell et al., 1988; Duclos, 1995; Pudney </a:t>
            </a:r>
            <a:r>
              <a:rPr b="0" i="1" lang="it-IT" sz="2000" spc="-1" strike="noStrike">
                <a:solidFill>
                  <a:srgbClr val="000000"/>
                </a:solidFill>
                <a:latin typeface="Book Antiqua"/>
              </a:rPr>
              <a:t>et al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., 2006; Hernandez </a:t>
            </a:r>
            <a:r>
              <a:rPr b="0" i="1" lang="it-IT" sz="2000" spc="-1" strike="noStrike">
                <a:solidFill>
                  <a:srgbClr val="000000"/>
                </a:solidFill>
                <a:latin typeface="Book Antiqua"/>
              </a:rPr>
              <a:t>et al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.,200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Claiming as utility maximizing choice: expected benefit vs claiming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Entitlement amount acts as positive incentive to take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Econometric approach:entitlemnts simulation and parametric modelling of take-up probability, estimation of stigma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2F7A7-BAD3-40CA-91D1-F187F6E887A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Our approach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Use of a policy change to pensioners income support system  to </a:t>
            </a: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identify the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impact of variation in entitlement on the take-up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Non parametric analysis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(misspec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Comparison with traditional parametric appro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Family Resorces Survey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(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samples of pensioners interviewed before and after the reform came into fo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E50F8-3714-467E-B0D3-E846942F51B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 Minimum Income Guarantee (MIG)</a:t>
            </a:r>
            <a:br>
              <a:rPr sz="3200"/>
            </a:b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Income support for pensioners (60+), </a:t>
            </a: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income and asset-tested</a:t>
            </a:r>
            <a:r>
              <a:rPr b="0" lang="it-IT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247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brings income up to a minimum level, B = G(X) – m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withdrawn at 100% as income r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MIG in 2000/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assets between £3,000 &amp; £8,000 converted to notional in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no eligibility if assets &gt; £8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system of age-related ad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Reformed system in 2001/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real increase in guarante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abolition of age ad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asset limits raised to (£6,000, £12,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Every eligible pensioner gained;  some became newly-e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E7269-236B-4A2B-B91F-4196FBC14C1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84360" y="1125360"/>
          <a:ext cx="3809880" cy="4751640"/>
        </p:xfrm>
        <a:graphic>
          <a:graphicData uri="http://schemas.openxmlformats.org/drawingml/2006/table">
            <a:tbl>
              <a:tblPr/>
              <a:tblGrid>
                <a:gridCol w="1380960"/>
                <a:gridCol w="1166760"/>
                <a:gridCol w="1262160"/>
              </a:tblGrid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owances and Premium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 per week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allowanc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2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9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ioner Premiu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2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0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d Pensioner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miu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6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4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r Pensioner Premiu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8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1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 limi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-8,000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53964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E-REFORM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43280" y="1125360"/>
          <a:ext cx="3810240" cy="4735800"/>
        </p:xfrm>
        <a:graphic>
          <a:graphicData uri="http://schemas.openxmlformats.org/drawingml/2006/table">
            <a:tbl>
              <a:tblPr/>
              <a:tblGrid>
                <a:gridCol w="1381320"/>
                <a:gridCol w="1166760"/>
                <a:gridCol w="126216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owances and Premium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 per week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allowanc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0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2.21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2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1.93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ioner Premiu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1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8.48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6.39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d Pensione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mium.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1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8.48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6.39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r Pensioner Premui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1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8.48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6.39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 limi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00-12,00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788000" y="189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OST-REFORM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9C02E-1BC9-4D87-AFEB-BF6F1AC7F30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6T12:38:10Z</dcterms:created>
  <dc:creator>Computer Centre</dc:creator>
  <dc:description/>
  <dc:language>en-US</dc:language>
  <cp:lastModifiedBy>Your User Name</cp:lastModifiedBy>
  <dcterms:modified xsi:type="dcterms:W3CDTF">2006-10-27T19:09:55Z</dcterms:modified>
  <cp:revision>168</cp:revision>
  <dc:subject/>
  <dc:title>New Sampling Procedures  for NEW-ADAM</dc:title>
</cp:coreProperties>
</file>