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C16D-5559-43C3-858D-F14AF4FA3F4D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ur högt var taket, är taket? 7.5 base amounts = 1998 25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Still rather low absence levels: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Employer period two week introduced in januari 199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Qualification day one day in: April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Levels also changed during the 1990´s; as low as 70 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Kollektiv avtalade försäkringar: For different sectors, typically 10 percent. Not changed during 1988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Working then qual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Disability insurance; 64 % percent, typcially if been away from work for a long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1987; Får bara ersättning för de speciella dagarna, karensdagen tas bo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important thing is that is have not been changed over the peri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d är Gothenburg 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mple på institutionella skillnader, se ny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itivity also for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itivity also for with, controlling for variables and so on. Some differences in the size of the coefici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ta på vilka länder som har olika system, jämför exemple tyskland mot andra, ex nyman obs titta på den artike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oner av nivåerna, plus käl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ån rapporten Nyman et. al 2002. Datan är hämtad från Eurostat. För anställda. För de som varit borta under hela veckan. AKU – then do miss very short term abs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ket hög upp emot 100 % I Tyskland, medans exempelvis låg I frankrik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vudkommentarer I rapporten om Sverige; Arbetsmiljö, hälsotillstånd, demografiska skillnader I den arbetande befolkningen, konjunkturen har en stor betydelse I sveri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lerna: lägre ersättningar I  frankrike och england. För en längre period I Sverige. Olika längd på ER och karensdagarn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Övriga studier enligt Patri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d säga kort om artiklarna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rk; Unemployment and well being, well being on search behaviour and employent in the next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el and Topel and Conley: Chicgo areas, distance in four aspects, physical even after controlling for observ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Åberg et al: Very detailed data, exstensive controlls, no exogenous vairation, youth neighborhood eff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hino and Maggi: Especially focus on movers, to difference individual and to calcualte correlated. OBS check the size of the coefici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beck and Palme: Severe variation after controlling for observab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083-F18E-4D30-A985-CFA3C458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34C2-91F0-4ADF-B669-D65F2BFF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8D0-8330-48EF-A21F-5DDE0142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89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052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777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89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052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6FE-986C-4E7E-8311-3AA181A4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E609-A97E-4993-8D6B-E98227BF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C63C-F191-4F32-95B2-C62112AF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0311-4A36-417C-BC22-44D75AAE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B985-D6FE-4323-B990-D0A52549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6F6B-73A3-46AA-B2F7-9FDEE19F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77400" y="1142640"/>
            <a:ext cx="81853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14B6-15E6-4D93-AEC7-60722E36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D21D-11C2-44FB-A3FA-016F84F9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4543-8C2A-41D4-8E08-C92C4D69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F44B-5B8D-4597-A588-2698BB7D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6C41-CCA2-4255-8536-20378894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1A51-BF45-48B2-B99C-F71F3F8E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70AE-7D4E-46F2-8734-DB7A6124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3896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00520" y="186696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777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3896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00520" y="3979800"/>
            <a:ext cx="26294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BAAE-ABF1-4094-A348-3FE8D4A2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D4D-A3A2-42CE-A338-E0D7D64D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8A1-DBD5-4E38-86E2-90209A1E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020-E7C7-4D0F-886B-3DF22AE9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77400" y="1142640"/>
            <a:ext cx="818532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042-CF1C-4A24-A236-657D7928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258-63B6-45E8-9C1F-55DF63DD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2400" y="397980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4CEA-7A72-4F61-B8CB-E3CCCF5B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2400" y="1866960"/>
            <a:ext cx="39848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7760" y="3979800"/>
            <a:ext cx="8166240" cy="19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9994-B265-402C-A1C4-904BDC15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ge60" descr=""/>
          <p:cNvPicPr/>
          <p:nvPr/>
        </p:nvPicPr>
        <p:blipFill>
          <a:blip r:embed="rId2"/>
          <a:srcRect l="0" t="0" r="10770" b="6959"/>
          <a:stretch/>
        </p:blipFill>
        <p:spPr>
          <a:xfrm>
            <a:off x="7577280" y="4035600"/>
            <a:ext cx="2328840" cy="282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425680" y="177840"/>
            <a:ext cx="102888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102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D6A5-8C8A-4BCD-9F28-7F1FCF17C65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84360" y="610200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98840" y="610200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FFFC-525A-4205-AF5F-2B8346CF3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26960" y="609480"/>
            <a:ext cx="9066240" cy="5867640"/>
          </a:xfrm>
          <a:prstGeom prst="rect">
            <a:avLst/>
          </a:prstGeom>
          <a:noFill/>
          <a:ln w="12600">
            <a:solidFill>
              <a:srgbClr val="639a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rcRect l="0" t="0" r="-3349" b="0"/>
          <a:stretch/>
        </p:blipFill>
        <p:spPr>
          <a:xfrm>
            <a:off x="263520" y="184320"/>
            <a:ext cx="3000240" cy="80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age60" descr=""/>
          <p:cNvPicPr/>
          <p:nvPr/>
        </p:nvPicPr>
        <p:blipFill>
          <a:blip r:embed="rId2"/>
          <a:srcRect l="0" t="0" r="10770" b="6959"/>
          <a:stretch/>
        </p:blipFill>
        <p:spPr>
          <a:xfrm>
            <a:off x="7577280" y="4035600"/>
            <a:ext cx="2328840" cy="282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25680" y="177840"/>
            <a:ext cx="102888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95360" y="610200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85FB-2CD2-4F38-968C-7A439DAAA5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384360" y="610200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98840" y="610200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6EB5-4456-4EB6-A1A8-739768903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960" y="609480"/>
            <a:ext cx="9066240" cy="5867640"/>
          </a:xfrm>
          <a:prstGeom prst="rect">
            <a:avLst/>
          </a:prstGeom>
          <a:noFill/>
          <a:ln w="12600">
            <a:solidFill>
              <a:srgbClr val="639a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rcRect l="0" t="0" r="-3349" b="0"/>
          <a:stretch/>
        </p:blipFill>
        <p:spPr>
          <a:xfrm>
            <a:off x="263520" y="184320"/>
            <a:ext cx="3000240" cy="809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89520" y="3365640"/>
            <a:ext cx="127080" cy="126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ence</a:t>
            </a: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gious</a:t>
            </a: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85720" y="317196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trik Hesselius, Per Johansson and Johan Vikströ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Economics, Uppsala University and IF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DB90-321C-4599-90E8-76C79FB106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andomized experi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7760" y="1812960"/>
            <a:ext cx="816624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second half of 1988 in Gothenburg municipal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iz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born on even date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eated was allowed to receive benefits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ead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without showing a doctor’s certific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blind experiment (large information campaig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s of less strict control of eligibility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the duration of absence (short-term absence, until day 14 of a spel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ignificant effect on the incidence into sickness abs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732-66AF-4313-87B8-F450642F1B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action still absent before the experiment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22200" y="1666800"/>
          <a:ext cx="712476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2200" y="1666800"/>
                    <a:ext cx="712476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B67-CD68-45DF-8543-F3F0E2D286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action still absent during the experi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7480" y="1992240"/>
            <a:ext cx="7395840" cy="414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B776-F104-4049-AF2E-456CC1C500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3760" y="18273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requirements need to be fulfilled in order to use a intervention for identification of social inte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hange the group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nly affect a proportion of the individuals in each network and the proportion have to differ between at least some of th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ogenous with respect to unobserved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eated must be representative for the network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79E-22AA-4E69-9B42-3AB60D6DDB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r set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7760" y="1720440"/>
            <a:ext cx="816624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thnicity (country of origin) as network defin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e immigrants in the whole Gothenburg M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ifferent proportion of treated, depending on were their network members l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ata for all individuals also before the experi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rol for individual (and network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eterogeneity in sickness absence behavior</a:t>
            </a:r>
            <a:r>
              <a:rPr b="0" lang="sv-S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500" spc="-1" strike="noStrike">
                <a:solidFill>
                  <a:srgbClr val="000000"/>
                </a:solidFill>
                <a:latin typeface="Times New Roman"/>
              </a:rPr>
              <a:t>Randomly selected treat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v-S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eated and non-treated representative for the whole networ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EF5-FBD3-4423-8B95-CA937F1A24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and sample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63360" y="1866960"/>
            <a:ext cx="816588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tion database; from IFAU database (individual and employment characteristics) and National Security Board (sickness abs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working immigrants in age 20-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igrants from 84 countries with more than 10 members in Gothenburg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immigrant groups: Nordic countries, Hungary, Former Yugoslavia, Poland, Germany, Iran, Turkey and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variation in proportion treated (23 – 52 percent) and in mean short-term absence (2.7 – 9.1percent)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FC0-47E7-4F7C-86F5-85F75BCB03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irst look at th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-663480" y="1849320"/>
          <a:ext cx="10887120" cy="37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63480" y="1849320"/>
                    <a:ext cx="1088712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340240" y="485928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4833" y="13500"/>
                </a:moveTo>
                <a:lnTo>
                  <a:pt x="14833" y="1350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62400" y="70502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339" y="19584"/>
                </a:moveTo>
                <a:lnTo>
                  <a:pt x="14339" y="1958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A75-AA0E-4836-BBA7-DD7F351924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irst look at the data (co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11080" y="2139840"/>
          <a:ext cx="8107560" cy="31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2139840"/>
                    <a:ext cx="81075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6AA-4184-4BFB-A177-26A4DC9A6A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7400" y="1115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38160" y="19191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social utility into a regular labor supply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Brock and Durlauf (200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rational expectations and that all individuals in the network is given equal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absence in presence of endogenous interactions depend on the mean absence in th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0CC-414D-46A8-B0E0-0134F8FF49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7400" y="3460320"/>
            <a:ext cx="824868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for network heterogeneity (network fixed eff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for seasonal effects (seasonal dumm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for network specific trends (allow for correlation between treated and non treated absence also before the re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y analysis (artificial treatments for 1987, 1989 and Stockhol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50840" y="1936800"/>
          <a:ext cx="781524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936800"/>
                    <a:ext cx="7815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52640" y="2705040"/>
          <a:ext cx="371448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2640" y="2705040"/>
                    <a:ext cx="37144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E34-D836-4B00-986E-005BF5D6BE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 for investigating social inter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differences, in for example work absence, between countries, regions and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fferences could hardly be explained only by institutions!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interactions could be one expla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3A1-3073-456F-A63A-A2AB38B7DB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- 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3360" y="1689120"/>
          <a:ext cx="9433080" cy="419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689120"/>
                    <a:ext cx="943308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1FD1-3CBA-40D2-B1A3-F9716D553C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– Hazard regress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2400" y="1523880"/>
          <a:ext cx="9204120" cy="43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1523880"/>
                    <a:ext cx="9204120" cy="43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FEB-674C-43F1-9407-538852F6EE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– Hazard regressions (co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68440" y="1782720"/>
          <a:ext cx="8672400" cy="45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1782720"/>
                    <a:ext cx="86724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F98-7676-457D-AF66-2D55C7D6AC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– Incidence into work abs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574640"/>
          <a:ext cx="9307440" cy="41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74640"/>
                    <a:ext cx="930744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EF2-2850-4E64-BF2A-9CE20F0DB8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ing up and 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77760" y="215892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10 percent increase in the means abs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decrease hazard from work absence by about 1.5 percent because of endogenous interactions.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No social interaction effect on the incidence into work abs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Sensitivity analysis shows that the results are rob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6E92-C249-4AEA-A9A4-C1A63C9F4D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ckness absence in six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76360" y="1852560"/>
          <a:ext cx="7829280" cy="416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852560"/>
                    <a:ext cx="782928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7F8F-F8E0-4085-BFDA-2DED791A86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Sickness absence in Sweden 1970-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62120" y="1947960"/>
            <a:ext cx="6297480" cy="401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6CCA-C6E0-46D0-9F72-FD1FC8A900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ication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6360" y="1827000"/>
            <a:ext cx="816588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 explanations to segregation in work absenc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dogenous inter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bsence varies with the overall behavi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ogenous inter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ries with exogenous characteristics in the net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rrelated eff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) Institutions differs between networ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) Similar individual characteristic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B03-CAFF-4E85-A531-2DE2637B52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rlier studies on int. in social insu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1774440"/>
            <a:ext cx="85723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mploy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k (2003), Topel (2001), Topel &amp; Conley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Åberg, Hedström &amp; Kolm (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ab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hino &amp; Maggi (2000), Lindbeck, Palme &amp; Persson (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s seem to be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tion need that certain members for som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ogen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son starts to be more absent /or chang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D48-2D3A-4525-A6C6-7FB50A3FC9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pap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s to the literature on empirical evidence of social interactions by utilize a randomized experiment in Gothenburg 1988, that previously have shown to increase sickness absence of those randomized into treat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introduces exogenous vari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ables identification of endogenous social inter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find evidence of endogenous eff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E81-64E0-41D9-A0A3-90E70C5FC0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7760" y="1866960"/>
            <a:ext cx="816624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dish sickness insurance (in 198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ized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nd first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F63-5DD2-4B9A-A9D7-6BBE89D8CD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7400" y="1142640"/>
            <a:ext cx="81853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edish sickness insurance (in 198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7760" y="1866600"/>
            <a:ext cx="81662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 if absent from work due to s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s all employed workers, and nationally financed by proportional pay roll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 percent replacement rate (up to a cei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qualification day and no experience rating (all benefits paid from the gover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paid for a week before checking the claimants’ eligibility throu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’s certificate (though possi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public insurance offices to monitor more strict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DEB-1616-442A-87AC-3312D618CA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3:33:26Z</dcterms:created>
  <dc:creator>Johan Wikström</dc:creator>
  <dc:description>IFAU905E
v 1.2 2005-02-04</dc:description>
  <dc:language>en-US</dc:language>
  <cp:lastModifiedBy>Seminar</cp:lastModifiedBy>
  <dcterms:modified xsi:type="dcterms:W3CDTF">2006-10-27T12:22:43Z</dcterms:modified>
  <cp:revision>59</cp:revision>
  <dc:subject/>
  <dc:title>Is work absence contagious?</dc:title>
</cp:coreProperties>
</file>