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BC68-F54F-4DC5-B870-BFF1DFD2B337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ur högt var taket, är taket? 7.5 base amounts = 1998 25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till rather low absence levels: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Employer period two week introduced in januari 199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Qualification day one day in: April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Levels also changed during the 1990´s; as low as 70 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Kollektiv avtalade försäkringar: For different sectors, typically 10 percent. Not changed during 1988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Working then qual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isability insurance; 64 % percent, typcially if been away from work for a long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1987; Får bara ersättning för de speciella dagarna, karensdagen tas bo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important thing is that is have not been changed over the peri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d är Gothenburg 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mple på institutionella skillnader, se ny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itivity also fo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itivity also for with, controlling for variables and so on. Some differences in the size of the coefic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ta på vilka länder som har olika system, jämför exemple tyskland mot andra, ex nyman obs titta på den artike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oner av nivåerna, plus käl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ån rapporten Nyman et. al 2002. Datan är hämtad från Eurostat. För anställda. För de som varit borta under hela veckan. AKU – then do miss very short term abs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ket hög upp emot 100 % I Tyskland, medans exempelvis låg I frankrik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vudkommentarer I rapporten om Sverige; Arbetsmiljö, hälsotillstånd, demografiska skillnader I den arbetande befolkningen, konjunkturen har en stor betydelse I sveri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lerna: lägre ersättningar I  frankrike och england. För en längre period I Sverige. Olika längd på ER och karensdagarn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Övriga studier enligt Patri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d säga kort om artiklarn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rk; Unemployment and well being, well being on search behaviour and employent in the next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el and Topel and Conley: Chicgo areas, distance in four aspects, physical even after controlling for observ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Åberg et al: Very detailed data, exstensive controlls, no exogenous vairation, youth neighborhood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hino and Maggi: Especially focus on movers, to difference individual and to calcualte correlated. OBS check the size of the coefic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beck and Palme: Severe variation after controlling for observab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2C0-7A9A-4E41-A313-4CD1258C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2E4-F819-499F-A4A3-60877DB4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615-BF67-419F-8F71-9C96D633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052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777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052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DA6-9A9C-48DA-B7D5-677B6E4E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F90D-94FE-4214-87F4-BF7EDD9B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BA3F-FC68-445E-86A5-E35DD25F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8E38-D944-46B0-ABAF-756F4704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1059-1E12-4286-B8D0-0A30CD13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C1AC-7DB0-4EFA-A2F3-9A7B18A6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77400" y="1142640"/>
            <a:ext cx="81853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7A69-EB69-400D-9C04-C1825707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2EA0-0C53-4FCB-A7EE-65C9F553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E81-55D8-4532-860E-D51DD2D2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78DC-4DF8-43BB-ACF7-E0360DC5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EE19-50C9-4D2D-B93F-E216D95A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FF17-D1E8-4F4E-85B5-B2707464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D189-1EA6-4EBC-869E-F59BF4E5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389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0052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777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389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0052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F584-77A8-47A4-B3B0-95916E6B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2E21-0169-400D-999E-326A1BF9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C66-0E7E-4CEE-966A-139D1D12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260-8087-4EA6-9C58-893E8B97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77400" y="1142640"/>
            <a:ext cx="81853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F13-C219-4846-AA28-8EB5A33E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630-695F-4EC9-93D9-FDF71EFD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554-8332-426B-8729-29A968A5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F34-FD80-4975-AB49-3CC6E95D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ge60" descr=""/>
          <p:cNvPicPr/>
          <p:nvPr/>
        </p:nvPicPr>
        <p:blipFill>
          <a:blip r:embed="rId2"/>
          <a:srcRect l="0" t="0" r="10770" b="6959"/>
          <a:stretch/>
        </p:blipFill>
        <p:spPr>
          <a:xfrm>
            <a:off x="7577280" y="4035600"/>
            <a:ext cx="2328840" cy="282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425680" y="177840"/>
            <a:ext cx="102888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102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C883-9408-496E-9467-0093468ADA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84360" y="610200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98840" y="61020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38BA-0417-4868-94B2-179FD60B7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26960" y="609480"/>
            <a:ext cx="9066240" cy="5867640"/>
          </a:xfrm>
          <a:prstGeom prst="rect">
            <a:avLst/>
          </a:prstGeom>
          <a:noFill/>
          <a:ln w="12600">
            <a:solidFill>
              <a:srgbClr val="639a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rcRect l="0" t="0" r="-3349" b="0"/>
          <a:stretch/>
        </p:blipFill>
        <p:spPr>
          <a:xfrm>
            <a:off x="263520" y="184320"/>
            <a:ext cx="3000240" cy="80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age60" descr=""/>
          <p:cNvPicPr/>
          <p:nvPr/>
        </p:nvPicPr>
        <p:blipFill>
          <a:blip r:embed="rId2"/>
          <a:srcRect l="0" t="0" r="10770" b="6959"/>
          <a:stretch/>
        </p:blipFill>
        <p:spPr>
          <a:xfrm>
            <a:off x="7577280" y="4035600"/>
            <a:ext cx="2328840" cy="282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25680" y="177840"/>
            <a:ext cx="102888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95360" y="6102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F5A8-4ED3-4890-90EC-E09A0FCDCA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384360" y="610200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98840" y="61020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6455-7037-43D1-B657-B6093B4C5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960" y="609480"/>
            <a:ext cx="9066240" cy="5867640"/>
          </a:xfrm>
          <a:prstGeom prst="rect">
            <a:avLst/>
          </a:prstGeom>
          <a:noFill/>
          <a:ln w="12600">
            <a:solidFill>
              <a:srgbClr val="639a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-3349" b="0"/>
          <a:stretch/>
        </p:blipFill>
        <p:spPr>
          <a:xfrm>
            <a:off x="263520" y="184320"/>
            <a:ext cx="3000240" cy="809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89520" y="3365640"/>
            <a:ext cx="127080" cy="126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ence</a:t>
            </a: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gious</a:t>
            </a: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5720" y="317196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rik Hesselius, Per Johansson and Johan Vikströ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Economics, Uppsala University and IF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BAA4-0740-4088-AE42-72262F3A13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andomized experi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7760" y="1812960"/>
            <a:ext cx="816624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econd half of 1988 in Gothenburg municipal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iz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born on even date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eated was allowed to receive benefits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without showing a doctor’s certific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blind experiment (large information campaig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s of less strict control of eligibility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the duration of absence (short-term absence, until day 14 of a spel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ignificant effect on the incidence into sickness abs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094-FEAD-4CED-903C-D0667A9831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ction still absent before the experiment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22200" y="1666800"/>
          <a:ext cx="712476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1666800"/>
                    <a:ext cx="712476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085-F684-4C24-BE7A-72F3374D5F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ction still absent during the experi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7480" y="1992240"/>
            <a:ext cx="7395840" cy="41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E55-9BBC-4D44-A991-D58F0A558A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3760" y="18273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requirements need to be fulfilled in order to use a intervention for identification of social inte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hange the group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nly affect a proportion of the individuals in each network and the proportion have to differ between at least some of th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ogenous with respect to unobserved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eated must be representative for the network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603-81BA-4454-8772-50F523C05C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r set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7760" y="1720440"/>
            <a:ext cx="816624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thnicity (country of origin) as network defin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 immigrants in the whole Gothenburg M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ifferent proportion of treated, depending on were their network members l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 for all individuals also before the experi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rol for individual (and network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eterogeneity in sickness absence behavior</a:t>
            </a: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Randomly selected treat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eated and non-treated representative for the whole networ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939-330F-4ACD-B961-BA1CCEF679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and sample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63360" y="1866960"/>
            <a:ext cx="816588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tion database; from IFAU database (individual and employment characteristics) and National Security Board (sickness abs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working immigrants in age 20-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igrants from 84 countries with more than 10 members in Gothenburg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immigrant groups: Nordic countries, Hungary, Former Yugoslavia, Poland, Germany, Iran, Turkey and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variation in proportion treated (23 – 52 percent) and in mean short-term absence (2.7 – 9.1percent)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18D-BCF5-4027-AF32-2E75B6749A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irst look at th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-663480" y="1849320"/>
          <a:ext cx="10887120" cy="37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63480" y="1849320"/>
                    <a:ext cx="1088712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340240" y="4859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833" y="13500"/>
                </a:moveTo>
                <a:lnTo>
                  <a:pt x="14833" y="1350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62400" y="70502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339" y="19584"/>
                </a:moveTo>
                <a:lnTo>
                  <a:pt x="14339" y="1958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627-BD1F-4982-8E22-8BEA194D43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irst look at the data (co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11080" y="2139840"/>
          <a:ext cx="8107560" cy="31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2139840"/>
                    <a:ext cx="81075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D13-40A4-44D4-8DEA-6EAA919936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7400" y="1115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38160" y="19191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social utility into a regular labor supply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Brock and Durlauf (200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rational expectations and that all individuals in the network is given equal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absence in presence of endogenous interactions depend on the mean absence in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F03-C186-4976-AB1A-FBAF5F5281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7400" y="3460320"/>
            <a:ext cx="824868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for network heterogeneity (network fixed eff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for seasonal effects (seasonal dumm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for network specific trends (allow for correlation between treated and non treated absence also before the re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y analysis (artificial treatments for 1987, 1989 and Stockhol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50840" y="1936800"/>
          <a:ext cx="78152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936800"/>
                    <a:ext cx="7815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52640" y="2705040"/>
          <a:ext cx="371448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2640" y="2705040"/>
                    <a:ext cx="37144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310-0B68-4329-90AE-6D4C24C27C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 for investigating social inter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differences, in for example work absence, between countries, regions and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erences could hardly be explained only by institutions!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interactions could be one 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846-B2BA-460F-8244-DB9CF947F8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- 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3360" y="1689120"/>
          <a:ext cx="9433080" cy="419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689120"/>
                    <a:ext cx="943308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544C-ED37-4B4F-906C-C7E2FEEFBD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– Hazard regress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2400" y="1523880"/>
          <a:ext cx="9204120" cy="43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1523880"/>
                    <a:ext cx="9204120" cy="43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33B-1A43-4D19-B06F-5A9812FB1E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– Hazard regressions (co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68440" y="1782720"/>
          <a:ext cx="8672400" cy="45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1782720"/>
                    <a:ext cx="86724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31B-39A0-4ABD-81B8-0058A258CA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– Incidence into work abs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574640"/>
          <a:ext cx="9307440" cy="41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74640"/>
                    <a:ext cx="930744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0FB-F02A-4B1C-8C34-DA78874EBD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ing up and 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77760" y="215892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10 percent increase in the means abs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decrease hazard from work absence by about 1.5 percent because of endogenous interactions.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No social interaction effect on the incidence into work abs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Sensitivity analysis shows that the results are rob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655-5EFA-4716-8E9C-44B4B5FAD0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ckness absence in six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76360" y="1852560"/>
          <a:ext cx="7829280" cy="41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852560"/>
                    <a:ext cx="782928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41E-3F62-4F63-924A-0ED0719FB0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Sickness absence in Sweden 1970-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62120" y="1947960"/>
            <a:ext cx="6297480" cy="401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A31-A0C1-469C-A50B-71DF4F4732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ication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6360" y="1827000"/>
            <a:ext cx="8165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 explanations to segregation in work absenc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dogenous inter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bsence varies with the overall behavi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ogenous inter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ries with exogenous characteristics in the net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rrelated eff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) Institutions differs between networ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) Similar individual characteristic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3F2A-CBA1-41F1-BDC5-EAD30D3900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lier studies on int. in social insu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774440"/>
            <a:ext cx="85723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mploy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k (2003), Topel (2001), Topel &amp; Conley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Åberg, Hedström &amp; Kolm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ab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ino &amp; Maggi (2000), Lindbeck, Palme &amp; Persson (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s seem to be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 need that certain members for som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oge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son starts to be more absent /or chang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07C-C754-4013-A702-575DB88B74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pap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s to the literature on empirical evidence of social interactions by utilize a randomized experiment in Gothenburg 1988, that previously have shown to increase sickness absence of those randomized into treat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introduces exogenous vari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ables identification of endogenous social inter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find evidence of endogenous eff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3A2-72E8-4A3F-BDBA-5C8010B8E2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dish sickness insurance (in 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ized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d first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FF7-3A0E-4B28-832F-DBDC52A6C3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edish sickness insurance (in 198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7760" y="1866600"/>
            <a:ext cx="81662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 if absent from work due to s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s all employed workers, and nationally financed by proportional pay roll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 percent replacement rate (up to a cei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qualification day and no experience rating (all benefits paid from the gover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paid for a week before checking the claimants’ eligibility throu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’s certificate (though possi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public insurance offices to monitor more strict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26B-8CCE-461D-9A68-F5794FABF6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3:33:26Z</dcterms:created>
  <dc:creator>Johan Wikström</dc:creator>
  <dc:description>IFAU905E
v 1.2 2005-02-04</dc:description>
  <dc:language>en-US</dc:language>
  <cp:lastModifiedBy>Seminar</cp:lastModifiedBy>
  <dcterms:modified xsi:type="dcterms:W3CDTF">2006-10-27T12:22:43Z</dcterms:modified>
  <cp:revision>59</cp:revision>
  <dc:subject/>
  <dc:title>Is work absence contagious?</dc:title>
</cp:coreProperties>
</file>