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6551-620E-4639-992B-3159CC000AD0}" type="slidenum"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Hur högt var taket, är taket? 7.5 base amounts = 1998 25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Still rather low absence levels: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Employer period two week introduced in januari 199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Qualification day one day in: April 19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Levels also changed during the 1990´s; as low as 70 %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Kollektiv avtalade försäkringar: For different sectors, typically 10 percent. Not changed during 1988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Working then qual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Disability insurance; 64 % percent, typcially if been away from work for a long tim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1987; Får bara ersättning för de speciella dagarna, karensdagen tas bor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The important thing is that is have not been changed over the perio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d är Gothenburg 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mple på institutionella skillnader, se ny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itivity also for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itivity also for with, controlling for variables and so on. Some differences in the size of the coefici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ta på vilka länder som har olika system, jämför exemple tyskland mot andra, ex nyman obs titta på den artikel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oner av nivåerna, plus käl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ån rapporten Nyman et. al 2002. Datan är hämtad från Eurostat. För anställda. För de som varit borta under hela veckan. AKU – then do miss very short term absen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cket hög upp emot 100 % I Tyskland, medans exempelvis låg I frankrik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vudkommentarer I rapporten om Sverige; Arbetsmiljö, hälsotillstånd, demografiska skillnader I den arbetande befolkningen, konjunkturen har en stor betydelse I sveri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lerna: lägre ersättningar I  frankrike och england. För en längre period I Sverige. Olika längd på ER och karensdagarn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Övriga studier enligt Patrik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d säga kort om artiklarna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rk; Unemployment and well being, well being on search behaviour and employent in the next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el and Topel and Conley: Chicgo areas, distance in four aspects, physical even after controlling for observ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Åberg et al: Very detailed data, exstensive controlls, no exogenous vairation, youth neighborhood eff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hino and Maggi: Especially focus on movers, to difference individual and to calcualte correlated. OBS check the size of the coefici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beck and Palme: Severe variation after controlling for observab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86CC-D700-4588-B55C-DFD6BE526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81662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77760" y="3979800"/>
            <a:ext cx="81662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FBB3-12BC-481C-876C-DE59EEA4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6240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77760" y="397980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62400" y="397980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2A61-CC9C-4362-B64A-A944BBD58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38960" y="186696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0520" y="186696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77760" y="397980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38960" y="397980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0520" y="397980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D84C-F15D-4EE5-B499-7302FE539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D861-60AA-484A-B8F5-5E7A89087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B44F-F0CB-478A-BB84-3536C403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BCDF-B081-4699-9495-2C553896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39848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62400" y="1866960"/>
            <a:ext cx="39848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07DC-A24B-41DF-8245-F27CE023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5BB1-50B7-45E0-ADC3-3DD4B768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77400" y="1142640"/>
            <a:ext cx="818532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9904-E4FF-436C-8A13-E52DDF42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2400" y="1866960"/>
            <a:ext cx="39848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7760" y="397980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73EE-4E5D-4E08-A6FF-69207BB2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611B-C10F-4259-9E59-B054E56A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39848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240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62400" y="397980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BEDC8-AFDA-4B89-BC61-E3768AE3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240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7760" y="3979800"/>
            <a:ext cx="81662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2D87E-E484-4F68-A6C2-C5682603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81662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77760" y="3979800"/>
            <a:ext cx="81662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0E08-FCDB-4C5E-BAF9-E877B897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240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77760" y="397980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62400" y="397980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B44CA-8D6E-4EF5-AFAD-3EAE24065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38960" y="186696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00520" y="186696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77760" y="397980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38960" y="397980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00520" y="397980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CE447-C1BF-4AD7-896A-F1D1E7E95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7DE0-0B58-4975-BB9A-8455118B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39848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62400" y="1866960"/>
            <a:ext cx="39848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9FC1-AF80-4A93-86F7-2BEF9675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EBE6-2E41-41B1-A030-CE0070415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77400" y="1142640"/>
            <a:ext cx="818532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84EC-0BCE-4BD8-AA08-F214430F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2400" y="1866960"/>
            <a:ext cx="39848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77760" y="397980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50D3-83FD-4508-846D-E05FD16F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39848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240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62400" y="397980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52B0-47DD-4F73-94C4-81D48EB7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240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77760" y="3979800"/>
            <a:ext cx="81662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46E8-4FE5-418F-91C7-35576C23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ge60" descr=""/>
          <p:cNvPicPr/>
          <p:nvPr/>
        </p:nvPicPr>
        <p:blipFill>
          <a:blip r:embed="rId2"/>
          <a:srcRect l="0" t="0" r="10770" b="6959"/>
          <a:stretch/>
        </p:blipFill>
        <p:spPr>
          <a:xfrm>
            <a:off x="7577280" y="4035600"/>
            <a:ext cx="2328840" cy="2822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425680" y="177840"/>
            <a:ext cx="1028880" cy="77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95360" y="610200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8F4D-71E1-4CFE-AF07-E6D00CF589E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84360" y="610200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98840" y="610200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4064-D0B1-4E6F-8F75-F07319A0F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26960" y="609480"/>
            <a:ext cx="9066240" cy="5867640"/>
          </a:xfrm>
          <a:prstGeom prst="rect">
            <a:avLst/>
          </a:prstGeom>
          <a:noFill/>
          <a:ln w="12600">
            <a:solidFill>
              <a:srgbClr val="639a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rcRect l="0" t="0" r="-3349" b="0"/>
          <a:stretch/>
        </p:blipFill>
        <p:spPr>
          <a:xfrm>
            <a:off x="263520" y="184320"/>
            <a:ext cx="3000240" cy="80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bage60" descr=""/>
          <p:cNvPicPr/>
          <p:nvPr/>
        </p:nvPicPr>
        <p:blipFill>
          <a:blip r:embed="rId2"/>
          <a:srcRect l="0" t="0" r="10770" b="6959"/>
          <a:stretch/>
        </p:blipFill>
        <p:spPr>
          <a:xfrm>
            <a:off x="7577280" y="4035600"/>
            <a:ext cx="2328840" cy="2822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425680" y="177840"/>
            <a:ext cx="1028880" cy="77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95360" y="610200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5ADD-DBEA-429D-87BC-140E80B9A0C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384360" y="610200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7098840" y="610200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92F5-1090-4E2F-83C3-582780097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6960" y="609480"/>
            <a:ext cx="9066240" cy="5867640"/>
          </a:xfrm>
          <a:prstGeom prst="rect">
            <a:avLst/>
          </a:prstGeom>
          <a:noFill/>
          <a:ln w="12600">
            <a:solidFill>
              <a:srgbClr val="639a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rcRect l="0" t="0" r="-3349" b="0"/>
          <a:stretch/>
        </p:blipFill>
        <p:spPr>
          <a:xfrm>
            <a:off x="263520" y="184320"/>
            <a:ext cx="3000240" cy="8092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889520" y="3365640"/>
            <a:ext cx="127080" cy="1267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rk</a:t>
            </a: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sence</a:t>
            </a: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gious</a:t>
            </a: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85720" y="317196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rik Hesselius, Per Johansson and Johan Vikströ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Economics, Uppsala University and IF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B308-5018-4E11-A7B3-16618B3EA9D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randomized experi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77760" y="1812960"/>
            <a:ext cx="8166240" cy="45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second half of 1988 in Gothenburg municipali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domize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born on even date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reated was allowed to receive benefits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ks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ead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k without showing a doctor’s certific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blind experiment (large information campaign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s of less strict control of eligibility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s the duration of absence (short-term absence, until day 14 of a spell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ignificant effect on the incidence into sickness abse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42CD-32FF-4964-B663-A9D8F3D2E3D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action still absent before the experiment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222200" y="1666800"/>
          <a:ext cx="7124760" cy="461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2200" y="1666800"/>
                    <a:ext cx="7124760" cy="46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574E-3B42-4CC8-BE6C-A27BEBBB6B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action still absent during the experi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257480" y="1992240"/>
            <a:ext cx="7395840" cy="414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053D-EE83-426C-9686-12E1BE7124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3760" y="18273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requirements need to be fulfilled in order to use a intervention for identification of social inter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ot change the group com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only affect a proportion of the individuals in each network and the proportion have to differ between at least some of the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ogenous with respect to unobserved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reated must be representative for the network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3073-0609-4875-9018-DA543680A5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r set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77760" y="1720440"/>
            <a:ext cx="816624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thnicity (country of origin) as network defin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Use immigrants in the whole Gothenburg M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=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ifferent proportion of treated, depending on were their network members liv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ata for all individuals also before the experimen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=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ntrol for individual (and network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heterogeneity in sickness absence behavior</a:t>
            </a:r>
            <a:r>
              <a:rPr b="0" lang="sv-SE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500" spc="-1" strike="noStrike">
                <a:solidFill>
                  <a:srgbClr val="000000"/>
                </a:solidFill>
                <a:latin typeface="Times New Roman"/>
              </a:rPr>
              <a:t>Randomly selected treat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=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reated and non-treated representative for the whole networ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CAD1-9939-41F0-8C26-010F73234D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and sample sel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63360" y="1866960"/>
            <a:ext cx="816588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ulation database; from IFAU database (individual and employment characteristics) and National Security Board (sickness abs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working immigrants in age 20-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migrants from 84 countries with more than 10 members in Gothenburg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immigrant groups: Nordic countries, Hungary, Former Yugoslavia, Poland, Germany, Iran, Turkey and 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variation in proportion treated (23 – 52 percent) and in mean short-term absence (2.7 – 9.1percent)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4E4A-4A6C-4122-8896-69BBC2DCA8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first look at th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-663480" y="1849320"/>
          <a:ext cx="10887120" cy="37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63480" y="1849320"/>
                    <a:ext cx="10887120" cy="37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5340240" y="485928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4833" y="13500"/>
                </a:moveTo>
                <a:lnTo>
                  <a:pt x="14833" y="1350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62400" y="70502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4339" y="19584"/>
                </a:moveTo>
                <a:lnTo>
                  <a:pt x="14339" y="1958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9CB1-49C2-44A8-BFBF-27E6ED7715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first look at the data (con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811080" y="2139840"/>
          <a:ext cx="8107560" cy="319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1080" y="2139840"/>
                    <a:ext cx="8107560" cy="31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C494-F7F0-4FB8-80A4-723DAD1F594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77400" y="1115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38160" y="19191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 social utility into a regular labor supply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s Brock and Durlauf (2000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s rational expectations and that all individuals in the network is given equal w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vidual absence in presence of endogenous interactions depend on the mean absence in the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AAD8-BAB0-4AA3-9937-ED0910559A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77400" y="3460320"/>
            <a:ext cx="8248680" cy="26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for network heterogeneity (network fixed eff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for seasonal effects (seasonal dumm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for network specific trends (allow for correlation between treated and non treated absence also before the re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itivity analysis (artificial treatments for 1987, 1989 and Stockhol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050840" y="1936800"/>
          <a:ext cx="7815240" cy="5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1936800"/>
                    <a:ext cx="781524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52640" y="2705040"/>
          <a:ext cx="3714480" cy="53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52640" y="2705040"/>
                    <a:ext cx="371448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E665-8291-438D-B874-E3873B9F284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tivation for investigating social intera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differences, in for example work absence, between countries, regions and over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ifferences could hardly be explained only by institutions!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al interactions could be one expla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D86B-D73C-4FC9-9E35-F393B56AD8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ults - 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3360" y="1689120"/>
          <a:ext cx="9433080" cy="419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360" y="1689120"/>
                    <a:ext cx="943308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F3A6-7C3B-410D-A4EE-6664F5007E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ults – Hazard regressi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2400" y="1523880"/>
          <a:ext cx="9204120" cy="434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400" y="1523880"/>
                    <a:ext cx="9204120" cy="43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803B-D103-45A8-9FCB-D71BA0C22BC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ults – Hazard regressions (con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68440" y="1782720"/>
          <a:ext cx="8672400" cy="458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1782720"/>
                    <a:ext cx="8672400" cy="45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D904-F2A4-4487-8FB2-917693212A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ults – Incidence into work abs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50920" y="1574640"/>
          <a:ext cx="9307440" cy="414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574640"/>
                    <a:ext cx="9307440" cy="41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310C-6AF6-49EF-964D-906CF7FCBA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mming up and conclu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77760" y="215892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10 percent increase in the means abs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&gt; decrease hazard from work absence by about 1.5 percent because of endogenous interactions.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No social interaction effect on the incidence into work abs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Sensitivity analysis shows that the results are rob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07C6-F56C-4C2B-96D1-2177C1C59A5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ckness absence in six count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76360" y="1852560"/>
          <a:ext cx="7829280" cy="416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1852560"/>
                    <a:ext cx="7829280" cy="41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6688-7E0E-4FE4-B07A-760A8EC196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Sickness absence in Sweden 1970-200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62120" y="1947960"/>
            <a:ext cx="6297480" cy="401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FADA-2915-4A26-B698-239F5E2EB9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ication prob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36360" y="1827000"/>
            <a:ext cx="816588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 explanations to segregation in work absenc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ndogenous interac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bsence varies with the overall behavi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ogenous interac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aries with exogenous characteristics in the networ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rrelated effe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) Institutions differs between networ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) Similar individual characteristic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CEAE-3531-40D1-9F6B-3BE567FD7D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rlier studies on int. in social insur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680" y="1774440"/>
            <a:ext cx="857232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employ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rk (2003), Topel (2001), Topel &amp; Conley (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Åberg, Hedström &amp; Kolm (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ab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hino &amp; Maggi (2000), Lindbeck, Palme &amp; Persson (200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lusion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interactions seem to be 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cation need that certain members for som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ogeno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son starts to be more absent /or chang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2B12-E407-4545-82B4-CF43425AE7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pap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s to the literature on empirical evidence of social interactions by utilize a randomized experiment in Gothenburg 1988, that previously have shown to increase sickness absence of those randomized into treatmen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t introduces exogenous vari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nables identification of endogenous social interac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e find evidence of endogenous effe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E129-F3FF-4DC3-96D2-2387334B94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edish sickness insurance (in 198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ndomized 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cation 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and first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4FD9-9DC1-4D8E-A8B8-E5D23DE79F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wedish sickness insurance (in 198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77760" y="1866600"/>
            <a:ext cx="81662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efits if absent from work due to sick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vers all employed workers, and nationally financed by proportional pay roll ta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 percent replacement rate (up to a ceil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qualification day and no experience rating (all benefits paid from the govern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ts paid for a week before checking the claimants’ eligibility throu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tor’s certificate (though possib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e public insurance offices to monitor more strict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187A-B61D-4FBE-93AF-DC2A11E72E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3:33:26Z</dcterms:created>
  <dc:creator>Johan Wikström</dc:creator>
  <dc:description>IFAU905E
v 1.2 2005-02-04</dc:description>
  <dc:language>en-US</dc:language>
  <cp:lastModifiedBy>Seminar</cp:lastModifiedBy>
  <dcterms:modified xsi:type="dcterms:W3CDTF">2006-10-27T12:22:43Z</dcterms:modified>
  <cp:revision>59</cp:revision>
  <dc:subject/>
  <dc:title>Is work absence contagious?</dc:title>
</cp:coreProperties>
</file>