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691-8E05-4F65-97DB-D1402A8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D6A-5B6A-4617-A864-2FF1143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5C9-EC3F-4E82-BDA5-985114C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07F-08BA-4220-BDD5-C2DC9680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07ED-CB16-43B7-8F2B-226A23B3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6DF9-3685-4440-8CC5-9797443B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96BC-F2CD-444F-ADCB-25D09C0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E59D-4FD4-4CF9-9C15-F6A76C9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23A-C1C1-44BB-82C5-90F4B64B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79F1-7B30-4DCD-83F7-56B209C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B9A8-AD98-4039-9CDA-54CA404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F2B-96EA-4CA0-8E4E-0D692173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5793-09A7-49B8-8E6D-5C014A4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624-EA6C-4ADE-8F57-18D2466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7EEB-12D2-43F1-BE42-D4CD15AC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DD83-9EC8-47DB-BE66-DD135062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F81-7A4A-4C8E-B285-45C01A32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CC4-09FD-4DA1-AE81-4C3C708F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CC6-ACDF-4AF7-820E-5D45AE1B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6AB-5735-40E5-83AB-8AF0DE35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E55-A6E6-4F0D-990A-280A4A85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800-D2AE-4ED9-8D8E-E7808AE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FAB-6B15-49D3-A46E-242BB15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17C-EFCA-48C9-A6AB-F696F5A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1D5D-A1DF-4E7F-A603-FD12A9C50A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298-6C7F-41E7-B9B7-0E9DA44DB2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Food Stamp Participation and Employment among Adult-Only Household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86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avid C. Ribar – The George Washingt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arilyn Edelhoch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iduan Liu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(continue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rsonal and family controls include race, age, gender, education,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measures: unemployment, population density, border county, ABAWD ex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xamine cases without dependen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sample size, examine 1 out of every 11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alyses conducted for HHs with and without members under age 50 (with and without potential ABA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,264 households with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550 households with no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340704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84640" y="1600200"/>
            <a:ext cx="338796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19240" y="3944880"/>
            <a:ext cx="340344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087880" y="3944880"/>
            <a:ext cx="3382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survival function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2637000"/>
            <a:ext cx="3814920" cy="245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1880" y="2638440"/>
            <a:ext cx="3814920" cy="245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7680" y="21337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befor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20937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after Jun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entry cohort and income typ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27240" y="1600200"/>
            <a:ext cx="31874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318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31920" y="3944880"/>
            <a:ext cx="31780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2640" y="3944880"/>
            <a:ext cx="3175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90760" y="1600200"/>
            <a:ext cx="64767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65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variate analy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ly estimate multivariate model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non-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control for problems from omitted variables and endogenous explanator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estimated separately for HHs with and without members under age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ex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ex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η   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duration variables, including spell duration, calendar time and recertification indicators; spell duration controls interacted with ABAWD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indicator for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other observed explanatory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is an unobserved, time invariant variable; η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endogenous; assumed to be correlated with 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re-en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re-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μ        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fined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of duration variables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only includes controls for spell duration and calenda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 is an unobserved, time invariant variable; μ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correlated with η (ρ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again endoge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procedure allows for multiple, alternating spells of food stamp participation and non-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loy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earnings/employ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ν + ε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s probi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ν is an unobserved, time invariant variable; ν ~ N(0,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correlated with η and μ (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μ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(1)-(3) estimated jointly; because of repeated observations, numerous outcomes examined per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quadrature used to evaluate η, μ and ν; 10 evaluations in each dimension (1000 evaluations tot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wo gaps in the FSP litera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little FSP research on adult-only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evious research has either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with children, especially single-parent famili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eload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behavior among adult-only HHs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ake-up among eld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pells for those who d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-only HHs are also a focus o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pplication procedures for elderly &amp;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requirements and time limits for able-bodied adults without dependents (ABAW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ABAWD exemption status, HHs with members &lt;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62040" y="1679400"/>
            <a:ext cx="64753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loyment, HHs with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2592360"/>
            <a:ext cx="3814920" cy="254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71880" y="2589120"/>
            <a:ext cx="3814920" cy="255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6680" y="205740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anuary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9000" y="205740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ul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. &amp; age comp., HHs with no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2080" y="1905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anuar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5120" y="1905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uly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3814920" cy="254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1880" y="2587680"/>
            <a:ext cx="38149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is important: more frequent recertification reduces FS participation and shorten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WD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en FSP participation sp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FSP re-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have only modest effects on em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s that don’t bark: policy effects appear where they are supposed to but not where they 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reduces F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aps in FSP research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on FSP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follow a national formula, only variation in formula is in Alaska and Haw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, however, is left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re difficult to measure and usually only apply to selec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examine with most national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also seem to be difficult to measure within a single state; however, there are two important aspects of policy in South Carolina that can be readily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AWD polic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WORA, ABA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to work or participate in work-rela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 could only receive benefits for 3 months in any three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discretion, states could exempt ABAWDs living in high unemploym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later given discretion to exempt up to 15 percent of their ABAWD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Carolina used its discretion to exempt entire counties (mos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 of counties changed somewhat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unties exempt after Oct.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71720" y="457560"/>
            <a:ext cx="70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Counties Exempt from ABAWD Work Requirements 1996 –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66680"/>
          <a:ext cx="8229600" cy="4957920"/>
        </p:xfrm>
        <a:graphic>
          <a:graphicData uri="http://schemas.openxmlformats.org/drawingml/2006/table">
            <a:tbl>
              <a:tblPr/>
              <a:tblGrid>
                <a:gridCol w="1096920"/>
                <a:gridCol w="2925720"/>
                <a:gridCol w="2103480"/>
                <a:gridCol w="2103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r Surplus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Unemployment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 Exemption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1, 19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llendale, Bamberg, city of North Charlestown, Chester, Chesterfield, Clarendon, Colleton, Darlington, Fairfield, city of Florence, Hampton, Kershaw, Lee, McCormick, Orangeburg, city of Sumter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well, Dillon, Georgetow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1, 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ken, Allendale, Bamberg, Barnwell, Calhoun, city of North Charlestown, Chesterfield, Clarendon, Colleton, Darlington, Dillon, Edgefield, Fairfield, Florence, Hampton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Georgetown, Lee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1,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llendale, city of Anderson, Bamberg, Barnwell, Calhoun, city of North Charlestown, Chester, Chesterfield, Clarendon, Darlington, Dillon, Fairfield, Florence, Georgetown, Hampton, Lee, McCormick, Marion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erson (balance of county), 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hester, Chesterfield, Clarendon, Darlington, Dillon, Fairfield, Georgetown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alhou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Fairfield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, 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city of Anderson, Barnwell, Cherokee, Chesterfield, Clarendon, Darlington, city of Florence, Georgetown, Greenwood, city of Sum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Fairfield, Laurens, McCormick, Marion, Marlboro, Orangeburg, Union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9000" y="6290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SP recertifi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P eligibility is based on monthly criteria; however, these are hard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clients need to “recertify” their eligibility either in-person or by mail regularly; states vary in their recertificatio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Carolina distinguishes between HHs with fixed and fluctuating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s with fixed incomes need to recertify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Oct. 2002, HHs with fluctuating incomes needed to recertify quart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Oct. 2002, HHs with fluctuating incomes need to recertify semi-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ly and disabled HHs with fixed incomes have easier recertification requirements than other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dentification of policy eff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it is difficult to identify policy effects within a singl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BAWD polic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y variation in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the expected timing of effects (should appear early in a sp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amine a psuedo-control group of older adult-only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SP recertific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ccur relative to the start of a participation spell and thus can be seen in the spell duratio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policy in Oct.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differences by initial incom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Caseload Tre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01800" y="1600200"/>
          <a:ext cx="599760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600200"/>
                    <a:ext cx="599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examine administrative records for FSP spells that began after Oct. 1996; data extend through Dec.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spells of participation or non-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easured to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hort breaks and short sp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spells that were on-going as of Oct.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&amp; non-participation spells may be rep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indicator for whether case head earned more than $250 in a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 some jobs – agriculture, out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detailed timing information, just use quarterl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23:19Z</dcterms:created>
  <dc:creator>faculty</dc:creator>
  <dc:description/>
  <dc:language>en-US</dc:language>
  <cp:lastModifiedBy>dcribar</cp:lastModifiedBy>
  <dcterms:modified xsi:type="dcterms:W3CDTF">2006-10-24T21:12:06Z</dcterms:modified>
  <cp:revision>13</cp:revision>
  <dc:subject/>
  <dc:title>Slide 1</dc:title>
</cp:coreProperties>
</file>