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D7E-A074-45C9-8F6F-9BB7E442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0F3-91DC-4630-86EA-2A13F40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047-0EF4-439F-A224-B194C936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7E6-C174-4EA9-9A96-8796D4C5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D450-CE5D-437E-8E92-1C8EED4A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B7AD-3710-47B9-AC88-556C72AD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16BC-5BA0-42FF-8AF0-65BD35FD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03A-9DCE-4801-A15A-E3F068C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BEB-CE56-43EE-936A-B5C6D9C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6D8F-F8F4-4715-A224-70BE8C25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5216-310B-4FDC-8D19-6BA85C6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055-7E52-4B90-B302-EC2C609C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C17-0C43-40AE-ADB1-37A35B8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1FFF-62A2-4B1B-ACF9-8CCFF23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8B22-BCBB-4062-8B91-6AC6659C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E038-464F-4965-80BB-A5555965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84C8-6748-4D4E-8698-EB17C774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E48-2B2E-46C0-AA2D-DFC95470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F90-CB62-4BF4-B324-720D476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D96-56B4-4D87-BFCB-D0A3013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A90-12A7-4D17-9917-BCE54196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ED4-0BFA-4968-B66E-2EFA625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01E-D89D-4736-9DED-9A0572A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48C-52C6-408C-ACCE-EB2A95E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31C-7549-44BB-A2FE-05E37157AF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E79-5334-4635-A397-EE21458498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609480" cy="73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Food Stamp Participation and Employment among Adult-Only Household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886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avid C. Ribar – The George Washingt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arilyn Edelhoch – South Carolina Department of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iduan Liu – South Carolina Department of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(continue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ersonal and family controls include race, age, gender, education,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y measures: unemployment, population density, border county, ABAWD ex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xamine cases without dependent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sample size, examine 1 out of every 11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alyses conducted for HHs with and without members under age 50 (with and without potential ABAW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,264 households with members under age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,550 households with no members under age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for different cohorts &amp; types of househol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340704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84640" y="1600200"/>
            <a:ext cx="3387960" cy="21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19240" y="3944880"/>
            <a:ext cx="340344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087880" y="3944880"/>
            <a:ext cx="3382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survival functions for different cohorts &amp; types of househol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2637000"/>
            <a:ext cx="3814920" cy="245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1880" y="2638440"/>
            <a:ext cx="3814920" cy="245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7680" y="21337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s began befor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20937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s began after Jun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entry cohort and income typ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27240" y="1600200"/>
            <a:ext cx="31874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87960" y="1600200"/>
            <a:ext cx="318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31920" y="3944880"/>
            <a:ext cx="31780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2640" y="3944880"/>
            <a:ext cx="3175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county ABAWD exemption 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90760" y="1600200"/>
            <a:ext cx="64767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county ABAWD exemption 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65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ltivariate analy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ly estimate multivariate model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tamp participation sp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tamp non-participation sp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control for problems from omitted variables and endogenous explanator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estimated separately for HHs with and without members under age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ex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model for food stamp ex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η   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hazard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of duration variables, including spell duration, calendar time and recertification indicators; spell duration controls interacted with ABAWD exemp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indicator for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of other observed explanatory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η is an unobserved, time invariant variable; η ~ N(0,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efficients to b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is endogenous; assumed to be correlated with 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re-en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model for food stamp re-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μ         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hazard specificatio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fined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of duration variables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only includes controls for spell duration and calenda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μ is an unobserved, time invariant variable; μ ~ N(0,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correlated with η (ρ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η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efficients to b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is again endoge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procedure allows for multiple, alternating spells of food stamp participation and non-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loy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earnings/employ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ν + ε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s probi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ν is an unobserved, time invariant variable; ν ~ N(0, 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correlated with η and μ (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μ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(1)-(3) estimated jointly; because of repeated observations, numerous outcomes examined per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quadrature used to evaluate η, μ and ν; 10 evaluations in each dimension (1000 evaluations tot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wo gaps in the FSP litera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little FSP research on adult-only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evious research has either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 with children, especially single-parent famili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eload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behavior among adult-only HHs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ake-up among eld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pells for those who d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-only HHs are also a focus o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pplication procedures for elderly &amp;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requirements and time limits for able-bodied adults without dependents (ABAW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ABAWD exemption status, HHs with members &lt;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62040" y="1679400"/>
            <a:ext cx="64753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employment, HHs with members under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2592360"/>
            <a:ext cx="3814920" cy="254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71880" y="2589120"/>
            <a:ext cx="3814920" cy="255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66680" y="205740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ll begins in January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9000" y="205740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ll begins in Jul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emp. &amp; age comp., HHs with no members under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2080" y="19051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ell begins in Januar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5120" y="1905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ell begins in July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3814920" cy="2549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1880" y="2587680"/>
            <a:ext cx="38149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is important: more frequent recertification reduces FS participation and shortens sp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WD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en FSP participation sp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FSP re-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have only modest effects on em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s that don’t bark: policy effects appear where they are supposed to but not where they 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reduces FS sp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aps in FSP research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research on FSP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follow a national formula, only variation in formula is in Alaska and Haw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, however, is left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re difficult to measure and usually only apply to selec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examine with most national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also seem to be difficult to measure within a single state; however, there are two important aspects of policy in South Carolina that can be readily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AWD polic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RWORA, ABA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to work or participate in work-relate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wise could only receive benefits for 3 months in any three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discretion, states could exempt ABAWDs living in high unemploym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later given discretion to exempt up to 15 percent of their ABAWD cas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Carolina used its discretion to exempt entire counties (mos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 of counties changed somewhat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unties exempt after Oct.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71720" y="457560"/>
            <a:ext cx="70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Counties Exempt from ABAWD Work Requirements 1996 –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66680"/>
          <a:ext cx="8229600" cy="4957920"/>
        </p:xfrm>
        <a:graphic>
          <a:graphicData uri="http://schemas.openxmlformats.org/drawingml/2006/table">
            <a:tbl>
              <a:tblPr/>
              <a:tblGrid>
                <a:gridCol w="1096920"/>
                <a:gridCol w="2925720"/>
                <a:gridCol w="2103480"/>
                <a:gridCol w="2103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r Surplus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Unemployment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 Exemption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1, 19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llendale, Bamberg, city of North Charlestown, Chester, Chesterfield, Clarendon, Colleton, Darlington, Fairfield, city of Florence, Hampton, Kershaw, Lee, McCormick, Orangeburg, city of Sumter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well, Dillon, Georgetown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1, 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ken, Allendale, Bamberg, Barnwell, Calhoun, city of North Charlestown, Chesterfield, Clarendon, Colleton, Darlington, Dillon, Edgefield, Fairfield, Florence, Hampton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er, Georgetown, Lee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leston (balance of coun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1,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llendale, city of Anderson, Bamberg, Barnwell, Calhoun, city of North Charlestown, Chester, Chesterfield, Clarendon, Darlington, Dillon, Fairfield, Florence, Georgetown, Hampton, Lee, McCormick, Marion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erson (balance of county), Charleston (balance of coun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hester, Chesterfield, Clarendon, Darlington, Dillon, Fairfield, Georgetown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alhou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Fairfield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Fairfield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 1, 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Fairfield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, 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city of Anderson, Barnwell, Cherokee, Chesterfield, Clarendon, Darlington, city of Florence, Georgetown, Greenwood, city of Sum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er, Fairfield, Laurens, McCormick, Marion, Marlboro, Orangeburg, Union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59000" y="6290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SP recertifi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P eligibility is based on monthly criteria; however, these are hard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clients need to “recertify” their eligibility either in-person or by mail regularly; states vary in their recertificatio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Carolina distinguishes between HHs with fixed and fluctuating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s with fixed incomes need to recertify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Oct. 2002, HHs with fluctuating incomes needed to recertify quart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Oct. 2002, HHs with fluctuating incomes need to recertify semi-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derly and disabled HHs with fixed incomes have easier recertification requirements than other H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dentification of policy eff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it is difficult to identify policy effects within a singl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BAWD polic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y variation in exemp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the expected timing of effects (should appear early in a sp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amine a psuedo-control group of older adult-only H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SP recertific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ccur relative to the start of a participation spell and thus can be seen in the spell duration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policy in Oct.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differences by initial incom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Caseload Tre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801800" y="1600200"/>
          <a:ext cx="599760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600200"/>
                    <a:ext cx="599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examine administrative records for FSP spells that began after Oct. 1996; data extend through Dec.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spells of participation or non-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easured to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hort breaks and short sp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spells that were on-going as of Oct.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&amp; non-participation spells may be rep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indicator for whether case head earned more than $250 in a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 some jobs – agriculture, out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detailed timing information, just use quarterl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23:19Z</dcterms:created>
  <dc:creator>faculty</dc:creator>
  <dc:description/>
  <dc:language>en-US</dc:language>
  <cp:lastModifiedBy>dcribar</cp:lastModifiedBy>
  <dcterms:modified xsi:type="dcterms:W3CDTF">2006-10-24T21:12:06Z</dcterms:modified>
  <cp:revision>13</cp:revision>
  <dc:subject/>
  <dc:title>Slide 1</dc:title>
</cp:coreProperties>
</file>