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B72BD-572C-486B-BDBC-44F2BD167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99600" y="277560"/>
            <a:ext cx="7497720" cy="10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4047120"/>
            <a:ext cx="8229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5E2BB-16C4-470E-B650-20D8AD200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9600" y="277560"/>
            <a:ext cx="7497720" cy="10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4047120"/>
            <a:ext cx="40158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4047120"/>
            <a:ext cx="40158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0F7EF-2732-412E-B97E-1D1CADC44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9600" y="277560"/>
            <a:ext cx="7497720" cy="10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4047120"/>
            <a:ext cx="2649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4047120"/>
            <a:ext cx="2649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4047120"/>
            <a:ext cx="2649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BE080-8C83-4134-8EBE-415A59E81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5BA23-5521-46EA-AE18-4A489808D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99600" y="277560"/>
            <a:ext cx="7497720" cy="10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096F0-61C8-4E32-9B41-C94575569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99600" y="277560"/>
            <a:ext cx="7497720" cy="10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263B3-8FDA-4106-A9C3-44660D8A5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99600" y="277560"/>
            <a:ext cx="7497720" cy="10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E5DEE-B750-461B-A675-BC7F7D7C5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99600" y="277560"/>
            <a:ext cx="7497720" cy="10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DBF3C-9913-4282-BD9F-D87F83466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399600" y="277560"/>
            <a:ext cx="7497720" cy="480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9124E-9C06-4EBA-9C3D-76BCB0C48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99600" y="277560"/>
            <a:ext cx="7497720" cy="10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47120"/>
            <a:ext cx="40158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520A1-A213-48CF-8385-7D5B79373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99600" y="277560"/>
            <a:ext cx="7497720" cy="10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92FEA-4ADA-4D73-9319-747138690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99600" y="277560"/>
            <a:ext cx="7497720" cy="10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4047120"/>
            <a:ext cx="40158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341D5-7FCE-4137-8B83-0AED06B47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99600" y="277560"/>
            <a:ext cx="7497720" cy="10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047120"/>
            <a:ext cx="8229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76BB7-964C-47A1-B631-4DF02C3A1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99600" y="277560"/>
            <a:ext cx="7497720" cy="10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4047120"/>
            <a:ext cx="8229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D6AA3-E05A-4D67-BFFA-25F2E121E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99600" y="277560"/>
            <a:ext cx="7497720" cy="10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4047120"/>
            <a:ext cx="40158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4047120"/>
            <a:ext cx="40158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84328-9248-4DAC-BE7C-1046AFBE6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99600" y="277560"/>
            <a:ext cx="7497720" cy="10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4047120"/>
            <a:ext cx="2649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4047120"/>
            <a:ext cx="2649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4047120"/>
            <a:ext cx="2649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D4BC9-53BD-4EBC-B0E4-AE9B347D4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99600" y="277560"/>
            <a:ext cx="7497720" cy="10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4AB74-4DC3-4E60-A694-E0D286D81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99600" y="277560"/>
            <a:ext cx="7497720" cy="10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A58FF-FDC1-4AAF-BE87-C43BB99A1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99600" y="277560"/>
            <a:ext cx="7497720" cy="10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345F2-0713-40B3-9EE5-04C0AA295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399600" y="277560"/>
            <a:ext cx="7497720" cy="480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E85AA-0D5F-4DEC-9C23-7244ABD45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99600" y="277560"/>
            <a:ext cx="7497720" cy="10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47120"/>
            <a:ext cx="40158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8AC1F-B5B4-4FAC-BA78-C85F8ABBF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9600" y="277560"/>
            <a:ext cx="7497720" cy="10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4047120"/>
            <a:ext cx="40158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4F46B-2A42-4E93-A8C8-CB278F72D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99600" y="277560"/>
            <a:ext cx="7497720" cy="10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47120"/>
            <a:ext cx="8229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4ABAD-C1D3-45B2-9676-0677F1BB6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9600" y="277560"/>
            <a:ext cx="7497720" cy="10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680" y="0"/>
            <a:ext cx="9139320" cy="228600"/>
          </a:xfrm>
          <a:prstGeom prst="rect">
            <a:avLst/>
          </a:prstGeom>
          <a:gradFill rotWithShape="0">
            <a:gsLst>
              <a:gs pos="0">
                <a:srgbClr val="336699"/>
              </a:gs>
              <a:gs pos="100000">
                <a:srgbClr val="8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 flipH="1">
            <a:off x="-360" y="0"/>
            <a:ext cx="4680" cy="685800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 flipV="1">
            <a:off x="9140760" y="0"/>
            <a:ext cx="0" cy="685800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6881760" y="6593040"/>
            <a:ext cx="2133720" cy="1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E5434-C025-4C01-9BCC-CC707E360D20}" type="slidenum">
              <a:rPr b="0" lang="en-US" sz="1000" spc="-1" strike="noStrike">
                <a:solidFill>
                  <a:srgbClr val="336699"/>
                </a:solidFill>
                <a:latin typeface="Arial"/>
                <a:ea typeface="Arial"/>
              </a:rPr>
              <a:t>&lt;number&gt;</a:t>
            </a:fld>
            <a:r>
              <a:rPr b="0" lang="en-US" sz="1000" spc="-1" strike="noStrike">
                <a:solidFill>
                  <a:srgbClr val="336699"/>
                </a:solidFill>
                <a:latin typeface="Arial"/>
                <a:ea typeface="Arial"/>
              </a:rPr>
              <a:t>/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3240"/>
            <a:ext cx="789768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0" y="228240"/>
            <a:ext cx="9144000" cy="32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7954920" y="3240"/>
            <a:ext cx="1189080" cy="0"/>
          </a:xfrm>
          <a:prstGeom prst="line">
            <a:avLst/>
          </a:prstGeom>
          <a:ln w="6480">
            <a:solidFill>
              <a:srgbClr val="ffb8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456840" y="6421320"/>
            <a:ext cx="2133720" cy="3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124080" y="6421320"/>
            <a:ext cx="2895840" cy="3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391440" y="6421320"/>
            <a:ext cx="2133360" cy="3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C0676-F382-45E4-B95C-72126424A18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"/>
          <p:cNvSpPr/>
          <p:nvPr/>
        </p:nvSpPr>
        <p:spPr>
          <a:xfrm>
            <a:off x="3240" y="304920"/>
            <a:ext cx="9140760" cy="12600"/>
          </a:xfrm>
          <a:prstGeom prst="line">
            <a:avLst/>
          </a:prstGeom>
          <a:ln w="648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" name=""/>
          <p:cNvGrpSpPr/>
          <p:nvPr/>
        </p:nvGrpSpPr>
        <p:grpSpPr>
          <a:xfrm>
            <a:off x="-360" y="6594480"/>
            <a:ext cx="9147600" cy="263160"/>
            <a:chOff x="-360" y="6594480"/>
            <a:chExt cx="9147600" cy="263160"/>
          </a:xfrm>
        </p:grpSpPr>
        <p:sp>
          <p:nvSpPr>
            <p:cNvPr id="14" name=""/>
            <p:cNvSpPr/>
            <p:nvPr/>
          </p:nvSpPr>
          <p:spPr>
            <a:xfrm flipH="1">
              <a:off x="-360" y="6634080"/>
              <a:ext cx="1158840" cy="0"/>
            </a:xfrm>
            <a:prstGeom prst="line">
              <a:avLst/>
            </a:prstGeom>
            <a:ln w="6480">
              <a:solidFill>
                <a:srgbClr val="0035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0" y="6626160"/>
              <a:ext cx="1428840" cy="228600"/>
            </a:xfrm>
            <a:prstGeom prst="rect">
              <a:avLst/>
            </a:prstGeom>
            <a:gradFill rotWithShape="0">
              <a:gsLst>
                <a:gs pos="0">
                  <a:srgbClr val="336699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>
              <a:off x="1108800" y="6598440"/>
              <a:ext cx="328680" cy="258840"/>
            </a:xfrm>
            <a:prstGeom prst="rtTriangl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flipH="1">
              <a:off x="0" y="6851520"/>
              <a:ext cx="9144000" cy="3240"/>
            </a:xfrm>
            <a:prstGeom prst="line">
              <a:avLst/>
            </a:prstGeom>
            <a:ln w="648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0" y="6594480"/>
              <a:ext cx="1171440" cy="0"/>
            </a:xfrm>
            <a:prstGeom prst="line">
              <a:avLst/>
            </a:prstGeom>
            <a:ln w="648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171440" y="6594480"/>
              <a:ext cx="277920" cy="218880"/>
            </a:xfrm>
            <a:prstGeom prst="line">
              <a:avLst/>
            </a:prstGeom>
            <a:ln w="648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50800" y="6813360"/>
              <a:ext cx="7696440" cy="0"/>
            </a:xfrm>
            <a:prstGeom prst="line">
              <a:avLst/>
            </a:prstGeom>
            <a:ln w="648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 flipH="1">
            <a:off x="-360" y="0"/>
            <a:ext cx="4680" cy="685800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9140760" y="0"/>
            <a:ext cx="0" cy="685800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4320" y="6602400"/>
            <a:ext cx="9147600" cy="263160"/>
            <a:chOff x="4320" y="6602400"/>
            <a:chExt cx="9147600" cy="263160"/>
          </a:xfrm>
        </p:grpSpPr>
        <p:sp>
          <p:nvSpPr>
            <p:cNvPr id="60" name=""/>
            <p:cNvSpPr/>
            <p:nvPr/>
          </p:nvSpPr>
          <p:spPr>
            <a:xfrm flipH="1">
              <a:off x="4320" y="6642000"/>
              <a:ext cx="1158840" cy="0"/>
            </a:xfrm>
            <a:prstGeom prst="line">
              <a:avLst/>
            </a:prstGeom>
            <a:ln w="6480">
              <a:solidFill>
                <a:srgbClr val="0035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680" y="6634080"/>
              <a:ext cx="1428840" cy="228600"/>
            </a:xfrm>
            <a:prstGeom prst="rect">
              <a:avLst/>
            </a:prstGeom>
            <a:gradFill rotWithShape="0">
              <a:gsLst>
                <a:gs pos="0">
                  <a:srgbClr val="336699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 flipV="1">
              <a:off x="1113480" y="6606360"/>
              <a:ext cx="328680" cy="258840"/>
            </a:xfrm>
            <a:prstGeom prst="rtTriangl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>
              <a:off x="4680" y="6859440"/>
              <a:ext cx="9144000" cy="3240"/>
            </a:xfrm>
            <a:prstGeom prst="line">
              <a:avLst/>
            </a:prstGeom>
            <a:ln w="648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680" y="6602400"/>
              <a:ext cx="1171440" cy="0"/>
            </a:xfrm>
            <a:prstGeom prst="line">
              <a:avLst/>
            </a:prstGeom>
            <a:ln w="648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176120" y="6602400"/>
              <a:ext cx="277920" cy="218880"/>
            </a:xfrm>
            <a:prstGeom prst="line">
              <a:avLst/>
            </a:prstGeom>
            <a:ln w="648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455480" y="6821280"/>
              <a:ext cx="7696440" cy="0"/>
            </a:xfrm>
            <a:prstGeom prst="line">
              <a:avLst/>
            </a:prstGeom>
            <a:ln w="648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" name=""/>
          <p:cNvSpPr/>
          <p:nvPr/>
        </p:nvSpPr>
        <p:spPr>
          <a:xfrm>
            <a:off x="6881760" y="6593040"/>
            <a:ext cx="2133720" cy="1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8F4BF-3E34-4ABA-8BDD-2392592DA874}" type="slidenum">
              <a:rPr b="0" lang="en-US" sz="1000" spc="-1" strike="noStrike">
                <a:solidFill>
                  <a:srgbClr val="336699"/>
                </a:solidFill>
                <a:latin typeface="Arial"/>
                <a:ea typeface="Arial"/>
              </a:rPr>
              <a:t>&lt;number&gt;</a:t>
            </a:fld>
            <a:r>
              <a:rPr b="0" lang="en-US" sz="1000" spc="-1" strike="noStrike">
                <a:solidFill>
                  <a:srgbClr val="336699"/>
                </a:solidFill>
                <a:latin typeface="Arial"/>
                <a:ea typeface="Arial"/>
              </a:rPr>
              <a:t>/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3240"/>
            <a:ext cx="7897680" cy="0"/>
          </a:xfrm>
          <a:prstGeom prst="line">
            <a:avLst/>
          </a:prstGeom>
          <a:ln w="9360">
            <a:solidFill>
              <a:srgbClr val="ffb8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680" y="0"/>
            <a:ext cx="8085240" cy="270000"/>
          </a:xfrm>
          <a:prstGeom prst="rect">
            <a:avLst/>
          </a:prstGeom>
          <a:gradFill rotWithShape="0">
            <a:gsLst>
              <a:gs pos="0">
                <a:srgbClr val="336699"/>
              </a:gs>
              <a:gs pos="100000">
                <a:srgbClr val="8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0" y="298440"/>
            <a:ext cx="8089920" cy="6480"/>
          </a:xfrm>
          <a:prstGeom prst="line">
            <a:avLst/>
          </a:prstGeom>
          <a:ln w="648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954920" y="3240"/>
            <a:ext cx="1189080" cy="0"/>
          </a:xfrm>
          <a:prstGeom prst="line">
            <a:avLst/>
          </a:prstGeom>
          <a:ln w="648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0BE4D-6851-4871-A7A9-A68CB496C4D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8089920" y="6480"/>
            <a:ext cx="1050840" cy="1050840"/>
          </a:xfrm>
          <a:prstGeom prst="rect">
            <a:avLst/>
          </a:prstGeom>
          <a:ln w="0">
            <a:noFill/>
          </a:ln>
        </p:spPr>
      </p:pic>
      <p:grpSp>
        <p:nvGrpSpPr>
          <p:cNvPr id="77" name=""/>
          <p:cNvGrpSpPr/>
          <p:nvPr/>
        </p:nvGrpSpPr>
        <p:grpSpPr>
          <a:xfrm>
            <a:off x="-360" y="6594480"/>
            <a:ext cx="9147600" cy="263160"/>
            <a:chOff x="-360" y="6594480"/>
            <a:chExt cx="9147600" cy="263160"/>
          </a:xfrm>
        </p:grpSpPr>
        <p:sp>
          <p:nvSpPr>
            <p:cNvPr id="78" name=""/>
            <p:cNvSpPr/>
            <p:nvPr/>
          </p:nvSpPr>
          <p:spPr>
            <a:xfrm flipH="1">
              <a:off x="-360" y="6634080"/>
              <a:ext cx="1158840" cy="0"/>
            </a:xfrm>
            <a:prstGeom prst="line">
              <a:avLst/>
            </a:prstGeom>
            <a:ln w="6480">
              <a:solidFill>
                <a:srgbClr val="0035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0" y="6626160"/>
              <a:ext cx="1428840" cy="228600"/>
            </a:xfrm>
            <a:prstGeom prst="rect">
              <a:avLst/>
            </a:prstGeom>
            <a:gradFill rotWithShape="0">
              <a:gsLst>
                <a:gs pos="0">
                  <a:srgbClr val="336699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 flipH="1" flipV="1">
              <a:off x="1108800" y="6598440"/>
              <a:ext cx="328680" cy="258840"/>
            </a:xfrm>
            <a:prstGeom prst="rtTriangl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flipH="1">
              <a:off x="0" y="6851520"/>
              <a:ext cx="9144000" cy="3240"/>
            </a:xfrm>
            <a:prstGeom prst="line">
              <a:avLst/>
            </a:prstGeom>
            <a:ln w="648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0" y="6594480"/>
              <a:ext cx="1171440" cy="0"/>
            </a:xfrm>
            <a:prstGeom prst="line">
              <a:avLst/>
            </a:prstGeom>
            <a:ln w="648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171440" y="6594480"/>
              <a:ext cx="277920" cy="218880"/>
            </a:xfrm>
            <a:prstGeom prst="line">
              <a:avLst/>
            </a:prstGeom>
            <a:ln w="648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450800" y="6813360"/>
              <a:ext cx="7696440" cy="0"/>
            </a:xfrm>
            <a:prstGeom prst="line">
              <a:avLst/>
            </a:prstGeom>
            <a:ln w="648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53352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Impact of a Temporary Help Job:  An Analysis of Outcomes for Participants in Three Missouri Program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rolyn J. Heinri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Follette School of Public Affai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iversity of Wisconsin-Mad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ter R. Mues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iversity of Missouri-Columb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partment of Econom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enneth R. Trosk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iversity of Kentuc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partment of Econom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enter for Business and Economic Re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ctober 20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99600" y="277560"/>
            <a:ext cx="7497720" cy="10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ur finding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ults strikingly similar for participants in different programs and for men and wo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enefits of a job in an alternative industry are slightly larger during a downturn, but basic patterns are similar (2001 vs 1997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ffect estimates are not likely to be spurio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99600" y="277560"/>
            <a:ext cx="7497720" cy="10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Aft>
                <a:spcPts val="22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Aft>
                <a:spcPts val="17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rticipants entering program in calendar year 1997, and 2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Aft>
                <a:spcPts val="15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cus much of the discussion on 1997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Aft>
                <a:spcPts val="17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ge at least 18 but less than 6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Aft>
                <a:spcPts val="17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gram info from Missouri state administrative 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Aft>
                <a:spcPts val="17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arnings/employment from the Unemployment Insurance (UI) “wage record data” for both Missouri and Kans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166760" y="700200"/>
            <a:ext cx="6829560" cy="521496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5029200" y="3429000"/>
            <a:ext cx="741240" cy="598320"/>
          </a:xfrm>
          <a:custGeom>
            <a:avLst/>
            <a:gdLst/>
            <a:ahLst/>
            <a:rect l="l" t="t" r="r" b="b"/>
            <a:pathLst>
              <a:path w="467" h="377">
                <a:moveTo>
                  <a:pt x="83" y="348"/>
                </a:moveTo>
                <a:cubicBezTo>
                  <a:pt x="55" y="320"/>
                  <a:pt x="56" y="288"/>
                  <a:pt x="90" y="265"/>
                </a:cubicBezTo>
                <a:cubicBezTo>
                  <a:pt x="75" y="223"/>
                  <a:pt x="63" y="230"/>
                  <a:pt x="90" y="188"/>
                </a:cubicBezTo>
                <a:cubicBezTo>
                  <a:pt x="80" y="134"/>
                  <a:pt x="77" y="157"/>
                  <a:pt x="51" y="118"/>
                </a:cubicBezTo>
                <a:cubicBezTo>
                  <a:pt x="43" y="92"/>
                  <a:pt x="30" y="94"/>
                  <a:pt x="7" y="80"/>
                </a:cubicBezTo>
                <a:cubicBezTo>
                  <a:pt x="45" y="54"/>
                  <a:pt x="15" y="76"/>
                  <a:pt x="0" y="35"/>
                </a:cubicBezTo>
                <a:cubicBezTo>
                  <a:pt x="95" y="0"/>
                  <a:pt x="112" y="24"/>
                  <a:pt x="269" y="28"/>
                </a:cubicBezTo>
                <a:cubicBezTo>
                  <a:pt x="276" y="50"/>
                  <a:pt x="282" y="67"/>
                  <a:pt x="295" y="86"/>
                </a:cubicBezTo>
                <a:cubicBezTo>
                  <a:pt x="307" y="123"/>
                  <a:pt x="292" y="96"/>
                  <a:pt x="346" y="112"/>
                </a:cubicBezTo>
                <a:cubicBezTo>
                  <a:pt x="360" y="116"/>
                  <a:pt x="371" y="126"/>
                  <a:pt x="384" y="131"/>
                </a:cubicBezTo>
                <a:cubicBezTo>
                  <a:pt x="340" y="145"/>
                  <a:pt x="367" y="166"/>
                  <a:pt x="391" y="182"/>
                </a:cubicBezTo>
                <a:cubicBezTo>
                  <a:pt x="427" y="236"/>
                  <a:pt x="411" y="202"/>
                  <a:pt x="423" y="265"/>
                </a:cubicBezTo>
                <a:cubicBezTo>
                  <a:pt x="425" y="274"/>
                  <a:pt x="422" y="286"/>
                  <a:pt x="429" y="291"/>
                </a:cubicBezTo>
                <a:cubicBezTo>
                  <a:pt x="439" y="299"/>
                  <a:pt x="454" y="295"/>
                  <a:pt x="467" y="297"/>
                </a:cubicBezTo>
                <a:cubicBezTo>
                  <a:pt x="428" y="311"/>
                  <a:pt x="434" y="332"/>
                  <a:pt x="429" y="374"/>
                </a:cubicBezTo>
                <a:cubicBezTo>
                  <a:pt x="416" y="372"/>
                  <a:pt x="400" y="377"/>
                  <a:pt x="391" y="368"/>
                </a:cubicBezTo>
                <a:cubicBezTo>
                  <a:pt x="386" y="363"/>
                  <a:pt x="405" y="356"/>
                  <a:pt x="403" y="348"/>
                </a:cubicBezTo>
                <a:cubicBezTo>
                  <a:pt x="401" y="341"/>
                  <a:pt x="390" y="340"/>
                  <a:pt x="384" y="336"/>
                </a:cubicBezTo>
                <a:cubicBezTo>
                  <a:pt x="349" y="337"/>
                  <a:pt x="191" y="342"/>
                  <a:pt x="135" y="348"/>
                </a:cubicBezTo>
                <a:cubicBezTo>
                  <a:pt x="111" y="351"/>
                  <a:pt x="96" y="372"/>
                  <a:pt x="83" y="348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429000" y="3581280"/>
            <a:ext cx="1066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2590920"/>
            <a:ext cx="152388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Missou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2971800"/>
            <a:ext cx="533160" cy="53352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6171840" y="533520"/>
            <a:ext cx="25146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pulation:  5.70 m (200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nd area: 178,415 sq k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iti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6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ansas City metro area: 1.12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6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. Louis metro area: 2.05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6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 smaller metro ar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85800" y="5715000"/>
            <a:ext cx="46483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itzerland population:  7.17 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rtugal population: 10.05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457200" y="914400"/>
            <a:ext cx="56386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6171840" y="533520"/>
            <a:ext cx="25146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pulation:  5.70 m (200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nd area: 178,415 sq k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iti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6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ansas City metro area: 1.12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6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. Louis metro area: 2.05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6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lumbia metro area 149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57200" y="5715000"/>
            <a:ext cx="693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Missouri is a very “typical” of US states in terms of income, industry, age, race, politic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457200" y="914400"/>
            <a:ext cx="56386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99600" y="277560"/>
            <a:ext cx="7497720" cy="10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asic Mod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5409" b="0"/>
          <a:stretch/>
        </p:blipFill>
        <p:spPr>
          <a:xfrm>
            <a:off x="1066680" y="1295280"/>
            <a:ext cx="7732800" cy="482940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152280" y="388620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Reference quar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447920" y="3962520"/>
            <a:ext cx="228600" cy="457200"/>
          </a:xfrm>
          <a:custGeom>
            <a:avLst/>
            <a:gdLst>
              <a:gd name="textAreaLeft" fmla="*/ 0 w 228600"/>
              <a:gd name="textAreaRight" fmla="*/ 82440 w 22860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99600" y="277560"/>
            <a:ext cx="7497720" cy="10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trol Vari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ackground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ge, age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ears of education, high school, colle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nwh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. Louis central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ansas City central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burban, small metro, nonmet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380880" y="13716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ior labor market experi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portion of previous 8 quarters work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orking all previous 8 quar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 work in previous 8 quar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tal earnings in prior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tal earnings two years pri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or indus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arter of entry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1997:1-1997:4 or 2001:1-2001: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nemployment in county in outcome quar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399600" y="277560"/>
            <a:ext cx="7497720" cy="10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trol Variables (continu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99600" y="277560"/>
            <a:ext cx="7497720" cy="10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dustry co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ne industry in quar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mporary help services (TH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nufactu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tail tra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rvice (but not TH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ultiple indus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cluding 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t including 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99600" y="277560"/>
            <a:ext cx="7497720" cy="10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pendent vari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sic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rnings in outcome quarter (quarter 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ludes ze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fference-in-dif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quarter 9 earnings) – (quarter -9 earning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erpretation is as prediction of “expected earning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99600" y="277560"/>
            <a:ext cx="7497720" cy="10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79250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Aft>
                <a:spcPts val="15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mployment in temporary help service (THS) firms increased from less than 0.5% in 1982 to over 2.5% by 2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owth was even more dramatic among the most disadvantag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reasingly used as a tool to help those facing difficulties obtaining employ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125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lementary with “work first” progr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99600" y="277560"/>
            <a:ext cx="749772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mplicit Assumptions of the Ana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e assume that, conditional on the control variables, industry in reference period is not associated with outcome earn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 this reasonab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e think s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tensive list of control variables including prior work history and prior indus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vious paper (Heinrich et al., 2005) controlled for selection and it didn’t ma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99600" y="277560"/>
            <a:ext cx="749772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mplicit Assumptions of the Ana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s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terminants of industry choice from logit model reveals very little difference in type of indus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ery similar results with very different sa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agnostics suggest that effects estimates are not likely to be spuri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57200" y="1066680"/>
            <a:ext cx="8172360" cy="44960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3505320" y="4724280"/>
            <a:ext cx="609480" cy="304920"/>
          </a:xfrm>
          <a:prstGeom prst="ellipse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343400" y="4724280"/>
            <a:ext cx="609480" cy="30492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334120" y="4724280"/>
            <a:ext cx="609480" cy="304920"/>
          </a:xfrm>
          <a:prstGeom prst="ellipse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172200" y="4724280"/>
            <a:ext cx="609480" cy="30492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162920" y="4724280"/>
            <a:ext cx="609480" cy="304920"/>
          </a:xfrm>
          <a:prstGeom prst="ellipse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8077320" y="4724280"/>
            <a:ext cx="609480" cy="30492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883944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Employment in Industries 1997: Fem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62120" y="1295280"/>
            <a:ext cx="7041960" cy="482148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99600" y="277560"/>
            <a:ext cx="8286840" cy="10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Employment in Industries 1997: M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191120" y="5181480"/>
            <a:ext cx="609480" cy="304920"/>
          </a:xfrm>
          <a:prstGeom prst="ellipse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5181480"/>
            <a:ext cx="609480" cy="30492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248520" y="5181480"/>
            <a:ext cx="609480" cy="304920"/>
          </a:xfrm>
          <a:prstGeom prst="ellipse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162920" y="5181480"/>
            <a:ext cx="609480" cy="30492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99600" y="277560"/>
            <a:ext cx="7497720" cy="10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o Gets a THS job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NL predicting industry in reference quarter (quarter 1 after program entr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pendent variable: THS, THS and other, other industry, no job (exclud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99600" y="277560"/>
            <a:ext cx="7497720" cy="10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o Gets a THS Job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nwhi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ose living in metro ar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ace and place matte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99600" y="277560"/>
            <a:ext cx="7497720" cy="10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o Gets Temporary Help Job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nwhi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ose living in metro ar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h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mployers can screen nonwhites cheap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mp help jobs require labor market sc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304920" y="1447920"/>
            <a:ext cx="8478720" cy="431136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231120" y="533520"/>
            <a:ext cx="1400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TAN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Fem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447920" y="38088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edicting Quarterly Earnings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28600" y="3048120"/>
            <a:ext cx="8610480" cy="3808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57200" y="175248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Reference quarter earn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752480" y="2209680"/>
            <a:ext cx="990720" cy="91440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28600" y="3581280"/>
            <a:ext cx="8610480" cy="4572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276720" y="4724280"/>
            <a:ext cx="5562360" cy="10670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28600" y="4038480"/>
            <a:ext cx="8610480" cy="5335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209680" y="1447920"/>
            <a:ext cx="64008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                 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Reference quarter indus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380880" y="1447920"/>
            <a:ext cx="8479080" cy="433692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0" y="1600200"/>
            <a:ext cx="34290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Training &amp; Employment Exchange   Fem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380880"/>
            <a:ext cx="708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edicting Quarterly Earnings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4191120"/>
            <a:ext cx="5562360" cy="4572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276720" y="5334120"/>
            <a:ext cx="5562360" cy="5331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76720" y="2895480"/>
            <a:ext cx="1447560" cy="12956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" y="3429000"/>
            <a:ext cx="2362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04920" y="3352680"/>
            <a:ext cx="236196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. Mean earnings 8 quarters l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76" dur="50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86" dur="50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304920" y="1371600"/>
            <a:ext cx="8478720" cy="408780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228600" y="914400"/>
            <a:ext cx="2438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Training &amp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Employment Exchange M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62120" y="304920"/>
            <a:ext cx="723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edicting Quarterly Earnings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276720" y="3886200"/>
            <a:ext cx="5486400" cy="4572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352680" y="5105520"/>
            <a:ext cx="5410440" cy="4572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76720" y="2362320"/>
            <a:ext cx="1371600" cy="15238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362320"/>
            <a:ext cx="1447920" cy="15238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380880" y="167616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Aft>
                <a:spcPts val="15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mporary help service provider hires work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15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then contracts with firm for firm to “use” work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15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orker activity occurs at firm 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15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mporary help service receives payment from fi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15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mp help service provider pays wages, taxes, benefit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15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rm has no legal employment relationship with work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15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S is classified as an industry even though work site is in other indus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380520" y="304560"/>
            <a:ext cx="7497720" cy="10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roduction (continu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181480" y="533520"/>
            <a:ext cx="350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Definition of TH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99600" y="277560"/>
            <a:ext cx="7497720" cy="10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edicting Employment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r both men and women employment in any sector in the reference period is strongly positively associated with the probability of employment eight quarters later relative to not having a job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nce we control for characteristics there is very little difference between workers in the temp help sector and other sectors in the probability of employment in the future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380880" y="1600200"/>
            <a:ext cx="8331480" cy="36734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5943600" y="4191120"/>
            <a:ext cx="609480" cy="304560"/>
          </a:xfrm>
          <a:prstGeom prst="ellipse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181480" y="4038480"/>
            <a:ext cx="685800" cy="228600"/>
          </a:xfrm>
          <a:prstGeom prst="ellipse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419720" y="3809880"/>
            <a:ext cx="685800" cy="228600"/>
          </a:xfrm>
          <a:prstGeom prst="ellipse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181480" y="3809880"/>
            <a:ext cx="685800" cy="2286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495680" y="4419720"/>
            <a:ext cx="609840" cy="22860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546732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Transitions between sectors 199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657600" y="3581280"/>
            <a:ext cx="685800" cy="228600"/>
          </a:xfrm>
          <a:prstGeom prst="ellipse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" y="5638680"/>
            <a:ext cx="4267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Transitions between sectors: Temporary help is easy to lea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952880" y="5638680"/>
            <a:ext cx="37339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Temporary help jobs often lead to manufacturing job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257800" y="4419720"/>
            <a:ext cx="609480" cy="2286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0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99600" y="277560"/>
            <a:ext cx="7497720" cy="10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nalysis for 200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e redo our analysis for individuals entering the three programs in 2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997 was a period of grow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employment around 3-4 percent in 1997-1998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tween 1997-1999 employment grew by 4.4 perc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001 was a period of contr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employment was over 5.5 perc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tween 2001-2004 employment declined by 1.5 perc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99600" y="277560"/>
            <a:ext cx="7497720" cy="10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nalysis for 200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d the role of THS change?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S is still unique: THS employment increases with program entry more than any other indus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rowth in temp help is somewhat less strong, however, especially for TANF particip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228600" y="1219320"/>
            <a:ext cx="8693280" cy="4930560"/>
          </a:xfrm>
          <a:prstGeom prst="rect">
            <a:avLst/>
          </a:prstGeom>
          <a:ln w="0">
            <a:noFill/>
          </a:ln>
        </p:spPr>
      </p:pic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3631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edicted Quarterly Earnings 8 Quarters Later: Program Entry in 1997 and 2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2209680"/>
            <a:ext cx="1600200" cy="18288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657600" y="4191120"/>
            <a:ext cx="1600200" cy="9144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657600" y="5181480"/>
            <a:ext cx="1600200" cy="10670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553080" y="762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Fem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99600" y="277560"/>
            <a:ext cx="7497720" cy="10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001 Result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ults for Men are simil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99600" y="277560"/>
            <a:ext cx="7497720" cy="10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001 Result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mporary help still unique in its role as a transitional indus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arnings, employment and transition results from 2001 follow a strikingly similar pattern to the 1997 resu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mpact of Temporary Help jobs is slightly less beneficial during a rece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99600" y="277560"/>
            <a:ext cx="7829640" cy="10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rrelated Errors: Robustness Che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at if unmeasured factors are correlated with reference quarter industry and outcome earning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tonji, Elder and Taber (2005) suggest using measured controls to suggest how large the bias of unmeasured factors may 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e implemented their methods in 3 w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609480" y="1066680"/>
            <a:ext cx="7925040" cy="561024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49772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obustness Checks: Summ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16160" y="4876920"/>
            <a:ext cx="12049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3300"/>
                </a:solidFill>
                <a:latin typeface="Arial"/>
                <a:ea typeface="Arial"/>
              </a:rPr>
              <a:t>Coeffici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3300"/>
                </a:solidFill>
                <a:latin typeface="Arial"/>
                <a:ea typeface="Arial"/>
              </a:rPr>
              <a:t>in red no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3300"/>
                </a:solidFill>
                <a:latin typeface="Arial"/>
                <a:ea typeface="Arial"/>
              </a:rPr>
              <a:t>statisticall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3300"/>
                </a:solidFill>
                <a:latin typeface="Arial"/>
                <a:ea typeface="Arial"/>
              </a:rPr>
              <a:t>significa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590920" y="2133720"/>
            <a:ext cx="533160" cy="4572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809880" y="3200400"/>
            <a:ext cx="4572000" cy="2241000"/>
          </a:xfrm>
          <a:prstGeom prst="rect">
            <a:avLst/>
          </a:prstGeom>
          <a:solidFill>
            <a:srgbClr val="ccffcc"/>
          </a:solidFill>
          <a:ln w="381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▲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ne test implies coefficient is not spurio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▲▲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wo tests imply coefficient is not spurio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▲▲▲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ree tests imply coefficient is not spurio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609480" y="1066680"/>
            <a:ext cx="7925040" cy="5610240"/>
          </a:xfrm>
          <a:prstGeom prst="rect">
            <a:avLst/>
          </a:prstGeom>
          <a:ln w="0">
            <a:noFill/>
          </a:ln>
        </p:spPr>
      </p:pic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49772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obustness Checks: Summ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616160" y="4876920"/>
            <a:ext cx="12049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3300"/>
                </a:solidFill>
                <a:latin typeface="Arial"/>
                <a:ea typeface="Arial"/>
              </a:rPr>
              <a:t>Coeffici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3300"/>
                </a:solidFill>
                <a:latin typeface="Arial"/>
                <a:ea typeface="Arial"/>
              </a:rPr>
              <a:t>in red no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3300"/>
                </a:solidFill>
                <a:latin typeface="Arial"/>
                <a:ea typeface="Arial"/>
              </a:rPr>
              <a:t>statisticall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3300"/>
                </a:solidFill>
                <a:latin typeface="Arial"/>
                <a:ea typeface="Arial"/>
              </a:rPr>
              <a:t>significa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590920" y="2133720"/>
            <a:ext cx="533160" cy="4572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380880" y="1295280"/>
            <a:ext cx="8229600" cy="51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Aft>
                <a:spcPts val="17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wo views of temp hel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15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viously dominant view of temp hel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Aft>
                <a:spcPts val="1500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job stabili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Aft>
                <a:spcPts val="1500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wer fringe benefi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Aft>
                <a:spcPts val="1500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wer w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15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ive 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Aft>
                <a:spcPts val="1500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th to permanent and stable employ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Aft>
                <a:spcPts val="1500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 to informal training and scree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Aft>
                <a:spcPts val="1500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stent with “work-first” strateg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title"/>
          </p:nvPr>
        </p:nvSpPr>
        <p:spPr>
          <a:xfrm>
            <a:off x="399600" y="277560"/>
            <a:ext cx="7497720" cy="10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troduction (continued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49772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obustness Checks: Summ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 most cases, in order for estimated coefficient to be spuriou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rror term needs to be related to THS employment in a very different way than observed contr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s seems implau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l estimated impacts are unlikely to be spurio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99600" y="277560"/>
            <a:ext cx="7497720" cy="10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e have investigated temp help jobs obtained following an employment “crisi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mporary help industry serves a unique role as a transitional indus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arnings are lower than in most other indust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thin 2 years, earnings have largely caught 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99600" y="277560"/>
            <a:ext cx="7497720" cy="10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ill, those with initial jobs in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o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other industries are doing better (often manufactur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catch up for temp help workers depends on moving to a better jo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ults strikingly similar for participants in different programs and for men and wo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enefits of a job in an alternative industry are slightly larger during a downturn, but basic patterns are simil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99600" y="277560"/>
            <a:ext cx="7497720" cy="10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btaining a temporary help job is clearly better than having no jo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 see no evidence that a strategy of waiting for a “better” job yields any benef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se results do not differ across our three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eterogeneity of our sample suggests that our results are general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5" dur="indefinite" restart="never" nodeType="tmRoot">
          <p:childTnLst>
            <p:seq>
              <p:cTn id="586" dur="indefinite" nodeType="mainSeq">
                <p:childTnLst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99600" y="277560"/>
            <a:ext cx="7497720" cy="10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troduction (continued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Aft>
                <a:spcPts val="15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r analysis looks at effects of holding a THS job for those entering three federal programs in Missouri in two different years—1997 and 200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Aft>
                <a:spcPts val="125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mporary Assistance for Needy Families (TANF): Single mothers with very low inco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Aft>
                <a:spcPts val="125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ob Training—Job Training Partnership Act (JTPA) in 1997 and Workforce Investment Act (WIA) in 2001: Low income adults &amp; displaced work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Aft>
                <a:spcPts val="125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mployment Exchange (“job service”) Anyone seeking a jo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Aft>
                <a:spcPts val="15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each program, individuals are likely to be facing employment difficul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Aft>
                <a:spcPts val="15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t level of job skills differs across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Aft>
                <a:spcPts val="15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 does the severity of the employment sh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99600" y="277560"/>
            <a:ext cx="7497720" cy="10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itera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75438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Aft>
                <a:spcPts val="15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mpirical studies confirm that temp help services job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15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y lower w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15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ffer fewer work ho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15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horter in ten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15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likely to provide fringe benefits (e.g. health insurance, pensio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99600" y="277560"/>
            <a:ext cx="7497720" cy="10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terature (continu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Aft>
                <a:spcPts val="17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usal impac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125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st studies that look at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mpac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find small or no negative effects of holding a temp help service job on eventual employment success (Lane et al.  2002; Heinrich et al. 2005; Anderson et al. 2002; Segal and Sullivan 1997; Booth et al. 2000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15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e exception is Autor and Houseman (2005) who find that working in temp help does not lead to eventual employment suc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99600" y="277560"/>
            <a:ext cx="7497720" cy="10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con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0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Aft>
                <a:spcPts val="15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 examine whether any other industry serves a similar role as 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15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 look at 3 classes of workers who differ by their level of market disadvantage: Do effects diff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15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 look at 7 industry groups: How do other specific industries compare with temporary help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15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 look at how temp help workers succeed: Role of job changes in helping temp help workers succe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15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 look at whether the effect of temp help varies across the business cy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15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 perform diagnostics to test whether results are likely spuri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74977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ur find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mporary help industry serves a unique role as a transitional indus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arnings are lower than in most other indust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thin 2 years, earnings have largely caught 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ill, those with initial jobs in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o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other industries are doing better (often manufactur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catch up for temp help workers depends on moving to a better jo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4T08:51:38Z</dcterms:created>
  <dc:creator>mueserp</dc:creator>
  <dc:description/>
  <dc:language>en-US</dc:language>
  <cp:lastModifiedBy>mueserp</cp:lastModifiedBy>
  <dcterms:modified xsi:type="dcterms:W3CDTF">2006-10-27T05:59:36Z</dcterms:modified>
  <cp:revision>71</cp:revision>
  <dc:subject/>
  <dc:title>Slide 1</dc:title>
</cp:coreProperties>
</file>