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CD9-6356-4A4E-9CEC-46B53C00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6E5-EFF7-49C0-A1D5-BB5F557E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4F7-F48D-4987-B5AE-F9D8037B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C77-38DE-4016-B674-2AD9CD6F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A4A5-DE7F-4B65-B1D4-73B7A6AE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FBEB-CE7A-4505-93C4-DBF86799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3961-4D5E-43E7-820A-8C28454A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EB29-0059-48F3-8228-DA6116D0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6F04-B4B3-4B4E-92F8-765C3662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FB1B-83C0-4380-BAD8-81EE536C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9053-5877-4FCC-916D-0B98CCD9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B04-BDC3-4A04-A0CF-48B8C93F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0130-7ABC-4F8E-AFBA-06AF298D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4701-2572-47E2-AE5B-333E197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0772-BA9E-4BF4-BB0A-EECDCFED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88BE-F2C4-4E27-BEED-9F4E29B6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47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3D65-D51A-4136-87B9-A861AA72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770-B501-42C4-A7F9-57CA35FB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E31-E9BB-4CEC-8FEE-EDAEB837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1EF-5970-4F22-9862-B6417845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99600" y="277560"/>
            <a:ext cx="749772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BE4-AE8E-4481-9893-6996C1C7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F07-AB9A-4C2F-80DB-CAFD2678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47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8C2-BEFE-421C-8661-62F03523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47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931-2FB7-4320-8A0D-F7CAF64F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0" y="0"/>
            <a:ext cx="9139320" cy="2286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3C1E-F1F2-4DC2-9736-4A5DF78F4EBD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228240"/>
            <a:ext cx="91440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421320"/>
            <a:ext cx="21337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21320"/>
            <a:ext cx="28958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391440" y="6421320"/>
            <a:ext cx="21333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2F7D-8F0A-4443-9C0F-F6E1C47592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240" y="304920"/>
            <a:ext cx="9140760" cy="1260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14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-360" y="0"/>
            <a:ext cx="468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140760" y="0"/>
            <a:ext cx="0" cy="6858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20" y="6602400"/>
            <a:ext cx="9147600" cy="263160"/>
            <a:chOff x="4320" y="6602400"/>
            <a:chExt cx="9147600" cy="263160"/>
          </a:xfrm>
        </p:grpSpPr>
        <p:sp>
          <p:nvSpPr>
            <p:cNvPr id="60" name=""/>
            <p:cNvSpPr/>
            <p:nvPr/>
          </p:nvSpPr>
          <p:spPr>
            <a:xfrm flipH="1">
              <a:off x="4320" y="664200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80" y="663408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113480" y="660636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680" y="685944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80" y="660240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6120" y="660240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55480" y="682128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6881760" y="6593040"/>
            <a:ext cx="2133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8158-C614-4872-8BAD-B9DF8868E9F4}" type="slidenum"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  <a:ea typeface="Arial"/>
              </a:rPr>
              <a:t>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0"/>
            <a:ext cx="7897680" cy="0"/>
          </a:xfrm>
          <a:prstGeom prst="line">
            <a:avLst/>
          </a:prstGeom>
          <a:ln w="9360">
            <a:solidFill>
              <a:srgbClr val="ffb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0" y="0"/>
            <a:ext cx="8085240" cy="270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0" y="298440"/>
            <a:ext cx="8089920" cy="648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54920" y="3240"/>
            <a:ext cx="1189080" cy="0"/>
          </a:xfrm>
          <a:prstGeom prst="line">
            <a:avLst/>
          </a:prstGeom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4436-1C99-4655-AE22-0482AA4577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89920" y="6480"/>
            <a:ext cx="1050840" cy="10508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360" y="6594480"/>
            <a:ext cx="9147600" cy="263160"/>
            <a:chOff x="-360" y="6594480"/>
            <a:chExt cx="9147600" cy="263160"/>
          </a:xfrm>
        </p:grpSpPr>
        <p:sp>
          <p:nvSpPr>
            <p:cNvPr id="78" name=""/>
            <p:cNvSpPr/>
            <p:nvPr/>
          </p:nvSpPr>
          <p:spPr>
            <a:xfrm flipH="1">
              <a:off x="-360" y="6634080"/>
              <a:ext cx="1158840" cy="0"/>
            </a:xfrm>
            <a:prstGeom prst="line">
              <a:avLst/>
            </a:prstGeom>
            <a:ln w="6480">
              <a:solidFill>
                <a:srgbClr val="0035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6160"/>
              <a:ext cx="1428840" cy="22860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108800" y="6598440"/>
              <a:ext cx="328680" cy="2588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0" y="6851520"/>
              <a:ext cx="9144000" cy="324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594480"/>
              <a:ext cx="1171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71440" y="6594480"/>
              <a:ext cx="277920" cy="21888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50800" y="6813360"/>
              <a:ext cx="7696440" cy="0"/>
            </a:xfrm>
            <a:prstGeom prst="line">
              <a:avLst/>
            </a:prstGeom>
            <a:ln w="64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mpact of a Temporary Help Job:  An Analysis of Outcomes for Participants in Three Missouri Program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olyn J. Hein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Follette School of Public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Wisconsin-Ma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er R. Mue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Missouri-Colu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neth R. Tros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 for Business and Economic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finding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strikingly similar for participants in different programs and for men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a job in an alternative industry are slightly larger during a downturn, but basic patterns are similar (2001 vs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 estimates are not likely to be spu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entering program in calendar year 1997, and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much of the discussion on 1997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at least 18 but less than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info from Missouri state administrati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/employment from the Unemployment Insurance (UI) “wage record data” for both Missouri and Kan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66760" y="700200"/>
            <a:ext cx="6829560" cy="5214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29200" y="3429000"/>
            <a:ext cx="741240" cy="598320"/>
          </a:xfrm>
          <a:custGeom>
            <a:avLst/>
            <a:gdLst/>
            <a:ahLst/>
            <a:rect l="l" t="t" r="r" b="b"/>
            <a:pathLst>
              <a:path w="467" h="377">
                <a:moveTo>
                  <a:pt x="83" y="348"/>
                </a:moveTo>
                <a:cubicBezTo>
                  <a:pt x="55" y="320"/>
                  <a:pt x="56" y="288"/>
                  <a:pt x="90" y="265"/>
                </a:cubicBezTo>
                <a:cubicBezTo>
                  <a:pt x="75" y="223"/>
                  <a:pt x="63" y="230"/>
                  <a:pt x="90" y="188"/>
                </a:cubicBezTo>
                <a:cubicBezTo>
                  <a:pt x="80" y="134"/>
                  <a:pt x="77" y="157"/>
                  <a:pt x="51" y="118"/>
                </a:cubicBezTo>
                <a:cubicBezTo>
                  <a:pt x="43" y="92"/>
                  <a:pt x="30" y="94"/>
                  <a:pt x="7" y="80"/>
                </a:cubicBezTo>
                <a:cubicBezTo>
                  <a:pt x="45" y="54"/>
                  <a:pt x="15" y="76"/>
                  <a:pt x="0" y="35"/>
                </a:cubicBezTo>
                <a:cubicBezTo>
                  <a:pt x="95" y="0"/>
                  <a:pt x="112" y="24"/>
                  <a:pt x="269" y="28"/>
                </a:cubicBezTo>
                <a:cubicBezTo>
                  <a:pt x="276" y="50"/>
                  <a:pt x="282" y="67"/>
                  <a:pt x="295" y="86"/>
                </a:cubicBezTo>
                <a:cubicBezTo>
                  <a:pt x="307" y="123"/>
                  <a:pt x="292" y="96"/>
                  <a:pt x="346" y="112"/>
                </a:cubicBezTo>
                <a:cubicBezTo>
                  <a:pt x="360" y="116"/>
                  <a:pt x="371" y="126"/>
                  <a:pt x="384" y="131"/>
                </a:cubicBezTo>
                <a:cubicBezTo>
                  <a:pt x="340" y="145"/>
                  <a:pt x="367" y="166"/>
                  <a:pt x="391" y="182"/>
                </a:cubicBezTo>
                <a:cubicBezTo>
                  <a:pt x="427" y="236"/>
                  <a:pt x="411" y="202"/>
                  <a:pt x="423" y="265"/>
                </a:cubicBezTo>
                <a:cubicBezTo>
                  <a:pt x="425" y="274"/>
                  <a:pt x="422" y="286"/>
                  <a:pt x="429" y="291"/>
                </a:cubicBezTo>
                <a:cubicBezTo>
                  <a:pt x="439" y="299"/>
                  <a:pt x="454" y="295"/>
                  <a:pt x="467" y="297"/>
                </a:cubicBezTo>
                <a:cubicBezTo>
                  <a:pt x="428" y="311"/>
                  <a:pt x="434" y="332"/>
                  <a:pt x="429" y="374"/>
                </a:cubicBezTo>
                <a:cubicBezTo>
                  <a:pt x="416" y="372"/>
                  <a:pt x="400" y="377"/>
                  <a:pt x="391" y="368"/>
                </a:cubicBezTo>
                <a:cubicBezTo>
                  <a:pt x="386" y="363"/>
                  <a:pt x="405" y="356"/>
                  <a:pt x="403" y="348"/>
                </a:cubicBezTo>
                <a:cubicBezTo>
                  <a:pt x="401" y="341"/>
                  <a:pt x="390" y="340"/>
                  <a:pt x="384" y="336"/>
                </a:cubicBezTo>
                <a:cubicBezTo>
                  <a:pt x="349" y="337"/>
                  <a:pt x="191" y="342"/>
                  <a:pt x="135" y="348"/>
                </a:cubicBezTo>
                <a:cubicBezTo>
                  <a:pt x="111" y="351"/>
                  <a:pt x="96" y="372"/>
                  <a:pt x="83" y="34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35812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590920"/>
            <a:ext cx="1523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sso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2971800"/>
            <a:ext cx="533160" cy="533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71840" y="533520"/>
            <a:ext cx="2514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:  5.70 m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area: 178,415 sq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sas City metro area: 1.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 Louis metro area: 2.0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maller metro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715000"/>
            <a:ext cx="464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zerland population:  7.17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 population: 10.0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63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71840" y="533520"/>
            <a:ext cx="2514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:  5.70 m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area: 178,415 sq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nsas City metro area: 1.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 Louis metro area: 2.0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ia metro area 149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57150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ssouri is a very “typical” of US states in terms of income, industry, age, race, poli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63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5409" b="0"/>
          <a:stretch/>
        </p:blipFill>
        <p:spPr>
          <a:xfrm>
            <a:off x="1066680" y="1295280"/>
            <a:ext cx="7732800" cy="4829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2280" y="3886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ference 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, ag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s of education, high school,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. Louis centr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nsas City centr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urban, small metro, non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labor market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 of previous 8 quarters wor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all previous 8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work in previous 8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earnings in prio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earnings two years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er of ent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997:1-1997:4 or 2001:1-2001: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employment in county in outcome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Variable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stry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industry in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services (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ail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(but not 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indu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including 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t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nings in outcome quarter (quarte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z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-in-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quarter 9 earnings) – (quarter -9 earning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is as prediction of “expected earn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ment in temporary help service (THS) firms increased from less than 0.5% in 1982 to over 2.5% b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was even more dramatic among the most disadvant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ly used as a tool to help those facing difficulties obtaining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mentary with “work first”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icit Assumptions of th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ssume that, conditional on the control variables, industry in reference period is not associated with outcome e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is reason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think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ve list of control variables including prior work history and pri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paper (Heinrich et al., 2005) controlled for selection and it didn’t ma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icit Assumptions of th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nts of industry choice from logit model reveals very little difference in type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imilar results with very different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tics suggest that effects estimates are not likely to be spu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72360" cy="4496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05320" y="47242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47242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47242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7242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47242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47242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loyment in Industries 1997: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041960" cy="4821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8286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loyment in Industries 1997: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51814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5181480"/>
            <a:ext cx="609480" cy="3049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5181480"/>
            <a:ext cx="60948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a THS job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L predicting industry in reference quarter (quarter 1 after program e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t variable: THS, THS and other, other industry, no job (exclu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a THS Job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wh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living in metro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ce and place mat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Temporary Help Job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wh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living in metro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ers can screen nonwhites chea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 help jobs require labor mark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78720" cy="4311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31120" y="53352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AN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Quarterly Earnings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8120"/>
            <a:ext cx="86104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752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ference quarter ear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2209680"/>
            <a:ext cx="990720" cy="914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581280"/>
            <a:ext cx="8610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724280"/>
            <a:ext cx="556236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4038480"/>
            <a:ext cx="86104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447920"/>
            <a:ext cx="6400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ference quart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79080" cy="4336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1600200"/>
            <a:ext cx="3429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aining &amp; Employment Exchange  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80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Quarterly Earnings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191120"/>
            <a:ext cx="556236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5334120"/>
            <a:ext cx="556236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895480"/>
            <a:ext cx="1447560" cy="12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3429000"/>
            <a:ext cx="23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352680"/>
            <a:ext cx="23619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Mean earnings 8 quart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78720" cy="4087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8600" y="914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raining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mployment Exchange 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04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Quarterly Earnings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886200"/>
            <a:ext cx="54864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5105520"/>
            <a:ext cx="541044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362320"/>
            <a:ext cx="137160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362320"/>
            <a:ext cx="1447920" cy="1523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help service provider hires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then contracts with firm for firm to “use”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 activity occurs at firm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help service receives payment from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 help service provider pays wages, taxes, benefi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 has no legal employment relationship with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S is classified as an industry even though work site is in oth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533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ition of 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ing Employment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oth men and women employment in any sector in the reference period is strongly positively associated with the probability of employment eight quarters later relative to not having a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we control for characteristics there is very little difference between workers in the temp help sector and other sectors in the probability of employment in the fu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31480" cy="3673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943600" y="4191120"/>
            <a:ext cx="609480" cy="3045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4038480"/>
            <a:ext cx="6858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3809880"/>
            <a:ext cx="6858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80988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4419720"/>
            <a:ext cx="609840" cy="22860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54673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ansitions between sectors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581280"/>
            <a:ext cx="6858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63868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nsitions between sectors: Temporary help is easy to le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5638680"/>
            <a:ext cx="373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orary help jobs often lead to manufacturing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419720"/>
            <a:ext cx="6094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sis for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redo our analysis for individuals entering the three programs in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7 was a period of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mployment around 3-4 percent in 1997-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1997-1999 employment grew by 4.4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was a period of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mployment was over 5.5 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2001-2004 employment declined by 1.5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sis for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the role of THS chang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S is still unique: THS employment increases with program entry more than any oth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wth in temp help is somewhat less strong, however, especially for TAN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93280" cy="4930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63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ed Quarterly Earnings 8 Quarters Later: Program Entry in 1997 and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2209680"/>
            <a:ext cx="160020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4191120"/>
            <a:ext cx="160020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181480"/>
            <a:ext cx="160020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 Resul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for Men are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 Resul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still unique in its role as a transitional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, employment and transition results from 2001 follow a strikingly similar pattern to the 1997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f Temporary Help jobs is slightly less beneficial during a re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8296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ed Errors: Robustne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unmeasured factors are correlated with reference quarter industry and outcome earn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onji, Elder and Taber (2005) suggest using measured controls to suggest how large the bias of unmeasured factors may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implemented their methods in 3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25040" cy="56102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97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ness Check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16160" y="4876920"/>
            <a:ext cx="12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in red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tatistic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ignific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133720"/>
            <a:ext cx="53316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200400"/>
            <a:ext cx="4572000" cy="2241000"/>
          </a:xfrm>
          <a:prstGeom prst="rect">
            <a:avLst/>
          </a:prstGeom>
          <a:solidFill>
            <a:srgbClr val="ccffcc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test implies coefficient is not sp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▲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tests imply coefficient is not sp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▲▲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e tests imply coefficient is not spur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25040" cy="56102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97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ness Check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16160" y="4876920"/>
            <a:ext cx="12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in red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tatistic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signific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2133720"/>
            <a:ext cx="53316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views of temp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ly dominant view of temp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job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wer fringe benef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v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to permanent and stable employ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to informal training and 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t with “work-first”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97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ness Check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most cases, in order for estimated coefficient to be spuri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term needs to be related to THS employment in a very different way than observed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eems implau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estimated impacts are unlikely to be spu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investigated temp help jobs obtained following an employment “cri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industry serves a unique role as a transitional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 are lower than in most other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2 years, earnings have largely caugh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, those with initial jobs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ther industries are doing better (often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tch up for temp help workers depends on moving to a bette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 strikingly similar for participants in different programs and for men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a job in an alternative industry are slightly larger during a downturn, but basic patterns are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aining a temporary help job is clearly better than having no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ee no evidence that a strategy of waiting for a “better” job yields any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results do not differ across our thre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terogeneity of our sample suggests that our results are gener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analysis looks at effects of holding a THS job for those entering three federal programs in Missouri in two different years—1997 and 200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rary Assistance for Needy Families (TANF): Single mothers with very low in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Training—Job Training Partnership Act (JTPA) in 1997 and Workforce Investment Act (WIA) in 2001: Low income adults &amp; displac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ment Exchange (“job service”) Anyone seeking a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program, individuals are likely to be facing employment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level of job skills differs across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does the severity of the employment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rical studies confirm that temp help services jo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 lowe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 fewer work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r in ten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likely to provide fringe benefits (e.g. health insurance, pen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ture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al imp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studies that look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nd small or no negative effects of holding a temp help service job on eventual employment success (Lane et al.  2002; Heinrich et al. 2005; Anderson et al. 2002; Segal and Sullivan 1997; Booth et al. 2000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exception is Autor and Houseman (2005) who find that working in temp help does not lead to eventual employment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600" y="277560"/>
            <a:ext cx="749772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examine whether any other industry serves a similar role as 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3 classes of workers who differ by their level of market disadvantage: Do effects di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7 industry groups: How do other specific industries compare with temporary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how temp help workers succeed: Role of job changes in helping temp help workers succ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look at whether the effect of temp help varies across the business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perform diagnostics to test whether results are likely spu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497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orary help industry serves a unique role as a transitional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ings are lower than in most other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in 2 years, earnings have largely caugh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, those with initial jobs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ther industries are doing better (often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tch up for temp help workers depends on moving to a bette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8:51:38Z</dcterms:created>
  <dc:creator>mueserp</dc:creator>
  <dc:description/>
  <dc:language>en-US</dc:language>
  <cp:lastModifiedBy>mueserp</cp:lastModifiedBy>
  <dcterms:modified xsi:type="dcterms:W3CDTF">2006-10-27T05:59:36Z</dcterms:modified>
  <cp:revision>71</cp:revision>
  <dc:subject/>
  <dc:title>Slide 1</dc:title>
</cp:coreProperties>
</file>