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8F1-78B4-43B7-A739-730595C4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FA6-6E69-46B2-B5B4-4215B6F8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133-3988-4640-B581-721D9602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4F5-9FBF-487E-AD24-D691D53E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83F8-62F4-4F3D-9539-7D1C94A9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050F-7661-4BDB-95DA-51BBA960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D24B-F91E-45B9-BB0B-1A220392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39A1-B538-4AA3-8616-D34D1716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318C-031D-412C-8D8D-8ECAB0B7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9600" y="277560"/>
            <a:ext cx="74977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A1E3-2EB8-4C47-A413-8C98F3DF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F0A3-1571-4FDD-9E1D-FD1D455A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5B8-C8CD-49CF-9320-A6D4EB9E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2DEE-3C30-44BB-BE70-528A13AF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6CAA-92AB-4B43-8F86-4538B6F4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6456-56E9-4CB6-8C21-DC091048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6AE1-8368-456E-B0C1-0661875E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0DBC-F560-485F-B66E-5B30148E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5FC-903C-4158-A9B2-D775F911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B70-7E55-45AE-8017-0606849C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B8B-FDD3-48E4-9C5B-1A070FDB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99600" y="277560"/>
            <a:ext cx="74977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1E3-C6BD-46E2-9892-2E85D4BE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6EB-CE34-4AF4-887D-F847C8E4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BCA-D378-4B92-97FD-C54844B4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1E2-E3F7-446B-A500-FC455F71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680" y="0"/>
            <a:ext cx="9139320" cy="2286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360" y="0"/>
            <a:ext cx="468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9140760" y="0"/>
            <a:ext cx="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81760" y="6593040"/>
            <a:ext cx="2133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93E2-18DC-4682-ABCD-BB2E5249E412}" type="slidenum"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r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/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240"/>
            <a:ext cx="78976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0" y="228240"/>
            <a:ext cx="91440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54920" y="3240"/>
            <a:ext cx="1189080" cy="0"/>
          </a:xfrm>
          <a:prstGeom prst="line">
            <a:avLst/>
          </a:prstGeom>
          <a:ln w="6480">
            <a:solidFill>
              <a:srgbClr val="ffb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421320"/>
            <a:ext cx="213372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21320"/>
            <a:ext cx="289584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391440" y="6421320"/>
            <a:ext cx="21333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4909-2232-4323-AA3B-53285DBA2B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240" y="304920"/>
            <a:ext cx="9140760" cy="12600"/>
          </a:xfrm>
          <a:prstGeom prst="line">
            <a:avLst/>
          </a:prstGeom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-360" y="6594480"/>
            <a:ext cx="9147600" cy="263160"/>
            <a:chOff x="-360" y="6594480"/>
            <a:chExt cx="9147600" cy="263160"/>
          </a:xfrm>
        </p:grpSpPr>
        <p:sp>
          <p:nvSpPr>
            <p:cNvPr id="14" name=""/>
            <p:cNvSpPr/>
            <p:nvPr/>
          </p:nvSpPr>
          <p:spPr>
            <a:xfrm flipH="1">
              <a:off x="-360" y="6634080"/>
              <a:ext cx="1158840" cy="0"/>
            </a:xfrm>
            <a:prstGeom prst="line">
              <a:avLst/>
            </a:prstGeom>
            <a:ln w="6480">
              <a:solidFill>
                <a:srgbClr val="0035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626160"/>
              <a:ext cx="1428840" cy="22860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>
              <a:off x="1108800" y="6598440"/>
              <a:ext cx="328680" cy="2588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0" y="6851520"/>
              <a:ext cx="9144000" cy="324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6594480"/>
              <a:ext cx="1171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71440" y="6594480"/>
              <a:ext cx="277920" cy="21888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50800" y="6813360"/>
              <a:ext cx="7696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-360" y="0"/>
            <a:ext cx="468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9140760" y="0"/>
            <a:ext cx="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320" y="6602400"/>
            <a:ext cx="9147600" cy="263160"/>
            <a:chOff x="4320" y="6602400"/>
            <a:chExt cx="9147600" cy="263160"/>
          </a:xfrm>
        </p:grpSpPr>
        <p:sp>
          <p:nvSpPr>
            <p:cNvPr id="60" name=""/>
            <p:cNvSpPr/>
            <p:nvPr/>
          </p:nvSpPr>
          <p:spPr>
            <a:xfrm flipH="1">
              <a:off x="4320" y="6642000"/>
              <a:ext cx="1158840" cy="0"/>
            </a:xfrm>
            <a:prstGeom prst="line">
              <a:avLst/>
            </a:prstGeom>
            <a:ln w="6480">
              <a:solidFill>
                <a:srgbClr val="0035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80" y="6634080"/>
              <a:ext cx="1428840" cy="22860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113480" y="6606360"/>
              <a:ext cx="328680" cy="2588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680" y="6859440"/>
              <a:ext cx="9144000" cy="324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80" y="6602400"/>
              <a:ext cx="1171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76120" y="6602400"/>
              <a:ext cx="277920" cy="21888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55480" y="6821280"/>
              <a:ext cx="7696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6881760" y="6593040"/>
            <a:ext cx="2133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79BE-3E81-4399-BDA8-F25E8A43B6D6}" type="slidenum"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r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/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0"/>
            <a:ext cx="7897680" cy="0"/>
          </a:xfrm>
          <a:prstGeom prst="line">
            <a:avLst/>
          </a:prstGeom>
          <a:ln w="9360">
            <a:solidFill>
              <a:srgbClr val="ffb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0" y="0"/>
            <a:ext cx="8085240" cy="270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0" y="298440"/>
            <a:ext cx="8089920" cy="6480"/>
          </a:xfrm>
          <a:prstGeom prst="line">
            <a:avLst/>
          </a:prstGeom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54920" y="3240"/>
            <a:ext cx="1189080" cy="0"/>
          </a:xfrm>
          <a:prstGeom prst="line">
            <a:avLst/>
          </a:prstGeom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5AB8-5396-4126-8E67-22ABDBA124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089920" y="6480"/>
            <a:ext cx="1050840" cy="10508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-360" y="6594480"/>
            <a:ext cx="9147600" cy="263160"/>
            <a:chOff x="-360" y="6594480"/>
            <a:chExt cx="9147600" cy="263160"/>
          </a:xfrm>
        </p:grpSpPr>
        <p:sp>
          <p:nvSpPr>
            <p:cNvPr id="78" name=""/>
            <p:cNvSpPr/>
            <p:nvPr/>
          </p:nvSpPr>
          <p:spPr>
            <a:xfrm flipH="1">
              <a:off x="-360" y="6634080"/>
              <a:ext cx="1158840" cy="0"/>
            </a:xfrm>
            <a:prstGeom prst="line">
              <a:avLst/>
            </a:prstGeom>
            <a:ln w="6480">
              <a:solidFill>
                <a:srgbClr val="0035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6626160"/>
              <a:ext cx="1428840" cy="22860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1108800" y="6598440"/>
              <a:ext cx="328680" cy="2588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0" y="6851520"/>
              <a:ext cx="9144000" cy="324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594480"/>
              <a:ext cx="1171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71440" y="6594480"/>
              <a:ext cx="277920" cy="21888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50800" y="6813360"/>
              <a:ext cx="7696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mpact of a Temporary Help Job:  An Analysis of Outcomes for Participants in Three Missouri Program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olyn J. Hein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Follette Schoo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Wisconsin-Mad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ter R. Mue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Missouri-Colu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ment of Ec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neth R. Tros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Kent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ment of Ec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er for Business and Economic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finding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 strikingly similar for participants in different programs and for men and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 of a job in an alternative industry are slightly larger during a downturn, but basic patterns are similar (2001 vs 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 estimates are not likely to be spur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nts entering program in calendar year 1997, and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much of the discussion on 1997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 at least 18 but less than 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info from Missouri state administrativ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nings/employment from the Unemployment Insurance (UI) “wage record data” for both Missouri and Kan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66760" y="700200"/>
            <a:ext cx="6829560" cy="5214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029200" y="3429000"/>
            <a:ext cx="741240" cy="598320"/>
          </a:xfrm>
          <a:custGeom>
            <a:avLst/>
            <a:gdLst/>
            <a:ahLst/>
            <a:rect l="l" t="t" r="r" b="b"/>
            <a:pathLst>
              <a:path w="467" h="377">
                <a:moveTo>
                  <a:pt x="83" y="348"/>
                </a:moveTo>
                <a:cubicBezTo>
                  <a:pt x="55" y="320"/>
                  <a:pt x="56" y="288"/>
                  <a:pt x="90" y="265"/>
                </a:cubicBezTo>
                <a:cubicBezTo>
                  <a:pt x="75" y="223"/>
                  <a:pt x="63" y="230"/>
                  <a:pt x="90" y="188"/>
                </a:cubicBezTo>
                <a:cubicBezTo>
                  <a:pt x="80" y="134"/>
                  <a:pt x="77" y="157"/>
                  <a:pt x="51" y="118"/>
                </a:cubicBezTo>
                <a:cubicBezTo>
                  <a:pt x="43" y="92"/>
                  <a:pt x="30" y="94"/>
                  <a:pt x="7" y="80"/>
                </a:cubicBezTo>
                <a:cubicBezTo>
                  <a:pt x="45" y="54"/>
                  <a:pt x="15" y="76"/>
                  <a:pt x="0" y="35"/>
                </a:cubicBezTo>
                <a:cubicBezTo>
                  <a:pt x="95" y="0"/>
                  <a:pt x="112" y="24"/>
                  <a:pt x="269" y="28"/>
                </a:cubicBezTo>
                <a:cubicBezTo>
                  <a:pt x="276" y="50"/>
                  <a:pt x="282" y="67"/>
                  <a:pt x="295" y="86"/>
                </a:cubicBezTo>
                <a:cubicBezTo>
                  <a:pt x="307" y="123"/>
                  <a:pt x="292" y="96"/>
                  <a:pt x="346" y="112"/>
                </a:cubicBezTo>
                <a:cubicBezTo>
                  <a:pt x="360" y="116"/>
                  <a:pt x="371" y="126"/>
                  <a:pt x="384" y="131"/>
                </a:cubicBezTo>
                <a:cubicBezTo>
                  <a:pt x="340" y="145"/>
                  <a:pt x="367" y="166"/>
                  <a:pt x="391" y="182"/>
                </a:cubicBezTo>
                <a:cubicBezTo>
                  <a:pt x="427" y="236"/>
                  <a:pt x="411" y="202"/>
                  <a:pt x="423" y="265"/>
                </a:cubicBezTo>
                <a:cubicBezTo>
                  <a:pt x="425" y="274"/>
                  <a:pt x="422" y="286"/>
                  <a:pt x="429" y="291"/>
                </a:cubicBezTo>
                <a:cubicBezTo>
                  <a:pt x="439" y="299"/>
                  <a:pt x="454" y="295"/>
                  <a:pt x="467" y="297"/>
                </a:cubicBezTo>
                <a:cubicBezTo>
                  <a:pt x="428" y="311"/>
                  <a:pt x="434" y="332"/>
                  <a:pt x="429" y="374"/>
                </a:cubicBezTo>
                <a:cubicBezTo>
                  <a:pt x="416" y="372"/>
                  <a:pt x="400" y="377"/>
                  <a:pt x="391" y="368"/>
                </a:cubicBezTo>
                <a:cubicBezTo>
                  <a:pt x="386" y="363"/>
                  <a:pt x="405" y="356"/>
                  <a:pt x="403" y="348"/>
                </a:cubicBezTo>
                <a:cubicBezTo>
                  <a:pt x="401" y="341"/>
                  <a:pt x="390" y="340"/>
                  <a:pt x="384" y="336"/>
                </a:cubicBezTo>
                <a:cubicBezTo>
                  <a:pt x="349" y="337"/>
                  <a:pt x="191" y="342"/>
                  <a:pt x="135" y="348"/>
                </a:cubicBezTo>
                <a:cubicBezTo>
                  <a:pt x="111" y="351"/>
                  <a:pt x="96" y="372"/>
                  <a:pt x="83" y="348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35812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2590920"/>
            <a:ext cx="1523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isso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2971800"/>
            <a:ext cx="533160" cy="5335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71840" y="533520"/>
            <a:ext cx="2514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:  5.70 m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area: 178,415 sq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nsas City metro area: 1.1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. Louis metro area: 2.0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smaller metro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715000"/>
            <a:ext cx="4648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zerland population:  7.17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ugal population: 10.0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638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171840" y="533520"/>
            <a:ext cx="2514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:  5.70 m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area: 178,415 sq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nsas City metro area: 1.1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. Louis metro area: 2.0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umbia metro area 149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57150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issouri is a very “typical” of US states in terms of income, industry, age, race, poli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638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5409" b="0"/>
          <a:stretch/>
        </p:blipFill>
        <p:spPr>
          <a:xfrm>
            <a:off x="1066680" y="1295280"/>
            <a:ext cx="7732800" cy="4829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52280" y="3886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ference 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, ag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ars of education, high school,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. Louis centr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nsas City centr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urban, small metro, nonme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labor market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rtion of previous 8 quarters wor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ing all previous 8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work in previous 8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earnings in prio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earnings two years p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rter of ent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997:1-1997:4 or 2001:1-2001: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employment in county in outcome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Variables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ustry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industry in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rary help services (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ail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 (but not 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indu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ing 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including 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endent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nings in outcome quarter (quarte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s z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ce-in-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quarter 9 earnings) – (quarter -9 earning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 is as prediction of “expected earning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ment in temporary help service (THS) firms increased from less than 0.5% in 1982 to over 2.5% b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was even more dramatic among the most disadvant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ly used as a tool to help those facing difficulties obtaining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mentary with “work first”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icit Assumptions of th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assume that, conditional on the control variables, industry in reference period is not associated with outcome e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this reason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think 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sive list of control variables including prior work history and prio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ous paper (Heinrich et al., 2005) controlled for selection and it didn’t ma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icit Assumptions of th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ants of industry choice from logit model reveals very little difference in type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similar results with very different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nostics suggest that effects estimates are not likely to be spur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172360" cy="4496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05320" y="4724280"/>
            <a:ext cx="609480" cy="3049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4724280"/>
            <a:ext cx="60948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4724280"/>
            <a:ext cx="609480" cy="3049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4724280"/>
            <a:ext cx="60948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4724280"/>
            <a:ext cx="609480" cy="3049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4724280"/>
            <a:ext cx="60948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mployment in Industries 1997: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041960" cy="48214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8286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mployment in Industries 1997: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5181480"/>
            <a:ext cx="609480" cy="3049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5181480"/>
            <a:ext cx="60948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5181480"/>
            <a:ext cx="609480" cy="3049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5181480"/>
            <a:ext cx="60948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Gets a THS job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NL predicting industry in reference quarter (quarter 1 after program e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ent variable: THS, THS and other, other industry, no job (exclu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Gets a THS Job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wh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se living in metro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ce and place matt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Gets Temporary Help Job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wh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se living in metro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loyers can screen nonwhites chea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 help jobs require labor marke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478720" cy="4311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31120" y="53352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AN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e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380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ing Quarterly Earnings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048120"/>
            <a:ext cx="861048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752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ference quarter ear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2209680"/>
            <a:ext cx="990720" cy="9144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581280"/>
            <a:ext cx="86104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724280"/>
            <a:ext cx="556236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4038480"/>
            <a:ext cx="861048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1447920"/>
            <a:ext cx="6400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ference quarte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79080" cy="4336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1600200"/>
            <a:ext cx="3429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raining &amp; Employment Exchange   Fe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380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ing Quarterly Earnings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4191120"/>
            <a:ext cx="556236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5334120"/>
            <a:ext cx="556236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2895480"/>
            <a:ext cx="1447560" cy="129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3429000"/>
            <a:ext cx="23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352680"/>
            <a:ext cx="23619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Mean earnings 8 quarter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478720" cy="4087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28600" y="914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raining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mployment Exchange 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304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ing Quarterly Earnings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3886200"/>
            <a:ext cx="54864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5105520"/>
            <a:ext cx="541044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2362320"/>
            <a:ext cx="137160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362320"/>
            <a:ext cx="144792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orary help service provider hires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then contracts with firm for firm to “use”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er activity occurs at firm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orary help service receives payment from 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 help service provider pays wages, taxes, benefi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m has no legal employment relationship with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S is classified as an industry even though work site is in othe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533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finition of 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ing Employment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both men and women employment in any sector in the reference period is strongly positively associated with the probability of employment eight quarters later relative to not having a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ce we control for characteristics there is very little difference between workers in the temp help sector and other sectors in the probability of employment in the fu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31480" cy="3673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943600" y="4191120"/>
            <a:ext cx="609480" cy="3045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4038480"/>
            <a:ext cx="68580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19720" y="3809880"/>
            <a:ext cx="68580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3809880"/>
            <a:ext cx="6858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4419720"/>
            <a:ext cx="609840" cy="22860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54673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ransitions between sectors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3581280"/>
            <a:ext cx="68580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5638680"/>
            <a:ext cx="426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ransitions between sectors: Temporary help is easy to le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5638680"/>
            <a:ext cx="373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orary help jobs often lead to manufacturing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4419720"/>
            <a:ext cx="6094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sis for 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redo our analysis for individuals entering the three programs in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7 was a period of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mployment around 3-4 percent in 1997-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1997-1999 employment grew by 4.4 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1 was a period of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mployment was over 5.5 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2001-2004 employment declined by 1.5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sis for 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d the role of THS chang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S is still unique: THS employment increases with program entry more than any othe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wth in temp help is somewhat less strong, however, especially for TANF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93280" cy="49305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363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icted Quarterly Earnings 8 Quarters Later: Program Entry in 1997 and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2209680"/>
            <a:ext cx="1600200" cy="18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4191120"/>
            <a:ext cx="1600200" cy="914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5181480"/>
            <a:ext cx="160020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762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Fe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1 Resul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 for Men are simi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1 Resul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rary help still unique in its role as a transitional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nings, employment and transition results from 2001 follow a strikingly similar pattern to the 1997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 of Temporary Help jobs is slightly less beneficial during a rec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8296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lated Errors: Robustness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f unmeasured factors are correlated with reference quarter industry and outcome earn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onji, Elder and Taber (2005) suggest using measured controls to suggest how large the bias of unmeasured factors may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implemented their methods in 3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925040" cy="56102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97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ustness Check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16160" y="4876920"/>
            <a:ext cx="1204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Coeffic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in red n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statistical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signific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2133720"/>
            <a:ext cx="533160" cy="457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200400"/>
            <a:ext cx="4572000" cy="2241000"/>
          </a:xfrm>
          <a:prstGeom prst="rect">
            <a:avLst/>
          </a:prstGeom>
          <a:solidFill>
            <a:srgbClr val="ccffcc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test implies coefficient is not spur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▲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wo tests imply coefficient is not spur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▲▲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ee tests imply coefficient is not spur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925040" cy="56102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97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ustness Check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16160" y="4876920"/>
            <a:ext cx="1204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Coeffic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in red n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statistical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signific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2133720"/>
            <a:ext cx="533160" cy="457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views of temp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ously dominant view of temp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job s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wer fringe benef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iv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 to permanent and stable employ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to informal training and scre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ent with “work-first”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97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ustness Check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most cases, in order for estimated coefficient to be spuri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 term needs to be related to THS employment in a very different way than observed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seems implau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estimated impacts are unlikely to be spur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ve investigated temp help jobs obtained following an employment “cris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rary help industry serves a unique role as a transitional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nings are lower than in most other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in 2 years, earnings have largely caugh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, those with initial jobs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ther industries are doing better (often manufactu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tch up for temp help workers depends on moving to a better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 strikingly similar for participants in different programs and for men and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 of a job in an alternative industry are slightly larger during a downturn, but basic patterns are simi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taining a temporary help job is clearly better than having no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ee no evidence that a strategy of waiting for a “better” job yields any benef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results do not differ across our thre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terogeneity of our sample suggests that our results are genera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analysis looks at effects of holding a THS job for those entering three federal programs in Missouri in two different years—1997 and 200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mporary Assistance for Needy Families (TANF): Single mothers with very low in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 Training—Job Training Partnership Act (JTPA) in 1997 and Workforce Investment Act (WIA) in 2001: Low income adults &amp; displac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loyment Exchange (“job service”) Anyone seeking a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program, individuals are likely to be facing employment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level of job skills differs acros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does the severity of the employment 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irical studies confirm that temp help services job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 lower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er fewer work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r in ten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likely to provide fringe benefits (e.g. health insurance, pen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erature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al imp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studies that look 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nd small or no negative effects of holding a temp help service job on eventual employment success (Lane et al.  2002; Heinrich et al. 2005; Anderson et al. 2002; Segal and Sullivan 1997; Booth et al. 2000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exception is Autor and Houseman (2005) who find that working in temp help does not lead to eventual employment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con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examine whether any other industry serves a similar role as 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look at 3 classes of workers who differ by their level of market disadvantage: Do effects dif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look at 7 industry groups: How do other specific industries compare with temporary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look at how temp help workers succeed: Role of job changes in helping temp help workers succ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look at whether the effect of temp help varies across the business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perform diagnostics to test whether results are likely spur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497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rary help industry serves a unique role as a transitional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nings are lower than in most other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in 2 years, earnings have largely caugh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, those with initial jobs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ther industries are doing better (often manufactu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tch up for temp help workers depends on moving to a better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08:51:38Z</dcterms:created>
  <dc:creator>mueserp</dc:creator>
  <dc:description/>
  <dc:language>en-US</dc:language>
  <cp:lastModifiedBy>mueserp</cp:lastModifiedBy>
  <dcterms:modified xsi:type="dcterms:W3CDTF">2006-10-27T05:59:36Z</dcterms:modified>
  <cp:revision>71</cp:revision>
  <dc:subject/>
  <dc:title>Slide 1</dc:title>
</cp:coreProperties>
</file>