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8.wmf" ContentType="image/x-wmf"/>
  <Override PartName="/ppt/media/image38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CF0-3C19-4D7B-9014-7097AFEE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3320" y="48186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639-7E3D-4FC7-9BA7-094B260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2784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EED-34C3-40EC-8B8A-1D0E5D33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096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18600" y="23112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332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4096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518600" y="4818600"/>
            <a:ext cx="29307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872-A5B9-4010-9610-59A7A2EA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4C0-CF99-4DC0-ADB3-D72FC257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CE7-0BC7-4F0F-B3FF-19E3D238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910-0AF4-4E12-B546-03230C6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AB0-D3C5-430E-A5BC-4ED5C67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3320" y="1069560"/>
            <a:ext cx="93171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E70-077F-4153-8493-0AF0C29A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F39-857A-48E8-BB1B-60B89D5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27840" y="48186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CAB-404F-4082-8474-D24FFC5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332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27840" y="2311200"/>
            <a:ext cx="4442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3320" y="4818600"/>
            <a:ext cx="910260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944-B6EB-4B4A-909D-098B166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11315880" cy="329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363320" y="2311200"/>
            <a:ext cx="910260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850"/>
              </a:spcBef>
              <a:buClr>
                <a:srgbClr val="000000"/>
              </a:buClr>
              <a:buFont typeface="MetaNormalLF-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896760" indent="-344160">
              <a:spcBef>
                <a:spcPts val="850"/>
              </a:spcBef>
              <a:buClr>
                <a:srgbClr val="000000"/>
              </a:buClr>
              <a:buFont typeface="MetaNormalLF-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379520" indent="-276120">
              <a:spcBef>
                <a:spcPts val="850"/>
              </a:spcBef>
              <a:buClr>
                <a:srgbClr val="000000"/>
              </a:buClr>
              <a:buFont typeface="MetaNormalLF-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932120" indent="-276480">
              <a:spcBef>
                <a:spcPts val="850"/>
              </a:spcBef>
              <a:buClr>
                <a:srgbClr val="000000"/>
              </a:buClr>
              <a:buFont typeface="MetaNormalLF-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482920" indent="-274680">
              <a:spcBef>
                <a:spcPts val="850"/>
              </a:spcBef>
              <a:buClr>
                <a:srgbClr val="000000"/>
              </a:buClr>
              <a:buFont typeface="MetaNormalLF-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36692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de-DE" sz="17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676481A9-C76D-4A30-B0C4-60BF0663441D}" type="slidenum">
              <a:rPr b="0" lang="de-DE" sz="17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11040" y="209520"/>
            <a:ext cx="924120" cy="525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886040" y="14860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3040" y="175896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ffects of Hiring Subsidies for Older Workers                           on Unemployment Durations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3040" y="3208320"/>
            <a:ext cx="1013472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reas Ammer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rnhard Boock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ichael Me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omas Z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entre for European Economic Research (ZEW)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33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7F4-5E8B-4F9C-ACC5-7137ECB43F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79600" y="2271600"/>
            <a:ext cx="10270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 is based on the Integrated Employment Biograph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I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EB are composed of four separate data bases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ment 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B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 Claimants Registe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L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gramme-Participants Comprehensive Data Bas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MT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b Applicant Fil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(A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0440" y="127584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e data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1EE-226B-46E2-A51E-6E1FC1A3D0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6600" y="2044800"/>
            <a:ext cx="1056024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per uses two legal changes in eligibility as natural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before 1-1-2002 eligibility was limited to individuals aged 50+ who were either long-term unemployed (in the legal definition) or had been unemployed for more than 6 consecutive months; this criterion was dropped i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workers 50+ and not fulfilling the criterion are used as the treat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, on 1-1-2004 EGZ subsidies for older workers were integrated into the general EGZ framework; workers 50+ lost preferent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, workers 50+ are used as the treatmen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440" y="113148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on approach and implementation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0DD-13E8-469A-AF9A-4DF1A66CC0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" y="2044800"/>
            <a:ext cx="105602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 of age grou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4160" indent="-262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  <a:tab algn="l" pos="654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ers aged 50 to 50+6 months at the time of entering unemployment (treatment grou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4160" indent="-262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  <a:tab algn="l" pos="654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kers aged between 49 and 49+6 months (control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eatment and control group are observed before and after the leg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60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observe individuals belonging to a 3-months entry cohort during a period of 180 days after entry in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13148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on approach and implementation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9A5-E284-410A-9CDB-2CFDB3D0C3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5520" y="45133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2680" y="147600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ime frame for the difference-in-differences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analysi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9040" y="2344680"/>
          <a:ext cx="9937800" cy="698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344680"/>
                    <a:ext cx="99378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079960" y="2698920"/>
            <a:ext cx="122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B59-C078-4B73-B8E6-CB7DC867F4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320" y="1117440"/>
            <a:ext cx="93171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ree difference-in-difference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600" y="2044800"/>
            <a:ext cx="105602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varying unconditional effect obtained from Kaplan-Meier-Survivor functions (DD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 startAt="2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ion of a PH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of the treatment effect on the survivor func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DD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624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93760" y="2921040"/>
          <a:ext cx="6912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2921040"/>
                    <a:ext cx="691200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73040" y="6553080"/>
          <a:ext cx="1055376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6553080"/>
                    <a:ext cx="105537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40006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48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9560" y="3736080"/>
            <a:ext cx="304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92320" y="4530600"/>
          <a:ext cx="62658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2320" y="4530600"/>
                    <a:ext cx="62658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BDB-9B9F-4617-AE69-D97C0FCF84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hree difference-in-difference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00" y="2044800"/>
            <a:ext cx="1056024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55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arenR" startAt="3"/>
              <a:tabLst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  <a:tab algn="l" pos="6286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 varying conditional effect calculated from the difference-in-differences of the baseline hazard rate of the Cox partial likelihood model (DD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624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006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48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66840" y="4071960"/>
          <a:ext cx="669600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4071960"/>
                    <a:ext cx="66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B3B-7465-491D-81A8-6929B40D5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7400" y="2862360"/>
            <a:ext cx="102711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most important assumption underlying the difference-in-differences estimator is that all differences in the changes of the outcome variable between the treatment and the control group are due to the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umber of reasons why this could by inval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programmes affecting treatment or control group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influences on particular ag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8640" indent="-45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  <a:tab algn="l" pos="6024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0440" y="141876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Validity of the DD estimator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783-CA70-48C0-82F2-FD5DDF0E43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6737400"/>
            <a:ext cx="9507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ote: Number of individuals in parentheses, t-statistics estimated robustl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680" y="97272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xits into subsidised employment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7040" y="2311560"/>
          <a:ext cx="10801440" cy="4195440"/>
        </p:xfrm>
        <a:graphic>
          <a:graphicData uri="http://schemas.openxmlformats.org/drawingml/2006/table">
            <a:tbl>
              <a:tblPr/>
              <a:tblGrid>
                <a:gridCol w="2843280"/>
                <a:gridCol w="1957320"/>
                <a:gridCol w="2000520"/>
                <a:gridCol w="2000160"/>
                <a:gridCol w="20001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Gro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ge 50 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+6 month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20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32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40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638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Group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ge 49 to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+6 month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45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94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437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 algn="ctr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181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58F-D0D6-435E-84AE-586F10F6B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DD1-effect on employment, 2002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04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65400" y="1697040"/>
          <a:ext cx="8943840" cy="63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697040"/>
                    <a:ext cx="894384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7C8-5754-4CAE-BDE6-851E0D65CF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3288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920" y="1305000"/>
          <a:ext cx="537048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05000"/>
                    <a:ext cx="5370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216216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46680" y="1303200"/>
          <a:ext cx="5383440" cy="3057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6680" y="1303200"/>
                    <a:ext cx="53834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23194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480" y="4506840"/>
          <a:ext cx="5398920" cy="30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80" y="4506840"/>
                    <a:ext cx="53989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23572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29400" y="4576680"/>
          <a:ext cx="5400720" cy="3025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4576680"/>
                    <a:ext cx="540072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9680" y="684000"/>
            <a:ext cx="758808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DD1-effect on employment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, 2002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7040" y="3424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3760" y="3424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040" y="6729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3760" y="673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491-0DDC-4FD4-9980-A3762F1671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0800" y="113184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Outl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400" y="2276640"/>
            <a:ext cx="10080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scription of hiring subsi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timation approach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538-2F39-4051-B057-CD1AE7895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DD1-effect on employment, 2004</a:t>
            </a: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10492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19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06520" y="2128680"/>
          <a:ext cx="8212320" cy="578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2128680"/>
                    <a:ext cx="821232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3CA-D355-46F7-A2DE-0CCFA35D34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3288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16216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3194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35728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6120" y="684000"/>
            <a:ext cx="93168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etaNormalLF-Roman"/>
              </a:rPr>
              <a:t>DD1-effect on employment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, 2004</a:t>
            </a:r>
            <a:r>
              <a:rPr b="0" lang="de-DE" sz="2400" spc="-1" strike="noStrike">
                <a:solidFill>
                  <a:srgbClr val="000000"/>
                </a:solidFill>
                <a:latin typeface="MetaNormalLF-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19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336680"/>
          <a:ext cx="5513400" cy="30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6680"/>
                    <a:ext cx="551340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230040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729400" y="1336680"/>
          <a:ext cx="5408640" cy="301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1336680"/>
                    <a:ext cx="54086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273204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4576680"/>
          <a:ext cx="5586480" cy="3024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576680"/>
                    <a:ext cx="55864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9400" y="4564080"/>
          <a:ext cx="5400720" cy="3036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4564080"/>
                    <a:ext cx="54007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57040" y="3424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3760" y="3424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7040" y="67294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3760" y="673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Women,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711-FF04-4F91-8E26-AC5DA3FD02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9040" y="2128680"/>
          <a:ext cx="10153440" cy="4907160"/>
        </p:xfrm>
        <a:graphic>
          <a:graphicData uri="http://schemas.openxmlformats.org/drawingml/2006/table">
            <a:tbl>
              <a:tblPr/>
              <a:tblGrid>
                <a:gridCol w="2160360"/>
                <a:gridCol w="1598760"/>
                <a:gridCol w="1595520"/>
                <a:gridCol w="1600200"/>
                <a:gridCol w="1598400"/>
                <a:gridCol w="160020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work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 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treatment (200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0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28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7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87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 group (age 50 to 50+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5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3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0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9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94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on ter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6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22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41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15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32)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test, p-lev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D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ob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6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376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,4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87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,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89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,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44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6,8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255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chi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67,7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31,8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7,8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84,29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31,7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2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DA2-1F4D-4DC9-AFC4-EF5C9AD753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6000" y="2128680"/>
          <a:ext cx="10986840" cy="5154840"/>
        </p:xfrm>
        <a:graphic>
          <a:graphicData uri="http://schemas.openxmlformats.org/drawingml/2006/table">
            <a:tbl>
              <a:tblPr/>
              <a:tblGrid>
                <a:gridCol w="2201760"/>
                <a:gridCol w="1708200"/>
                <a:gridCol w="1770120"/>
                <a:gridCol w="1770120"/>
                <a:gridCol w="1879560"/>
                <a:gridCol w="16570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W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men Ea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treat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4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51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8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4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6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0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(age 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50+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2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3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17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2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3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4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4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on ter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2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39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0,06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88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5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43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test, p-lev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D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obs.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7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44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490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154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2,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253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,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55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4360" indent="-414360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chi2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54,5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3,36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3,27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9,51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,05</a:t>
                      </a:r>
                      <a:r>
                        <a:rPr b="0" lang="de-DE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2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690-F0D5-4A83-8968-B1DBF095C3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50920" y="1704960"/>
            <a:ext cx="8394840" cy="61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E47-0AFE-4A66-A743-0A820329D5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16160" y="1768320"/>
            <a:ext cx="837396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3F7-71CC-4124-ABF3-E1B5BB6F96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7040" y="2344680"/>
            <a:ext cx="4167360" cy="2651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62760" y="2333520"/>
            <a:ext cx="3987720" cy="2675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728720" y="5079960"/>
            <a:ext cx="4073760" cy="2651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045120" y="5079960"/>
            <a:ext cx="4005360" cy="2592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C7B-DFF8-4D32-BD57-C715A85A9F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86120" y="2344680"/>
            <a:ext cx="3649680" cy="2652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256440" y="2344680"/>
            <a:ext cx="3649680" cy="2652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986120" y="5079960"/>
            <a:ext cx="3641400" cy="2652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264360" y="5092560"/>
            <a:ext cx="3641760" cy="26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168-4E72-4A6F-95E0-E7C2A2A329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7040" y="140472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MetaNormalLF-Roman"/>
              </a:rPr>
              <a:t>Evidence on deadweight effects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400" y="2862360"/>
            <a:ext cx="10271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the number of jobs created with the help of hirings subsidies compare to the number of subsidies disbur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e number of exits into subsidised and unsubsidised jobs – if the latter declines by as much as the first increases, crowding out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ing risks framework using differences of differences to the cumulative incidence functions of exit into subsidised and unsubsidise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results are unconditional on covar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132-9EB4-4EA5-A7A7-62CD498700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D of the Cumulative Incidence Function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79520" y="176832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B9D-225F-446B-8BC9-7733F1277C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7400" y="2276640"/>
            <a:ext cx="1008072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wo questions should be distingu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 hiring subsidy programme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usally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ad to earlier exit from unemployment to employment in the group of eligible persons as compared to the situation in which no subsidies are avai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 subsidised hirings causally lead to more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unsubsidise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employment? Forslund et al. (2004), Sianesi (2003), and Hujer et al.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this paper, the focus is on the first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0800" y="113184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FFF-8CC7-4770-92A1-EE688644BF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0440" y="112032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D of the Cumulative Incidence Function, 2004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54120" y="176832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696-D199-4422-95D2-A50592F043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305400" y="5078520"/>
            <a:ext cx="3667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990800" y="507852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311880" y="2341440"/>
            <a:ext cx="3667320" cy="2667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990800" y="2341440"/>
            <a:ext cx="366696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FB1-097A-4715-AA22-0FFBCC92C1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7400" y="166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3320" y="1069560"/>
            <a:ext cx="9317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ditional DD Results (DD3-Effect), 2002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25760" y="2311560"/>
          <a:ext cx="8568720" cy="5433480"/>
        </p:xfrm>
        <a:graphic>
          <a:graphicData uri="http://schemas.openxmlformats.org/drawingml/2006/table">
            <a:tbl>
              <a:tblPr/>
              <a:tblGrid>
                <a:gridCol w="4284000"/>
                <a:gridCol w="4284720"/>
              </a:tblGrid>
              <a:tr h="27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209760" y="18399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02480" y="18144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040" y="332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3040" y="5991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13040" y="2341440"/>
            <a:ext cx="3666960" cy="2667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38800" y="2341440"/>
            <a:ext cx="3667320" cy="2667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913040" y="5078520"/>
            <a:ext cx="3666960" cy="2666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238800" y="5078520"/>
            <a:ext cx="36673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AAF-80D1-43C1-B423-49DCCBF3C4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44680" y="1895400"/>
            <a:ext cx="10343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have used a natural experiment design to answer the question whether hiring subsidy programmes a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changes were compared: extension of eligibility for workers aged 50+ in 2002 and abolishment of preferential treatment for the same group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of three DiD estimators shows that employment effects for workers as a whole are insignificant and small compared to the number of subsidised hi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eting risks framework suggests that the EGZ is not very effective in the group of treated individuals and deadweight effects are impor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ever, for East German Women (in 2002) and Women in both parts of Germany (in 2004), some effects are significant and large relative to subsidised hiring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adweight effects much small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131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0440" y="105840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3FF-EAD3-4091-B323-A67CAA93DB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7400" y="2633760"/>
            <a:ext cx="1008072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c model with perfect competition on the labour market: hiring subsidy lowers net wages paid by the employer and increases demand for subsidise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ction depends on wage elasticit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lnL/ds 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, where L is subsidised 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elasticity is low, deadweight effec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uslei and Steiner, 1999; Hujer and Caliendo, 2003; Meyer, 1995a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irically, wage elasticities differ between male/female and single/married and East/West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0800" y="1492200"/>
            <a:ext cx="8636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Conditions for the effectiveness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of hiring subsid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94B-FB19-4BB5-AE30-F80309573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7400" y="2847960"/>
            <a:ext cx="10514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ring subsidies may provide too low an incentive and / or may not be known among eligible firms and worker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mplementatio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dition to deadweight effects, hiring subsidies may be ineffective due to substitution or a  displacement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nce our approach is based on individual-level data, we concentrate on deadweight effects. The particular interest in the deadweight effect is whether the programme is effective for the targete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1876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More reasons why hiring subsidies may fail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to affect the number of hiring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3ED-5C41-42E8-B4A6-5B74AEE63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352680" y="1839960"/>
            <a:ext cx="76042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20000"/>
              </a:lnSpc>
              <a:tabLst>
                <a:tab algn="l" pos="0"/>
                <a:tab algn="l" pos="17460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tabLst>
                <a:tab algn="l" pos="0"/>
                <a:tab algn="l" pos="17460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400" y="2695680"/>
            <a:ext cx="98647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adweight effects involve a counterfactual that must be est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this paper we use changes to the eligibility rules as „natural“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 2002, the Integration Supplement for older workers was only available for hiring long-term unemployed worker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 Taking effect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anuary 1st, 2002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condition wa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king effect on January 1st, 2004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GZ subsidy for older workers was integrated into the framework of the general EGZ, so that workers aged 50+ lost preferenti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0760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Estimating deadweight effects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A85-17DD-4129-BD06-5AFE7EDF2A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69880" y="2481120"/>
            <a:ext cx="1020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ajor instruments of German active labour marke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 basis: German Social Code (SGB), Volume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Z are paid to the employer as a percentage of standardised labour costs (maximum 50 per cent) for up to 24 months (other limits for workers with specific disadvant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the employment relationship is terminated before a minimum period after the expiration of the subsidy, the employer is legally obliged to refund parts of the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legal claim to EGZ either by the worker or the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91840"/>
            <a:ext cx="863604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Description of hiring subsidies (EGZ) </a:t>
            </a:r>
            <a:br>
              <a:rPr sz="3900"/>
            </a:b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n Germany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0C2-1BCE-4F60-990B-B7217297D1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23960" y="2359080"/>
            <a:ext cx="8642520" cy="5662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0440" y="1851120"/>
            <a:ext cx="863604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Employment contracts subsidised 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MetaNormalLF-Roman"/>
              </a:rPr>
              <a:t>by Integration Supplements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BED-0815-40C1-B39D-A85A0B4C54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6960" y="2336760"/>
            <a:ext cx="1041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GZ is regarded as an important instrument by 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is substantial scope for decision-making concerning the allocation of the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majority of cases, an initial contact between a worker and an employer already exi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ill often be difficult for placement officers to decide whether the company would refrain from hiring without E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 study strongly confirms the notion that deadweight effects are a major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000" y="1275840"/>
            <a:ext cx="8637480" cy="4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de-DE" sz="3900" spc="-1" strike="noStrike">
                <a:solidFill>
                  <a:srgbClr val="000000"/>
                </a:solidFill>
                <a:latin typeface="MetaNormalLF-Roman"/>
              </a:rPr>
              <a:t>Implementation of the programme</a:t>
            </a:r>
            <a:endParaRPr b="0" lang="en-US" sz="39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999-4A49-42F3-B290-2743215E7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14:47:56Z</dcterms:created>
  <dc:creator>ZEW</dc:creator>
  <dc:description/>
  <dc:language>en-US</dc:language>
  <cp:lastModifiedBy>bbo</cp:lastModifiedBy>
  <cp:lastPrinted>2003-01-28T08:59:02Z</cp:lastPrinted>
  <dcterms:modified xsi:type="dcterms:W3CDTF">2006-10-16T17:45:32Z</dcterms:modified>
  <cp:revision>527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8514517</vt:r8>
  </property>
  <property fmtid="{D5CDD505-2E9C-101B-9397-08002B2CF9AE}" pid="3" name="_AuthorEmail">
    <vt:lpwstr>Ursula.Jaenichen@iab.de</vt:lpwstr>
  </property>
  <property fmtid="{D5CDD505-2E9C-101B-9397-08002B2CF9AE}" pid="4" name="_AuthorEmailDisplayName">
    <vt:lpwstr>Jaenichen Ursula</vt:lpwstr>
  </property>
  <property fmtid="{D5CDD505-2E9C-101B-9397-08002B2CF9AE}" pid="5" name="_EmailSubject">
    <vt:lpwstr>Folien</vt:lpwstr>
  </property>
  <property fmtid="{D5CDD505-2E9C-101B-9397-08002B2CF9AE}" pid="6" name="_PreviousAdHocReviewCycleID">
    <vt:r8>-1660711376</vt:r8>
  </property>
  <property fmtid="{D5CDD505-2E9C-101B-9397-08002B2CF9AE}" pid="7" name="_ReviewingToolsShownOnce">
    <vt:lpwstr/>
  </property>
</Properties>
</file>