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9.png" ContentType="image/png"/>
  <Override PartName="/ppt/media/image17.wmf" ContentType="image/x-wmf"/>
  <Override PartName="/ppt/media/image16.wmf" ContentType="image/x-wmf"/>
  <Override PartName="/ppt/media/image28.png" ContentType="image/png"/>
  <Override PartName="/ppt/media/image30.png" ContentType="image/png"/>
  <Override PartName="/ppt/media/image13.wmf" ContentType="image/x-wmf"/>
  <Override PartName="/ppt/media/image9.wmf" ContentType="image/x-wmf"/>
  <Override PartName="/ppt/media/image31.png" ContentType="image/png"/>
  <Override PartName="/ppt/media/image14.wmf" ContentType="image/x-wmf"/>
  <Override PartName="/ppt/media/image29.png" ContentType="image/png"/>
  <Override PartName="/ppt/media/image33.png" ContentType="image/png"/>
  <Override PartName="/ppt/media/image34.png" ContentType="image/png"/>
  <Override PartName="/ppt/media/image35.png" ContentType="image/png"/>
  <Override PartName="/ppt/media/image36.png" ContentType="image/png"/>
  <Override PartName="/ppt/media/image12.wmf" ContentType="image/x-wmf"/>
  <Override PartName="/ppt/media/image27.png" ContentType="image/png"/>
  <Override PartName="/ppt/media/image37.png" ContentType="image/png"/>
  <Override PartName="/ppt/media/image8.wmf" ContentType="image/x-wmf"/>
  <Override PartName="/ppt/media/image38.png" ContentType="image/png"/>
  <Override PartName="/ppt/media/image7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10.wmf" ContentType="image/x-wmf"/>
  <Override PartName="/ppt/media/image25.png" ContentType="image/png"/>
  <Override PartName="/ppt/media/image2.png" ContentType="image/png"/>
  <Override PartName="/ppt/media/image32.png" ContentType="image/png"/>
  <Override PartName="/ppt/media/image1.jpeg" ContentType="image/jpeg"/>
  <Override PartName="/ppt/media/image15.wmf" ContentType="image/x-wmf"/>
  <Override PartName="/ppt/media/image5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1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11314113" cy="8002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E686-3E5E-48BE-BE5C-F54BA8A2C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63320" y="1069560"/>
            <a:ext cx="931716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63320" y="2311200"/>
            <a:ext cx="910260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63320" y="4818600"/>
            <a:ext cx="910260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6297-709A-442A-B648-5400DEF28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3320" y="1069560"/>
            <a:ext cx="931716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3320" y="2311200"/>
            <a:ext cx="444204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27840" y="2311200"/>
            <a:ext cx="444204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63320" y="4818600"/>
            <a:ext cx="444204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27840" y="4818600"/>
            <a:ext cx="444204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0583-AAB8-4B7A-BF89-7FA7A3EC7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63320" y="1069560"/>
            <a:ext cx="931716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63320" y="2311200"/>
            <a:ext cx="293076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440960" y="2311200"/>
            <a:ext cx="293076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518600" y="2311200"/>
            <a:ext cx="293076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63320" y="4818600"/>
            <a:ext cx="293076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440960" y="4818600"/>
            <a:ext cx="293076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518600" y="4818600"/>
            <a:ext cx="293076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90F9-98B9-4036-8CB7-A76A6DAF1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63320" y="1069560"/>
            <a:ext cx="931716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63320" y="2311200"/>
            <a:ext cx="9102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F835-BE9E-4B6D-970F-F93E0F964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63320" y="1069560"/>
            <a:ext cx="931716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63320" y="2311200"/>
            <a:ext cx="9102600" cy="4800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6C10-5086-43B9-A306-86240A8DC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63320" y="1069560"/>
            <a:ext cx="931716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63320" y="2311200"/>
            <a:ext cx="4442040" cy="4800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027840" y="2311200"/>
            <a:ext cx="4442040" cy="4800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CA11-CFF7-4C94-B434-7B32193E3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3320" y="1069560"/>
            <a:ext cx="931716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B322-88BB-4BB7-8B57-F436FF58C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363320" y="1069560"/>
            <a:ext cx="9317160" cy="36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8DB9-2738-4E20-98CE-DEB212AF6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63320" y="1069560"/>
            <a:ext cx="931716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63320" y="2311200"/>
            <a:ext cx="444204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027840" y="2311200"/>
            <a:ext cx="4442040" cy="4800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63320" y="4818600"/>
            <a:ext cx="444204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0948-1B03-4744-A270-D98BAD51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63320" y="1069560"/>
            <a:ext cx="931716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63320" y="2311200"/>
            <a:ext cx="4442040" cy="4800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27840" y="2311200"/>
            <a:ext cx="444204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027840" y="4818600"/>
            <a:ext cx="444204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2DEE-CC54-4A20-BF58-53B0ED38E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63320" y="1069560"/>
            <a:ext cx="931716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63320" y="2311200"/>
            <a:ext cx="444204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27840" y="2311200"/>
            <a:ext cx="444204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63320" y="4818600"/>
            <a:ext cx="910260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E7B5-97D1-48B5-B463-53BD0EB17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37947"/>
          <a:stretch/>
        </p:blipFill>
        <p:spPr>
          <a:xfrm>
            <a:off x="0" y="0"/>
            <a:ext cx="11315880" cy="3297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363320" y="2311200"/>
            <a:ext cx="9102600" cy="4800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spcBef>
                <a:spcPts val="850"/>
              </a:spcBef>
              <a:buClr>
                <a:srgbClr val="000000"/>
              </a:buClr>
              <a:buFont typeface="MetaNormalLF-Roman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MetaNormalLF-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896760" indent="-344160">
              <a:spcBef>
                <a:spcPts val="850"/>
              </a:spcBef>
              <a:buClr>
                <a:srgbClr val="000000"/>
              </a:buClr>
              <a:buFont typeface="MetaNormalLF-Roman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MetaNormalLF-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MetaNormalLF-Roman"/>
            </a:endParaRPr>
          </a:p>
          <a:p>
            <a:pPr lvl="2" marL="1379520" indent="-276120">
              <a:spcBef>
                <a:spcPts val="850"/>
              </a:spcBef>
              <a:buClr>
                <a:srgbClr val="000000"/>
              </a:buClr>
              <a:buFont typeface="MetaNormalLF-Roman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MetaNormalLF-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MetaNormalLF-Roman"/>
            </a:endParaRPr>
          </a:p>
          <a:p>
            <a:pPr lvl="3" marL="1932120" indent="-276480">
              <a:spcBef>
                <a:spcPts val="850"/>
              </a:spcBef>
              <a:buClr>
                <a:srgbClr val="000000"/>
              </a:buClr>
              <a:buFont typeface="MetaNormalLF-Roman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MetaNormalLF-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MetaNormalLF-Roman"/>
            </a:endParaRPr>
          </a:p>
          <a:p>
            <a:pPr lvl="4" marL="2482920" indent="-274680">
              <a:spcBef>
                <a:spcPts val="850"/>
              </a:spcBef>
              <a:buClr>
                <a:srgbClr val="000000"/>
              </a:buClr>
              <a:buFont typeface="MetaNormalLF-Roman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MetaNormalLF-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MetaNormalLF-Roman"/>
            </a:endParaRPr>
          </a:p>
          <a:p>
            <a:pPr lvl="5" marL="2482920" indent="-274680">
              <a:spcBef>
                <a:spcPts val="850"/>
              </a:spcBef>
              <a:buClr>
                <a:srgbClr val="000000"/>
              </a:buClr>
              <a:buFont typeface="MetaNormalLF-Roman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MetaNormalLF-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MetaNormalLF-Roman"/>
            </a:endParaRPr>
          </a:p>
          <a:p>
            <a:pPr lvl="6" marL="2482920" indent="-274680">
              <a:spcBef>
                <a:spcPts val="850"/>
              </a:spcBef>
              <a:buClr>
                <a:srgbClr val="000000"/>
              </a:buClr>
              <a:buFont typeface="MetaNormalLF-Roman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MetaNormalLF-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1366920" y="7289640"/>
            <a:ext cx="2357280" cy="5335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  <a:defRPr b="0" lang="de-DE" sz="1700" spc="-1" strike="noStrike">
                <a:solidFill>
                  <a:srgbClr val="000000"/>
                </a:solidFill>
                <a:latin typeface="MetaNormalLF-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MetaNormalLF-Roman"/>
              </a:rPr>
              <a:t>&lt;date/time&g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865320" y="7289640"/>
            <a:ext cx="3584520" cy="5335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  <a:defRPr b="0" lang="de-DE" sz="1700" spc="-1" strike="noStrike">
                <a:solidFill>
                  <a:srgbClr val="000000"/>
                </a:solidFill>
                <a:latin typeface="MetaNormalLF-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MetaNormalLF-Roman"/>
              </a:rPr>
              <a:t>&lt;footer&g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8109000" y="7289640"/>
            <a:ext cx="2357280" cy="5335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  <a:defRPr b="0" lang="de-DE" sz="1700" spc="-1" strike="noStrike">
                <a:solidFill>
                  <a:srgbClr val="000000"/>
                </a:solidFill>
                <a:latin typeface="MetaNormalLF-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fld id="{F93ABC59-B033-45BA-9A1D-8E62EABFC275}" type="slidenum">
              <a:rPr b="0" lang="de-DE" sz="1700" spc="-1" strike="noStrike">
                <a:solidFill>
                  <a:srgbClr val="000000"/>
                </a:solidFill>
                <a:latin typeface="MetaNormalLF-Roman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311040" y="209520"/>
            <a:ext cx="924120" cy="5256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1363320" y="1069560"/>
            <a:ext cx="931716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MetaNormalLF-Roman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886040" y="1486080"/>
            <a:ext cx="7543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2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6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7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73040" y="1758960"/>
            <a:ext cx="1036944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Aft>
                <a:spcPts val="14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Effects of Hiring Subsidies for Older Workers                           on Unemployment Durations in Germ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73040" y="3208320"/>
            <a:ext cx="10134720" cy="30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ndreas Ammermü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Bernhard Boockm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Michael Me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Thomas Zw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entre for European Economic Research (ZEW), Mannhe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73392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63320" y="1069560"/>
            <a:ext cx="931716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de-DE" sz="3900" spc="-1" strike="noStrike">
                <a:solidFill>
                  <a:srgbClr val="000000"/>
                </a:solidFill>
                <a:latin typeface="MetaNormalLF-Roman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3A49-6862-4AD5-A744-F6ED89BC2F5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79600" y="2271600"/>
            <a:ext cx="10270800" cy="39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61800" indent="-361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valuation is based on the Integrated Employment Biographie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(IE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IEB are composed of four separate data bases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9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  <a:tab algn="l" pos="57625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mployment Register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(Be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9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  <a:tab algn="l" pos="57625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enefit Claimants Register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(Le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9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  <a:tab algn="l" pos="57625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ogramme-Participants Comprehensive Data Base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(MT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9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  <a:tab algn="l" pos="57625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Job Applicant Files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(AS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9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  <a:tab algn="l" pos="57625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50440" y="1275840"/>
            <a:ext cx="8636040" cy="4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de-DE" sz="3900" spc="-1" strike="noStrike">
                <a:solidFill>
                  <a:srgbClr val="000000"/>
                </a:solidFill>
                <a:latin typeface="MetaNormalLF-Roman"/>
              </a:rPr>
              <a:t>The data</a:t>
            </a:r>
            <a:endParaRPr b="0" lang="en-US" sz="39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6534-DFB7-4885-8994-CEE355595F5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6600" y="2044800"/>
            <a:ext cx="10560240" cy="52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lvl="1" marL="901800" indent="-3603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  <a:tab algn="l" pos="5762520"/>
                <a:tab algn="l" pos="6024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aper uses two legal changes in eligibility as natural var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3603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  <a:tab algn="l" pos="5762520"/>
                <a:tab algn="l" pos="6024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st, before 1-1-2002 eligibility was limited to individuals aged 50+ who were either long-term unemployed (in the legal definition) or had been unemployed for more than 6 consecutive months; this criterion was dropped in 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3603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  <a:tab algn="l" pos="5762520"/>
                <a:tab algn="l" pos="6024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nce, workers 50+ and not fulfilling the criterion are used as the treatment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3603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  <a:tab algn="l" pos="5762520"/>
                <a:tab algn="l" pos="6024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, on 1-1-2004 EGZ subsidies for older workers were integrated into the general EGZ framework; workers 50+ lost preferential 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3603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  <a:tab algn="l" pos="5762520"/>
                <a:tab algn="l" pos="6024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nce, workers 50+ are used as the treatment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3603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  <a:tab algn="l" pos="5762520"/>
                <a:tab algn="l" pos="6024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50440" y="1131480"/>
            <a:ext cx="8636040" cy="4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de-DE" sz="3900" spc="-1" strike="noStrike">
                <a:solidFill>
                  <a:srgbClr val="000000"/>
                </a:solidFill>
                <a:latin typeface="MetaNormalLF-Roman"/>
              </a:rPr>
              <a:t>Estimation approach and implementation</a:t>
            </a:r>
            <a:endParaRPr b="0" lang="en-US" sz="39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F0E5-5996-4BE9-9467-A3B21DFFF70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6600" y="2044800"/>
            <a:ext cx="10560240" cy="36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lvl="1" marL="901800" indent="-3603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  <a:tab algn="l" pos="5762520"/>
                <a:tab algn="l" pos="6024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finition of age group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424160" indent="-262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o"/>
              <a:tabLst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  <a:tab algn="l" pos="5762520"/>
                <a:tab algn="l" pos="6024600"/>
                <a:tab algn="l" pos="6286680"/>
                <a:tab algn="l" pos="654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orkers aged 50 to 50+6 months at the time of entering unemployment (treatment group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424160" indent="-262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o"/>
              <a:tabLst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  <a:tab algn="l" pos="5762520"/>
                <a:tab algn="l" pos="6024600"/>
                <a:tab algn="l" pos="6286680"/>
                <a:tab algn="l" pos="654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orkers aged between 49 and 49+6 months (control grou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3603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  <a:tab algn="l" pos="5762520"/>
                <a:tab algn="l" pos="6024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reatment and control group are observed before and after the legal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3603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  <a:tab algn="l" pos="5762520"/>
                <a:tab algn="l" pos="6024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e observe individuals belonging to a 3-months entry cohort during a period of 180 days after entry in unemploy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50440" y="1131480"/>
            <a:ext cx="8636040" cy="4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de-DE" sz="3900" spc="-1" strike="noStrike">
                <a:solidFill>
                  <a:srgbClr val="000000"/>
                </a:solidFill>
                <a:latin typeface="MetaNormalLF-Roman"/>
              </a:rPr>
              <a:t>Estimation approach and implementation</a:t>
            </a:r>
            <a:endParaRPr b="0" lang="en-US" sz="39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DDE2-A9B1-40C2-ABA9-E45849AE2FB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55520" y="451332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72680" y="1476000"/>
            <a:ext cx="931716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de-DE" sz="3900" spc="-1" strike="noStrike">
                <a:solidFill>
                  <a:srgbClr val="000000"/>
                </a:solidFill>
                <a:latin typeface="MetaNormalLF-Roman"/>
              </a:rPr>
              <a:t>Time frame for the difference-in-differences </a:t>
            </a:r>
            <a:br>
              <a:rPr sz="3900"/>
            </a:br>
            <a:r>
              <a:rPr b="0" lang="de-DE" sz="3900" spc="-1" strike="noStrike">
                <a:solidFill>
                  <a:srgbClr val="000000"/>
                </a:solidFill>
                <a:latin typeface="MetaNormalLF-Roman"/>
              </a:rPr>
              <a:t>analysis</a:t>
            </a:r>
            <a:endParaRPr b="0" lang="en-US" sz="3900" spc="-1" strike="noStrike">
              <a:solidFill>
                <a:srgbClr val="000000"/>
              </a:solidFill>
              <a:latin typeface="MetaNormalLF-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689040" y="2344680"/>
          <a:ext cx="9937800" cy="6985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040" y="2344680"/>
                    <a:ext cx="9937800" cy="698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5079960" y="2698920"/>
            <a:ext cx="1225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licy ch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5B3F-65EC-446E-9E56-F2C80E0D9FD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93320" y="1117440"/>
            <a:ext cx="93171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de-DE" sz="3900" spc="-1" strike="noStrike">
                <a:solidFill>
                  <a:srgbClr val="000000"/>
                </a:solidFill>
                <a:latin typeface="MetaNormalLF-Roman"/>
              </a:rPr>
              <a:t>Three difference-in-difference estimators</a:t>
            </a:r>
            <a:endParaRPr b="0" lang="en-US" sz="39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83" name=""/>
          <p:cNvSpPr/>
          <p:nvPr/>
        </p:nvSpPr>
        <p:spPr>
          <a:xfrm>
            <a:off x="66600" y="2044800"/>
            <a:ext cx="10560240" cy="48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lvl="1" marL="1092240" indent="-550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arenR"/>
              <a:tabLst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  <a:tab algn="l" pos="5762520"/>
                <a:tab algn="l" pos="6024600"/>
                <a:tab algn="l" pos="6286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ime varying unconditional effect obtained from Kaplan-Meier-Survivor functions (DD1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550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  <a:tab algn="l" pos="5762520"/>
                <a:tab algn="l" pos="6024600"/>
                <a:tab algn="l" pos="6286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550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  <a:tab algn="l" pos="5762520"/>
                <a:tab algn="l" pos="6024600"/>
                <a:tab algn="l" pos="6286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550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arenR" startAt="2"/>
              <a:tabLst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  <a:tab algn="l" pos="5762520"/>
                <a:tab algn="l" pos="6024600"/>
                <a:tab algn="l" pos="6286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stimation of a PH mod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550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  <a:tab algn="l" pos="5762520"/>
                <a:tab algn="l" pos="6024600"/>
                <a:tab algn="l" pos="6286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550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  <a:tab algn="l" pos="5762520"/>
                <a:tab algn="l" pos="6024600"/>
                <a:tab algn="l" pos="6286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550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  <a:tab algn="l" pos="5762520"/>
                <a:tab algn="l" pos="6024600"/>
                <a:tab algn="l" pos="6286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culation of the treatment effect on the survivor function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(DD2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550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  <a:tab algn="l" pos="5762520"/>
                <a:tab algn="l" pos="6024600"/>
                <a:tab algn="l" pos="6286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386244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193760" y="2921040"/>
          <a:ext cx="6912000" cy="59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3760" y="2921040"/>
                    <a:ext cx="6912000" cy="59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0" y="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73040" y="6553080"/>
          <a:ext cx="10553760" cy="61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3040" y="6553080"/>
                    <a:ext cx="1055376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0" y="400068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384804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309560" y="3736080"/>
            <a:ext cx="3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192320" y="4530600"/>
          <a:ext cx="6265800" cy="549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92320" y="4530600"/>
                    <a:ext cx="626580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527F-AB4D-485D-AB15-885BADC675D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93320" y="1069560"/>
            <a:ext cx="931716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de-DE" sz="3900" spc="-1" strike="noStrike">
                <a:solidFill>
                  <a:srgbClr val="000000"/>
                </a:solidFill>
                <a:latin typeface="MetaNormalLF-Roman"/>
              </a:rPr>
              <a:t>Three difference-in-difference estimators</a:t>
            </a:r>
            <a:endParaRPr b="0" lang="en-US" sz="39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6600" y="2044800"/>
            <a:ext cx="10560240" cy="17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lvl="1" marL="1092240" indent="-550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  <a:tab algn="l" pos="5762520"/>
                <a:tab algn="l" pos="6024600"/>
                <a:tab algn="l" pos="6286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550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arenR" startAt="3"/>
              <a:tabLst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  <a:tab algn="l" pos="5762520"/>
                <a:tab algn="l" pos="6024600"/>
                <a:tab algn="l" pos="6286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ime varying conditional effect calculated from the difference-in-differences of the baseline hazard rate of the Cox partial likelihood model (DD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386244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400068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84804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266840" y="4071960"/>
          <a:ext cx="6696000" cy="62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6840" y="4071960"/>
                    <a:ext cx="669600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966F-BDAE-46D9-8A61-FD586791892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17400" y="2862360"/>
            <a:ext cx="1027116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most important assumption underlying the difference-in-differences estimator is that all differences in the changes of the outcome variable between the treatment and the control group are due to the trea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 number of reasons why this could by inval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8640" indent="-4590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  <a:tab algn="l" pos="5762520"/>
                <a:tab algn="l" pos="6024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ther programmes affecting treatment or control group differen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8640" indent="-4590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  <a:tab algn="l" pos="5762520"/>
                <a:tab algn="l" pos="6024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ther influences on particular age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8640" indent="-4590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  <a:tab algn="l" pos="5762520"/>
                <a:tab algn="l" pos="6024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ticipation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50440" y="1418760"/>
            <a:ext cx="8636040" cy="4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de-DE" sz="3900" spc="-1" strike="noStrike">
                <a:solidFill>
                  <a:srgbClr val="000000"/>
                </a:solidFill>
                <a:latin typeface="MetaNormalLF-Roman"/>
              </a:rPr>
              <a:t>Validity of the DD estimators</a:t>
            </a:r>
            <a:endParaRPr b="0" lang="en-US" sz="39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DF9F-DFE9-4F56-8B0C-313CD3BBD7F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7040" y="6737400"/>
            <a:ext cx="95076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Note: Number of individuals in parentheses, t-statistics estimated robustly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72680" y="972720"/>
            <a:ext cx="931716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de-DE" sz="3900" spc="-1" strike="noStrike">
                <a:solidFill>
                  <a:srgbClr val="000000"/>
                </a:solidFill>
                <a:latin typeface="MetaNormalLF-Roman"/>
              </a:rPr>
              <a:t>Exits into subsidised employment</a:t>
            </a:r>
            <a:endParaRPr b="0" lang="en-US" sz="3900" spc="-1" strike="noStrike">
              <a:solidFill>
                <a:srgbClr val="000000"/>
              </a:solidFill>
              <a:latin typeface="MetaNormalLF-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57040" y="2311560"/>
          <a:ext cx="10801440" cy="4195440"/>
        </p:xfrm>
        <a:graphic>
          <a:graphicData uri="http://schemas.openxmlformats.org/drawingml/2006/table">
            <a:tbl>
              <a:tblPr/>
              <a:tblGrid>
                <a:gridCol w="2843280"/>
                <a:gridCol w="1957320"/>
                <a:gridCol w="2000520"/>
                <a:gridCol w="2000160"/>
                <a:gridCol w="200016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4360" indent="-414360" algn="ctr">
                        <a:lnSpc>
                          <a:spcPct val="100000"/>
                        </a:lnSpc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1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4360" indent="-414360" algn="ctr">
                        <a:lnSpc>
                          <a:spcPct val="100000"/>
                        </a:lnSpc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4360" indent="-414360" algn="ctr">
                        <a:lnSpc>
                          <a:spcPct val="100000"/>
                        </a:lnSpc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3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4360" indent="-414360" algn="ctr">
                        <a:lnSpc>
                          <a:spcPct val="100000"/>
                        </a:lnSpc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9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14360" indent="-414360">
                        <a:lnSpc>
                          <a:spcPct val="100000"/>
                        </a:lnSpc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eatment Grou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14360" indent="-414360">
                        <a:lnSpc>
                          <a:spcPct val="100000"/>
                        </a:lnSpc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Age 50 to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14360" indent="-414360">
                        <a:lnSpc>
                          <a:spcPct val="100000"/>
                        </a:lnSpc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+6 months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14360" indent="-414360" algn="ctr">
                        <a:lnSpc>
                          <a:spcPct val="100000"/>
                        </a:lnSpc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6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14360" indent="-414360" algn="ctr">
                        <a:lnSpc>
                          <a:spcPct val="100000"/>
                        </a:lnSpc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6209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14360" indent="-414360" algn="ctr">
                        <a:lnSpc>
                          <a:spcPct val="100000"/>
                        </a:lnSpc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7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14360" indent="-414360" algn="ctr">
                        <a:lnSpc>
                          <a:spcPct val="100000"/>
                        </a:lnSpc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7320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14360" indent="-414360" algn="ctr">
                        <a:lnSpc>
                          <a:spcPct val="100000"/>
                        </a:lnSpc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03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14360" indent="-414360" algn="ctr">
                        <a:lnSpc>
                          <a:spcPct val="100000"/>
                        </a:lnSpc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4406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14360" indent="-414360" algn="ctr">
                        <a:lnSpc>
                          <a:spcPct val="100000"/>
                        </a:lnSpc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94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14360" indent="-414360" algn="ctr">
                        <a:lnSpc>
                          <a:spcPct val="100000"/>
                        </a:lnSpc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6389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66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14360" indent="-414360">
                        <a:lnSpc>
                          <a:spcPct val="100000"/>
                        </a:lnSpc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ol Group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14360" indent="-414360">
                        <a:lnSpc>
                          <a:spcPct val="100000"/>
                        </a:lnSpc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Age 49 to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14360" indent="-414360">
                        <a:lnSpc>
                          <a:spcPct val="100000"/>
                        </a:lnSpc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+6 months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14360" indent="-414360" algn="ctr">
                        <a:lnSpc>
                          <a:spcPct val="100000"/>
                        </a:lnSpc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14360" indent="-414360" algn="ctr">
                        <a:lnSpc>
                          <a:spcPct val="100000"/>
                        </a:lnSpc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6453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14360" indent="-414360" algn="ctr">
                        <a:lnSpc>
                          <a:spcPct val="100000"/>
                        </a:lnSpc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4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14360" indent="-414360" algn="ctr">
                        <a:lnSpc>
                          <a:spcPct val="100000"/>
                        </a:lnSpc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6947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14360" indent="-414360" algn="ctr">
                        <a:lnSpc>
                          <a:spcPct val="100000"/>
                        </a:lnSpc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5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14360" indent="-414360" algn="ctr">
                        <a:lnSpc>
                          <a:spcPct val="100000"/>
                        </a:lnSpc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4374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14360" indent="-414360" algn="ctr">
                        <a:lnSpc>
                          <a:spcPct val="100000"/>
                        </a:lnSpc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14360" indent="-414360" algn="ctr">
                        <a:lnSpc>
                          <a:spcPct val="100000"/>
                        </a:lnSpc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7181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347D-F198-4352-B9ED-86301ABBDA5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3320" y="1069560"/>
            <a:ext cx="931716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MetaNormalLF-Roman"/>
              </a:rPr>
              <a:t>DD1-effect on employment, 2002</a:t>
            </a:r>
            <a:r>
              <a:rPr b="0" lang="de-DE" sz="3900" spc="-1" strike="noStrike">
                <a:solidFill>
                  <a:srgbClr val="000000"/>
                </a:solidFill>
                <a:latin typeface="MetaNormalLF-Roman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10492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265400" y="1697040"/>
          <a:ext cx="8943840" cy="632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5400" y="1697040"/>
                    <a:ext cx="8943840" cy="632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7A2D-1013-4160-AA6F-E572AEEBB6F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232884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42920" y="1305000"/>
          <a:ext cx="5370480" cy="306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920" y="1305000"/>
                    <a:ext cx="5370480" cy="30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0" y="216216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5746680" y="1303200"/>
          <a:ext cx="5383440" cy="3057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46680" y="1303200"/>
                    <a:ext cx="5383440" cy="30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0" y="231948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14480" y="4506840"/>
          <a:ext cx="5398920" cy="30942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480" y="4506840"/>
                    <a:ext cx="5398920" cy="30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0" y="235728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5729400" y="4576680"/>
          <a:ext cx="5400720" cy="302580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29400" y="4576680"/>
                    <a:ext cx="540072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49680" y="684000"/>
            <a:ext cx="758808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MetaNormalLF-Roman"/>
              </a:rPr>
              <a:t>DD1-effect on employment</a:t>
            </a:r>
            <a:r>
              <a:rPr b="0" lang="de-DE" sz="2400" spc="-1" strike="noStrike">
                <a:solidFill>
                  <a:srgbClr val="000000"/>
                </a:solidFill>
                <a:latin typeface="MetaNormalLF-Roman"/>
              </a:rPr>
              <a:t>, 2002</a:t>
            </a:r>
            <a:r>
              <a:rPr b="0" lang="de-DE" sz="3900" spc="-1" strike="noStrike">
                <a:solidFill>
                  <a:srgbClr val="000000"/>
                </a:solidFill>
                <a:latin typeface="MetaNormalLF-Roman"/>
              </a:rPr>
              <a:t>	</a:t>
            </a:r>
            <a:endParaRPr b="0" lang="en-US" sz="39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7040" y="342432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Men, W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873760" y="34243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Men, Ea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7040" y="672948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Women, W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873760" y="67374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Women, Ea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6445-535D-4336-9CCE-8647FCA72A5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50800" y="1131840"/>
            <a:ext cx="86360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de-DE" sz="3900" spc="-1" strike="noStrike">
                <a:solidFill>
                  <a:srgbClr val="000000"/>
                </a:solidFill>
                <a:latin typeface="MetaNormalLF-Roman"/>
              </a:rPr>
              <a:t>Outlin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17400" y="2276640"/>
            <a:ext cx="10080720" cy="46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escription of hiring subsi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h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stimation approach and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2B45-7118-49B8-ACD6-2C3A69A9631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3320" y="1069560"/>
            <a:ext cx="931716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MetaNormalLF-Roman"/>
              </a:rPr>
              <a:t>DD1-effect on employment, 2004</a:t>
            </a:r>
            <a:r>
              <a:rPr b="0" lang="de-DE" sz="3900" spc="-1" strike="noStrike">
                <a:solidFill>
                  <a:srgbClr val="000000"/>
                </a:solidFill>
                <a:latin typeface="MetaNormalLF-Roman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210492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21940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406520" y="2128680"/>
          <a:ext cx="8212320" cy="5789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6520" y="2128680"/>
                    <a:ext cx="8212320" cy="578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6F77-37EC-4DC8-94A0-96722E7AD9F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232884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216216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231948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235728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86120" y="684000"/>
            <a:ext cx="93168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MetaNormalLF-Roman"/>
              </a:rPr>
              <a:t>DD1-effect on employment</a:t>
            </a:r>
            <a:r>
              <a:rPr b="0" lang="de-DE" sz="2400" spc="-1" strike="noStrike">
                <a:solidFill>
                  <a:srgbClr val="000000"/>
                </a:solidFill>
                <a:latin typeface="MetaNormalLF-Roman"/>
              </a:rPr>
              <a:t>, 2004</a:t>
            </a:r>
            <a:r>
              <a:rPr b="0" lang="de-DE" sz="2400" spc="-1" strike="noStrike">
                <a:solidFill>
                  <a:srgbClr val="000000"/>
                </a:solidFill>
                <a:latin typeface="MetaNormalLF-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221940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0" y="1336680"/>
          <a:ext cx="5513400" cy="302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36680"/>
                    <a:ext cx="5513400" cy="30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0" y="230040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5729400" y="1336680"/>
          <a:ext cx="5408640" cy="3016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29400" y="1336680"/>
                    <a:ext cx="5408640" cy="30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0" y="273204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0" y="4576680"/>
          <a:ext cx="5586480" cy="30243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4576680"/>
                    <a:ext cx="5586480" cy="30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5729400" y="4564080"/>
          <a:ext cx="5400720" cy="30369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29400" y="4564080"/>
                    <a:ext cx="5400720" cy="30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257040" y="342432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Men, W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873760" y="34243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Men, Ea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7040" y="672948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Women, W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873760" y="67374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Women, Ea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A0A4-045C-4A90-8FE7-F24663BE281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17400" y="16686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61800" indent="-361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689040" y="2128680"/>
          <a:ext cx="10153440" cy="4907160"/>
        </p:xfrm>
        <a:graphic>
          <a:graphicData uri="http://schemas.openxmlformats.org/drawingml/2006/table">
            <a:tbl>
              <a:tblPr/>
              <a:tblGrid>
                <a:gridCol w="2160360"/>
                <a:gridCol w="1598760"/>
                <a:gridCol w="1595520"/>
                <a:gridCol w="1600200"/>
                <a:gridCol w="1598400"/>
                <a:gridCol w="1600200"/>
              </a:tblGrid>
              <a:tr h="73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l worker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n West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n   East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omen West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omen East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fter treatment (2002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0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8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1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7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8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-0,01)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-0,28)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0,07)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0,9)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-0,87)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eatment group (age 50 to 50+6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5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6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2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4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4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3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-1,15)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0,93)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-1,01)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-0,91)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-2,94)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action term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3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0,6)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8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-0,22)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5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0,41)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9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-0,15)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4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,32)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 test, p-leve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3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D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ber of obs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0.6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23760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-0,43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8870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1,25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3895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-0,26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8440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6,8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2555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2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R chi2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367,75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131,82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87,81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84,29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31,72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50440" y="1120320"/>
            <a:ext cx="8636040" cy="4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de-DE" sz="3900" spc="-1" strike="noStrike">
                <a:solidFill>
                  <a:srgbClr val="000000"/>
                </a:solidFill>
                <a:latin typeface="MetaNormalLF-Roman"/>
              </a:rPr>
              <a:t>Conditional DD Results (DD2-Effect), 2002</a:t>
            </a:r>
            <a:endParaRPr b="0" lang="en-US" sz="39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85CC-FFF9-4FFA-82C5-3EDA1EEC4EA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16000" y="2128680"/>
          <a:ext cx="10986840" cy="5154840"/>
        </p:xfrm>
        <a:graphic>
          <a:graphicData uri="http://schemas.openxmlformats.org/drawingml/2006/table">
            <a:tbl>
              <a:tblPr/>
              <a:tblGrid>
                <a:gridCol w="2201760"/>
                <a:gridCol w="1708200"/>
                <a:gridCol w="1770120"/>
                <a:gridCol w="1770120"/>
                <a:gridCol w="1879560"/>
                <a:gridCol w="1657080"/>
              </a:tblGrid>
              <a:tr h="78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n West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n East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omen West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omen East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4360" indent="-414360">
                        <a:lnSpc>
                          <a:spcPct val="100000"/>
                        </a:lnSpc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fter treatment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14360" indent="-414360">
                        <a:lnSpc>
                          <a:spcPct val="100000"/>
                        </a:lnSpc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004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9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-0,51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8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-2,7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7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-0,48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6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,07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,02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4360" indent="-414360">
                        <a:lnSpc>
                          <a:spcPct val="100000"/>
                        </a:lnSpc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eatment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14360" indent="-414360">
                        <a:lnSpc>
                          <a:spcPct val="100000"/>
                        </a:lnSpc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oup (age 5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14360" indent="-414360">
                        <a:lnSpc>
                          <a:spcPct val="100000"/>
                        </a:lnSpc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 50+6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7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-1,12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9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-2,39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9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-0,17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2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0,36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4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0,46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4360" indent="-414360">
                        <a:lnSpc>
                          <a:spcPct val="100000"/>
                        </a:lnSpc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action term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5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-1,23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,39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9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-0,06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0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-2,88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5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-1,43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4360" indent="-414360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 test, p-leve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00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4360" indent="-414360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D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14360" indent="-414360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ber of obs.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0,74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7449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,4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490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0,1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0154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2,84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8253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1,9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552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4360" indent="-414360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R chi2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954,51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33,36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63,27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39,51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0,05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50440" y="1120320"/>
            <a:ext cx="8636040" cy="4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de-DE" sz="3900" spc="-1" strike="noStrike">
                <a:solidFill>
                  <a:srgbClr val="000000"/>
                </a:solidFill>
                <a:latin typeface="MetaNormalLF-Roman"/>
              </a:rPr>
              <a:t>Conditional DD Results (DD2-Effect), 2004</a:t>
            </a:r>
            <a:endParaRPr b="0" lang="en-US" sz="39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9A95-2916-4C53-B7E1-DB10153A110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17400" y="16686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61800" indent="-361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50440" y="1120320"/>
            <a:ext cx="8636040" cy="4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de-DE" sz="3900" spc="-1" strike="noStrike">
                <a:solidFill>
                  <a:srgbClr val="000000"/>
                </a:solidFill>
                <a:latin typeface="MetaNormalLF-Roman"/>
              </a:rPr>
              <a:t>Conditional DD Results (DD3-Effect), 2002</a:t>
            </a:r>
            <a:endParaRPr b="0" lang="en-US" sz="3900" spc="-1" strike="noStrike">
              <a:solidFill>
                <a:srgbClr val="000000"/>
              </a:solidFill>
              <a:latin typeface="MetaNormalLF-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150920" y="1704960"/>
            <a:ext cx="8394840" cy="6111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96AE-AABD-496D-AD9A-7345CDFB9C8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17400" y="16686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61800" indent="-361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50440" y="1120320"/>
            <a:ext cx="8636040" cy="4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de-DE" sz="3900" spc="-1" strike="noStrike">
                <a:solidFill>
                  <a:srgbClr val="000000"/>
                </a:solidFill>
                <a:latin typeface="MetaNormalLF-Roman"/>
              </a:rPr>
              <a:t>Conditional DD Results (DD3-Effect), 2004</a:t>
            </a:r>
            <a:endParaRPr b="0" lang="en-US" sz="3900" spc="-1" strike="noStrike">
              <a:solidFill>
                <a:srgbClr val="000000"/>
              </a:solidFill>
              <a:latin typeface="MetaNormalLF-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316160" y="1768320"/>
            <a:ext cx="8373960" cy="6096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596A-E4CA-43B7-9F04-0F0C3B73323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17400" y="16686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61800" indent="-361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63320" y="1069560"/>
            <a:ext cx="931716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de-DE" sz="3900" spc="-1" strike="noStrike">
                <a:solidFill>
                  <a:srgbClr val="000000"/>
                </a:solidFill>
                <a:latin typeface="MetaNormalLF-Roman"/>
              </a:rPr>
              <a:t>Conditional DD Results (DD3-Effect), 2002</a:t>
            </a:r>
            <a:endParaRPr b="0" lang="en-US" sz="3900" spc="-1" strike="noStrike">
              <a:solidFill>
                <a:srgbClr val="000000"/>
              </a:solidFill>
              <a:latin typeface="MetaNormalLF-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625760" y="2311560"/>
          <a:ext cx="8568720" cy="5433480"/>
        </p:xfrm>
        <a:graphic>
          <a:graphicData uri="http://schemas.openxmlformats.org/drawingml/2006/table">
            <a:tbl>
              <a:tblPr/>
              <a:tblGrid>
                <a:gridCol w="4284000"/>
                <a:gridCol w="4284720"/>
              </a:tblGrid>
              <a:tr h="271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697040" y="2344680"/>
            <a:ext cx="4167360" cy="26510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6062760" y="2333520"/>
            <a:ext cx="3987720" cy="26751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1728720" y="5079960"/>
            <a:ext cx="4073760" cy="26510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6045120" y="5079960"/>
            <a:ext cx="4005360" cy="25923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3209760" y="183996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02480" y="181440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73040" y="332748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73040" y="599112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475B-6FCE-4310-BE90-BB8C9A5CFD6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17400" y="16686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61800" indent="-361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63320" y="1069560"/>
            <a:ext cx="931716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de-DE" sz="3900" spc="-1" strike="noStrike">
                <a:solidFill>
                  <a:srgbClr val="000000"/>
                </a:solidFill>
                <a:latin typeface="MetaNormalLF-Roman"/>
              </a:rPr>
              <a:t>Conditional DD Results (DD3-Effect), 2004</a:t>
            </a:r>
            <a:endParaRPr b="0" lang="en-US" sz="3900" spc="-1" strike="noStrike">
              <a:solidFill>
                <a:srgbClr val="000000"/>
              </a:solidFill>
              <a:latin typeface="MetaNormalLF-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625760" y="2311560"/>
          <a:ext cx="8568720" cy="5433480"/>
        </p:xfrm>
        <a:graphic>
          <a:graphicData uri="http://schemas.openxmlformats.org/drawingml/2006/table">
            <a:tbl>
              <a:tblPr/>
              <a:tblGrid>
                <a:gridCol w="4284000"/>
                <a:gridCol w="4284720"/>
              </a:tblGrid>
              <a:tr h="271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3209760" y="183996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02480" y="181440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3040" y="332748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3040" y="599112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986120" y="2344680"/>
            <a:ext cx="3649680" cy="26528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6256440" y="2344680"/>
            <a:ext cx="3649680" cy="26528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1986120" y="5079960"/>
            <a:ext cx="3641400" cy="26528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6264360" y="5092560"/>
            <a:ext cx="3641760" cy="2652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9C8B-53C9-44D5-AC26-D1665DBC76A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17040" y="1404720"/>
            <a:ext cx="931716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MetaNormalLF-Roman"/>
              </a:rPr>
              <a:t>Evidence on deadweight effects </a:t>
            </a:r>
            <a:br>
              <a:rPr sz="3900"/>
            </a:br>
            <a:endParaRPr b="0" lang="en-US" sz="39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17400" y="2862360"/>
            <a:ext cx="10271160" cy="38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w does the number of jobs created with the help of hirings subsidies compare to the number of subsidies disburs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mpare number of exits into subsidised and unsubsidised jobs – if the latter declines by as much as the first increases, crowding out is comp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mpeting risks framework using differences of differences to the cumulative incidence functions of exit into subsidised and unsubsidised jo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ll results are unconditional on covari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2293-590B-4EE0-BC37-4AD36E77768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617400" y="16686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61800" indent="-361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50440" y="1120320"/>
            <a:ext cx="8636040" cy="4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de-DE" sz="3900" spc="-1" strike="noStrike">
                <a:solidFill>
                  <a:srgbClr val="000000"/>
                </a:solidFill>
                <a:latin typeface="MetaNormalLF-Roman"/>
              </a:rPr>
              <a:t>DD of the Cumulative Incidence Function, 2002</a:t>
            </a:r>
            <a:endParaRPr b="0" lang="en-US" sz="3900" spc="-1" strike="noStrike">
              <a:solidFill>
                <a:srgbClr val="000000"/>
              </a:solidFill>
              <a:latin typeface="MetaNormalLF-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379520" y="1768320"/>
            <a:ext cx="8381880" cy="6096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E529-C3D6-4BBC-8A6C-C9FBDBA3F21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17400" y="2276640"/>
            <a:ext cx="10080720" cy="43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57200" indent="-45720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Two questions should be distinguish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o hiring subsidy programmes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ausally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lead to earlier exit from unemployment to employment in the group of eligible persons as compared to the situation in which no subsidies are availab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o subsidised hirings causally lead to more </a:t>
            </a: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unsubsidised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employment? Forslund et al. (2004), Sianesi (2003), and Hujer et al. (200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n this paper, the focus is on the first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0800" y="1131840"/>
            <a:ext cx="86360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de-DE" sz="3900" spc="-1" strike="noStrike">
                <a:solidFill>
                  <a:srgbClr val="000000"/>
                </a:solidFill>
                <a:latin typeface="MetaNormalLF-Roman"/>
              </a:rPr>
              <a:t>Introduction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DD3B-8EBC-46EE-9467-400C99C92B4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617400" y="16686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61800" indent="-361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50440" y="1120320"/>
            <a:ext cx="8636040" cy="4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de-DE" sz="3900" spc="-1" strike="noStrike">
                <a:solidFill>
                  <a:srgbClr val="000000"/>
                </a:solidFill>
                <a:latin typeface="MetaNormalLF-Roman"/>
              </a:rPr>
              <a:t>DD of the Cumulative Incidence Function, 2004</a:t>
            </a:r>
            <a:endParaRPr b="0" lang="en-US" sz="3900" spc="-1" strike="noStrike">
              <a:solidFill>
                <a:srgbClr val="000000"/>
              </a:solidFill>
              <a:latin typeface="MetaNormalLF-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554120" y="1768320"/>
            <a:ext cx="8381880" cy="6096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2E06-1A6B-44AE-B0D0-DC0603566CA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17400" y="16686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61800" indent="-361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63320" y="1069560"/>
            <a:ext cx="931716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de-DE" sz="3900" spc="-1" strike="noStrike">
                <a:solidFill>
                  <a:srgbClr val="000000"/>
                </a:solidFill>
                <a:latin typeface="MetaNormalLF-Roman"/>
              </a:rPr>
              <a:t>Conditional DD Results (DD3-Effect), 2002</a:t>
            </a:r>
            <a:endParaRPr b="0" lang="en-US" sz="3900" spc="-1" strike="noStrike">
              <a:solidFill>
                <a:srgbClr val="000000"/>
              </a:solidFill>
              <a:latin typeface="MetaNormalLF-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625760" y="2311560"/>
          <a:ext cx="8568720" cy="5433480"/>
        </p:xfrm>
        <a:graphic>
          <a:graphicData uri="http://schemas.openxmlformats.org/drawingml/2006/table">
            <a:tbl>
              <a:tblPr/>
              <a:tblGrid>
                <a:gridCol w="4284000"/>
                <a:gridCol w="4284720"/>
              </a:tblGrid>
              <a:tr h="271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3" name=""/>
          <p:cNvSpPr/>
          <p:nvPr/>
        </p:nvSpPr>
        <p:spPr>
          <a:xfrm>
            <a:off x="3209760" y="183996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602480" y="181440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73040" y="332748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73040" y="599112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6305400" y="5078520"/>
            <a:ext cx="3667320" cy="26668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1990800" y="5078520"/>
            <a:ext cx="3666960" cy="26668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6311880" y="2341440"/>
            <a:ext cx="3667320" cy="26672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1990800" y="2341440"/>
            <a:ext cx="3666960" cy="266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0C30-08A9-4FAE-A8DD-75BBC4B7CDA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17400" y="16686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61800" indent="-361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63320" y="1069560"/>
            <a:ext cx="931716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de-DE" sz="3900" spc="-1" strike="noStrike">
                <a:solidFill>
                  <a:srgbClr val="000000"/>
                </a:solidFill>
                <a:latin typeface="MetaNormalLF-Roman"/>
              </a:rPr>
              <a:t>Conditional DD Results (DD3-Effect), 2002</a:t>
            </a:r>
            <a:endParaRPr b="0" lang="en-US" sz="3900" spc="-1" strike="noStrike">
              <a:solidFill>
                <a:srgbClr val="000000"/>
              </a:solidFill>
              <a:latin typeface="MetaNormalLF-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625760" y="2311560"/>
          <a:ext cx="8568720" cy="5433480"/>
        </p:xfrm>
        <a:graphic>
          <a:graphicData uri="http://schemas.openxmlformats.org/drawingml/2006/table">
            <a:tbl>
              <a:tblPr/>
              <a:tblGrid>
                <a:gridCol w="4284000"/>
                <a:gridCol w="4284720"/>
              </a:tblGrid>
              <a:tr h="271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"/>
          <p:cNvSpPr/>
          <p:nvPr/>
        </p:nvSpPr>
        <p:spPr>
          <a:xfrm>
            <a:off x="3209760" y="183996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602480" y="181440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73040" y="332748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73040" y="599112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913040" y="2341440"/>
            <a:ext cx="3666960" cy="266724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6238800" y="2341440"/>
            <a:ext cx="3667320" cy="26672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1913040" y="5078520"/>
            <a:ext cx="3666960" cy="26668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238800" y="5078520"/>
            <a:ext cx="3667320" cy="266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4557-50FC-4B55-B6F1-ECEDF2713FE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544680" y="1895400"/>
            <a:ext cx="103438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61800" indent="-361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e have used a natural experiment design to answer the question whether hiring subsidy programmes are eff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wo changes were compared: extension of eligibility for workers aged 50+ in 2002 and abolishment of preferential treatment for the same group in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pplication of three DiD estimators shows that employment effects for workers as a whole are insignificant and small compared to the number of subsidised hir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mpeting risks framework suggests that the EGZ is not very effective in the group of treated individuals and deadweight effects are importa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wever, for East German Women (in 2002) and Women in both parts of Germany (in 2004), some effects are significant and large relative to subsidised hirings </a:t>
            </a:r>
            <a:r>
              <a:rPr b="1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deadweight effects much smaller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50440" y="1058400"/>
            <a:ext cx="8636040" cy="4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de-DE" sz="3900" spc="-1" strike="noStrike">
                <a:solidFill>
                  <a:srgbClr val="000000"/>
                </a:solidFill>
                <a:latin typeface="MetaNormalLF-Roman"/>
              </a:rPr>
              <a:t>Conclusions</a:t>
            </a:r>
            <a:endParaRPr b="0" lang="en-US" sz="39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8FCF-BD58-4C57-8B82-B30785BB581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7400" y="2633760"/>
            <a:ext cx="10080720" cy="45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57200" indent="-457200">
              <a:lnSpc>
                <a:spcPct val="105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tatic model with perfect competition on the labour market: hiring subsidy lowers net wages paid by the employer and increases demand for subsidised employ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Reaction depends on wage elasticity: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lnL/ds 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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/(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 , where L is subsidised employ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f elasticity is low, deadweight effect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Buslei and Steiner, 1999; Hujer and Caliendo, 2003; Meyer, 1995a)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cc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mpirically, wage elasticities differ between male/female and single/married and East/West Germ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50800" y="1492200"/>
            <a:ext cx="86360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MetaNormalLF-Roman"/>
              </a:rPr>
              <a:t>Conditions for the effectiveness </a:t>
            </a:r>
            <a:br>
              <a:rPr sz="3900"/>
            </a:br>
            <a:r>
              <a:rPr b="0" lang="en-US" sz="3900" spc="-1" strike="noStrike">
                <a:solidFill>
                  <a:srgbClr val="000000"/>
                </a:solidFill>
                <a:latin typeface="MetaNormalLF-Roman"/>
              </a:rPr>
              <a:t>of hiring subsidies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FBDF-2B73-41A8-AADC-6A8A5044759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17400" y="2847960"/>
            <a:ext cx="10514160" cy="38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61800" indent="-361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iring subsidies may provide too low an incentive and / or may not be known among eligible firms and workers </a:t>
            </a:r>
            <a:r>
              <a:rPr b="1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implementation s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 addition to deadweight effects, hiring subsidies may be ineffective due to substitution or a  displacement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ince our approach is based on individual-level data, we concentrate on deadweight effects. The particular interest in the deadweight effect is whether the programme is effective for the targeted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50440" y="1418760"/>
            <a:ext cx="8636040" cy="4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de-DE" sz="3900" spc="-1" strike="noStrike">
                <a:solidFill>
                  <a:srgbClr val="000000"/>
                </a:solidFill>
                <a:latin typeface="MetaNormalLF-Roman"/>
              </a:rPr>
              <a:t>More reasons why hiring subsidies may fail </a:t>
            </a:r>
            <a:br>
              <a:rPr sz="3900"/>
            </a:br>
            <a:r>
              <a:rPr b="0" lang="de-DE" sz="3900" spc="-1" strike="noStrike">
                <a:solidFill>
                  <a:srgbClr val="000000"/>
                </a:solidFill>
                <a:latin typeface="MetaNormalLF-Roman"/>
              </a:rPr>
              <a:t>to affect the number of hirings</a:t>
            </a:r>
            <a:endParaRPr b="0" lang="en-US" sz="39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CC80-D0AF-4926-8644-B779C27F4A2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352680" y="1839960"/>
            <a:ext cx="760428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61800" indent="-361800">
              <a:lnSpc>
                <a:spcPct val="120000"/>
              </a:lnSpc>
              <a:tabLst>
                <a:tab algn="l" pos="0"/>
                <a:tab algn="l" pos="17460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20000"/>
              </a:lnSpc>
              <a:tabLst>
                <a:tab algn="l" pos="0"/>
                <a:tab algn="l" pos="17460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17400" y="2695680"/>
            <a:ext cx="9864720" cy="52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61800" indent="-361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adweight effects involve a counterfactual that must be estim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n this paper we use changes to the eligibility rules as „natural“ var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efore 2002, the Integration Supplement for older workers was only available for hiring long-term unemployed workers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. Taking effect on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January 1st, 2002,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is condition was drop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aking effect on January 1st, 2004,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EGZ subsidy for older workers was integrated into the framework of the general EGZ, so that workers aged 50+ lost preferential trea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50440" y="1407600"/>
            <a:ext cx="8636040" cy="4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de-DE" sz="3900" spc="-1" strike="noStrike">
                <a:solidFill>
                  <a:srgbClr val="000000"/>
                </a:solidFill>
                <a:latin typeface="MetaNormalLF-Roman"/>
              </a:rPr>
              <a:t>Estimating deadweight effects</a:t>
            </a:r>
            <a:endParaRPr b="0" lang="en-US" sz="39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9818-07F0-414C-810D-946DA6327A0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69880" y="2481120"/>
            <a:ext cx="10201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61800" indent="-361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of the major instruments of German active labour market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gal basis: German Social Code (SGB), Volume II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GZ are paid to the employer as a percentage of standardised labour costs (maximum 50 per cent) for up to 24 months (other limits for workers with specific disadvantag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f the employment relationship is terminated before a minimum period after the expiration of the subsidy, the employer is legally obliged to refund parts of the subsi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o legal claim to EGZ either by the worker or the emplo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50440" y="1491840"/>
            <a:ext cx="8636040" cy="4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de-DE" sz="3900" spc="-1" strike="noStrike">
                <a:solidFill>
                  <a:srgbClr val="000000"/>
                </a:solidFill>
                <a:latin typeface="MetaNormalLF-Roman"/>
              </a:rPr>
              <a:t>Description of hiring subsidies (EGZ) </a:t>
            </a:r>
            <a:br>
              <a:rPr sz="3900"/>
            </a:br>
            <a:r>
              <a:rPr b="0" lang="de-DE" sz="3900" spc="-1" strike="noStrike">
                <a:solidFill>
                  <a:srgbClr val="000000"/>
                </a:solidFill>
                <a:latin typeface="MetaNormalLF-Roman"/>
              </a:rPr>
              <a:t>in Germany</a:t>
            </a:r>
            <a:endParaRPr b="0" lang="en-US" sz="39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735E-B1CB-40BA-A633-B606AC5A03E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623960" y="2359080"/>
            <a:ext cx="8642520" cy="56624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50440" y="1851120"/>
            <a:ext cx="8636040" cy="42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MetaNormalLF-Roman"/>
              </a:rPr>
              <a:t>Employment contracts subsidised </a:t>
            </a:r>
            <a:br>
              <a:rPr sz="3900"/>
            </a:br>
            <a:r>
              <a:rPr b="0" lang="en-US" sz="3900" spc="-1" strike="noStrike">
                <a:solidFill>
                  <a:srgbClr val="000000"/>
                </a:solidFill>
                <a:latin typeface="MetaNormalLF-Roman"/>
              </a:rPr>
              <a:t>by Integration Supplements</a:t>
            </a:r>
            <a:br>
              <a:rPr sz="3900"/>
            </a:br>
            <a:endParaRPr b="0" lang="en-US" sz="39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42F4-BA31-484F-9BB4-73A79CCCB6C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26960" y="2336760"/>
            <a:ext cx="10415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61800" indent="-361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GZ is regarded as an important instrument by employment ag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re is substantial scope for decision-making concerning the allocation of the subsi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 the majority of cases, an initial contact between a worker and an employer already exis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t will often be difficult for placement officers to decide whether the company would refrain from hiring without EG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implementation study strongly confirms the notion that deadweight effects are a major iss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4000" y="1275840"/>
            <a:ext cx="8637480" cy="4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de-DE" sz="3900" spc="-1" strike="noStrike">
                <a:solidFill>
                  <a:srgbClr val="000000"/>
                </a:solidFill>
                <a:latin typeface="MetaNormalLF-Roman"/>
              </a:rPr>
              <a:t>Implementation of the programme</a:t>
            </a:r>
            <a:endParaRPr b="0" lang="en-US" sz="39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B924-0777-41C1-A337-4788BD1C587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6T14:47:56Z</dcterms:created>
  <dc:creator>ZEW</dc:creator>
  <dc:description/>
  <dc:language>en-US</dc:language>
  <cp:lastModifiedBy>bbo</cp:lastModifiedBy>
  <cp:lastPrinted>2003-01-28T08:59:02Z</cp:lastPrinted>
  <dcterms:modified xsi:type="dcterms:W3CDTF">2006-10-16T17:45:32Z</dcterms:modified>
  <cp:revision>527</cp:revision>
  <dc:subject/>
  <dc:title>Kein Folientite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188514517</vt:r8>
  </property>
  <property fmtid="{D5CDD505-2E9C-101B-9397-08002B2CF9AE}" pid="3" name="_AuthorEmail">
    <vt:lpwstr>Ursula.Jaenichen@iab.de</vt:lpwstr>
  </property>
  <property fmtid="{D5CDD505-2E9C-101B-9397-08002B2CF9AE}" pid="4" name="_AuthorEmailDisplayName">
    <vt:lpwstr>Jaenichen Ursula</vt:lpwstr>
  </property>
  <property fmtid="{D5CDD505-2E9C-101B-9397-08002B2CF9AE}" pid="5" name="_EmailSubject">
    <vt:lpwstr>Folien</vt:lpwstr>
  </property>
  <property fmtid="{D5CDD505-2E9C-101B-9397-08002B2CF9AE}" pid="6" name="_PreviousAdHocReviewCycleID">
    <vt:r8>-1660711376</vt:r8>
  </property>
  <property fmtid="{D5CDD505-2E9C-101B-9397-08002B2CF9AE}" pid="7" name="_ReviewingToolsShownOnce">
    <vt:lpwstr/>
  </property>
</Properties>
</file>