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8.wmf" ContentType="image/x-wmf"/>
  <Override PartName="/ppt/media/image38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EB3-A894-4C38-868D-7C6CDA8C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3320" y="48186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B22-3738-4166-A090-A292EF93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2784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6A1-63A3-4FB7-A3D2-E6A8ADB9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096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1860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332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4096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51860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275-EBD8-4AEE-94A3-19CEDCE3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1DB-8A89-47A9-8EDF-E358902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679-80BB-4ADE-BDF5-93CF40B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270-6ABE-413F-87A7-2B409A4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708-8357-4209-A65A-D734526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3320" y="1069560"/>
            <a:ext cx="93171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084-18AD-4225-B3AB-4E8F6FF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02C-385D-4925-B7C0-EE71F18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2784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6D6-8A3F-42AA-9862-73C1056C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4A4-AB0C-4BCC-9724-3578173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11315880" cy="329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850"/>
              </a:spcBef>
              <a:buClr>
                <a:srgbClr val="000000"/>
              </a:buClr>
              <a:buFont typeface="MetaNormalLF-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MetaNormalLF-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379520" indent="-276120">
              <a:spcBef>
                <a:spcPts val="850"/>
              </a:spcBef>
              <a:buClr>
                <a:srgbClr val="000000"/>
              </a:buClr>
              <a:buFont typeface="MetaNormalLF-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932120" indent="-276480">
              <a:spcBef>
                <a:spcPts val="850"/>
              </a:spcBef>
              <a:buClr>
                <a:srgbClr val="000000"/>
              </a:buClr>
              <a:buFont typeface="MetaNormalLF-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36692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374F9FCD-2065-410E-B00D-9CDCDCB766DA}" type="slidenum"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11040" y="209520"/>
            <a:ext cx="924120" cy="525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886040" y="14860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3040" y="175896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ffects of Hiring Subsidies for Older Workers                           on Unemployment Durations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3040" y="3208320"/>
            <a:ext cx="1013472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reas Ammer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rnhard Boock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ichael Me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omas Z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ntre for European Economic Research (ZEW)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958-B1A9-4C35-814F-95BC9D3C63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9600" y="2271600"/>
            <a:ext cx="10270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 is based on the Integrated Employment Biograph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I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EB are composed of four separate data base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ment 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B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 Claimants 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gramme-Participants Comprehensive Data Bas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T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b Applicant Fil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A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0440" y="127584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e data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857-3ADA-4706-91C6-86758FB5DD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600" y="2044800"/>
            <a:ext cx="1056024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per uses two legal changes in eligibility as natural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before 1-1-2002 eligibility was limited to individuals aged 50+ who were either long-term unemployed (in the legal definition) or had been unemployed for more than 6 consecutive months; this criterion was dropped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workers 50+ and not fulfilling the criterion are used as the treat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on 1-1-2004 EGZ subsidies for older workers were integrated into the general EGZ framework; workers 50+ lost preferent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workers 50+ are used as the treat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440" y="113148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on approach and implementation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374-82D2-4CCF-9FB1-5E371EF506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" y="2044800"/>
            <a:ext cx="105602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 of age grou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4160" indent="-262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  <a:tab algn="l" pos="654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ers aged 50 to 50+6 months at the time of entering unemployment (treatment grou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4160" indent="-262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  <a:tab algn="l" pos="654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ers aged between 49 and 49+6 months (control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eatment and control group are observed before and after the leg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observe individuals belonging to a 3-months entry cohort during a period of 180 days after entry in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13148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on approach and implementation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0E1-3BFB-45C0-A97B-1D81057E1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5520" y="45133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2680" y="147600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ime frame for the difference-in-differences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analysi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9040" y="2344680"/>
          <a:ext cx="9937800" cy="698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344680"/>
                    <a:ext cx="99378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079960" y="2698920"/>
            <a:ext cx="12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341-CCB6-4D6B-8C71-7A4FD0326B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320" y="1117440"/>
            <a:ext cx="93171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ree difference-in-difference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600" y="2044800"/>
            <a:ext cx="105602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varying unconditional effect obtained from Kaplan-Meier-Survivor functions (DD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 startAt="2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ion of a PH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of the treatment effect on the survivor func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DD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624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93760" y="2921040"/>
          <a:ext cx="6912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2921040"/>
                    <a:ext cx="6912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73040" y="6553080"/>
          <a:ext cx="1055376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6553080"/>
                    <a:ext cx="105537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40006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48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560" y="3736080"/>
            <a:ext cx="3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92320" y="4530600"/>
          <a:ext cx="62658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2320" y="4530600"/>
                    <a:ext cx="62658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402-17F0-4F18-8E61-CC1175EEA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ree difference-in-difference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00" y="2044800"/>
            <a:ext cx="10560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 startAt="3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varying conditional effect calculated from the difference-in-differences of the baseline hazard rate of the Cox partial likelihood model (DD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624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006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48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66840" y="4071960"/>
          <a:ext cx="66960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4071960"/>
                    <a:ext cx="66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7D6-2063-46DB-B409-7029B2276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7400" y="2862360"/>
            <a:ext cx="102711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most important assumption underlying the difference-in-differences estimator is that all differences in the changes of the outcome variable between the treatment and the control group are due to the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umber of reasons why this could by inval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programmes affecting treatment or control group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influences on particular ag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0440" y="141876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Validity of the DD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BDD-D77C-40F5-9E13-E66B4F4FDF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6737400"/>
            <a:ext cx="9507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ote: Number of individuals in parentheses, t-statistics estimated robustl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680" y="97272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xits into subsidised employment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7040" y="2311560"/>
          <a:ext cx="10801440" cy="4195440"/>
        </p:xfrm>
        <a:graphic>
          <a:graphicData uri="http://schemas.openxmlformats.org/drawingml/2006/table">
            <a:tbl>
              <a:tblPr/>
              <a:tblGrid>
                <a:gridCol w="2843280"/>
                <a:gridCol w="1957320"/>
                <a:gridCol w="2000520"/>
                <a:gridCol w="2000160"/>
                <a:gridCol w="2000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Gro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ge 50 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+6 month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20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32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40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638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ge 49 to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+6 month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45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94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37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181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D27-7F40-4510-94C8-3A79F155B3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DD1-effect on employment, 2002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04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65400" y="1697040"/>
          <a:ext cx="8943840" cy="63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697040"/>
                    <a:ext cx="894384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571-9420-485E-81F4-550B16D28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3288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920" y="1305000"/>
          <a:ext cx="537048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05000"/>
                    <a:ext cx="5370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216216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46680" y="1303200"/>
          <a:ext cx="5383440" cy="3057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6680" y="1303200"/>
                    <a:ext cx="53834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23194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480" y="4506840"/>
          <a:ext cx="5398920" cy="30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80" y="4506840"/>
                    <a:ext cx="53989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23572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29400" y="4576680"/>
          <a:ext cx="5400720" cy="3025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4576680"/>
                    <a:ext cx="540072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9680" y="684000"/>
            <a:ext cx="758808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DD1-effect on employment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, 2002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7040" y="3424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3760" y="3424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040" y="6729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3760" y="673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430-F3E1-4DC9-9F37-1586783771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0800" y="113184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Outl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400" y="2276640"/>
            <a:ext cx="10080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scription of hiring subsi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timation approach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5BF-A5F2-47CA-B8B5-7480BF0878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DD1-effect on employment, 2004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104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19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06520" y="2128680"/>
          <a:ext cx="8212320" cy="578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2128680"/>
                    <a:ext cx="821232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9A6-9129-45E7-A97B-28F2D92F5E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3288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16216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3194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3572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6120" y="684000"/>
            <a:ext cx="93168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DD1-effect on employment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, 2004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19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336680"/>
          <a:ext cx="551340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6680"/>
                    <a:ext cx="55134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2300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729400" y="1336680"/>
          <a:ext cx="5408640" cy="301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1336680"/>
                    <a:ext cx="54086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2732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4576680"/>
          <a:ext cx="5586480" cy="3024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576680"/>
                    <a:ext cx="55864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9400" y="4564080"/>
          <a:ext cx="5400720" cy="3036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4564080"/>
                    <a:ext cx="54007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57040" y="3424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3760" y="3424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7040" y="6729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3760" y="673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178-5743-4846-8234-E5BBACE0C2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9040" y="2128680"/>
          <a:ext cx="10153440" cy="4907160"/>
        </p:xfrm>
        <a:graphic>
          <a:graphicData uri="http://schemas.openxmlformats.org/drawingml/2006/table">
            <a:tbl>
              <a:tblPr/>
              <a:tblGrid>
                <a:gridCol w="2160360"/>
                <a:gridCol w="1598760"/>
                <a:gridCol w="1595520"/>
                <a:gridCol w="1600200"/>
                <a:gridCol w="1598400"/>
                <a:gridCol w="160020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work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 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treatment (200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0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28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7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87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group (age 50 to 50+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5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3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0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9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94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on ter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6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22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4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15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32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test, p-lev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D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ob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6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376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,4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87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89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,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44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,8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55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chi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67,7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31,8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7,8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4,29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1,7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2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E34-9E40-4F9E-961C-B6C3F86CF3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6000" y="2128680"/>
          <a:ext cx="10986840" cy="5154840"/>
        </p:xfrm>
        <a:graphic>
          <a:graphicData uri="http://schemas.openxmlformats.org/drawingml/2006/table">
            <a:tbl>
              <a:tblPr/>
              <a:tblGrid>
                <a:gridCol w="2201760"/>
                <a:gridCol w="1708200"/>
                <a:gridCol w="1770120"/>
                <a:gridCol w="1770120"/>
                <a:gridCol w="1879560"/>
                <a:gridCol w="16570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treat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51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4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0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(age 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50+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3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1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3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4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4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on ter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2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3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0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8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4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test, p-lev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D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obs.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7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44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49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15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,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253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,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55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chi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54,5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3,36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3,27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9,5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,0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2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34C-204B-4621-A1FF-B092530221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50920" y="1704960"/>
            <a:ext cx="8394840" cy="61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169-A73E-4974-97EB-0E37CBE4A3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16160" y="1768320"/>
            <a:ext cx="837396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FCD-B782-436B-9F6B-BFE354D52C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7040" y="2344680"/>
            <a:ext cx="4167360" cy="2651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62760" y="2333520"/>
            <a:ext cx="3987720" cy="2675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28720" y="5079960"/>
            <a:ext cx="4073760" cy="2651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45120" y="5079960"/>
            <a:ext cx="4005360" cy="259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E58-729A-4F7A-992E-2E45D9C665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6120" y="2344680"/>
            <a:ext cx="3649680" cy="2652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256440" y="2344680"/>
            <a:ext cx="3649680" cy="2652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986120" y="5079960"/>
            <a:ext cx="3641400" cy="2652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264360" y="5092560"/>
            <a:ext cx="3641760" cy="26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1B8-77C3-4947-9960-ED616AB1DF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7040" y="140472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Evidence on deadweight effects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400" y="2862360"/>
            <a:ext cx="10271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the number of jobs created with the help of hirings subsidies compare to the number of subsidies disbur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e number of exits into subsidised and unsubsidised jobs – if the latter declines by as much as the first increases, crowding out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ing risks framework using differences of differences to the cumulative incidence functions of exit into subsidised and unsubsidise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results are unconditional on covar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AA8-FC99-4FED-A4A0-4F84210BC9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D of the Cumulative Incidence Function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79520" y="176832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96E-D1CB-4E20-8A2B-437AC1DC03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7400" y="2276640"/>
            <a:ext cx="1008072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wo questions should be distingu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 hiring subsidy programme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usall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ad to earlier exit from unemployment to employment in the group of eligible persons as compared to the situation in which no subsidies are avai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 subsidised hirings causally lead to more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unsubsidise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employment? Forslund et al. (2004), Sianesi (2003), and Hujer et al.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this paper, the focus is on the first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0800" y="113184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2F6-6F47-4D26-B4D7-792DACB179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D of the Cumulative Incidence Function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54120" y="176832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FF6-6331-4814-9FED-D15D2426B4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305400" y="5078520"/>
            <a:ext cx="3667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990800" y="507852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311880" y="2341440"/>
            <a:ext cx="3667320" cy="2667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990800" y="2341440"/>
            <a:ext cx="366696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BC4-4EED-42B2-A0C0-E39768AB92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13040" y="2341440"/>
            <a:ext cx="3666960" cy="2667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38800" y="2341440"/>
            <a:ext cx="3667320" cy="2667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913040" y="507852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238800" y="5078520"/>
            <a:ext cx="36673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A74-9D75-4848-8BA8-3507309619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44680" y="1895400"/>
            <a:ext cx="10343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used a natural experiment design to answer the question whether hiring subsidy programmes a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changes were compared: extension of eligibility for workers aged 50+ in 2002 and abolishment of preferential treatment for the same group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of three DiD estimators shows that employment effects for workers as a whole are insignificant and small compared to the number of subsidised hi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ing risks framework suggests that the EGZ is not very effective in the group of treated individuals and deadweight effects are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ever, for East German Women (in 2002) and Women in both parts of Germany (in 2004), some effects are significant and large relative to subsidised hiring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adweight effects much small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0440" y="105840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9D6-BCC7-444E-AECF-FA8B2BFB82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7400" y="2633760"/>
            <a:ext cx="1008072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c model with perfect competition on the labour market: hiring subsidy lowers net wages paid by the employer and increases demand for subsidise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ction depends on wage elasticit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lnL/ds 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, where L is subsidised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elasticity is low, deadweight effec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uslei and Steiner, 1999; Hujer and Caliendo, 2003; Meyer, 1995a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irically, wage elasticities differ between male/female and single/married and East/West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800" y="149220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Conditions for the effectiveness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of hiring subsid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374-E13D-4932-88B0-57210833B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7400" y="2847960"/>
            <a:ext cx="10514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ring subsidies may provide too low an incentive and / or may not be known among eligible firms and worker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mplementa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dition to deadweight effects, hiring subsidies may be ineffective due to substitution or a  displacement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nce our approach is based on individual-level data, we concentrate on deadweight effects. The particular interest in the deadweight effect is whether the programme is effective for the targete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1876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More reasons why hiring subsidies may fail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o affect the number of hiring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28B-0427-4099-AC57-33CE3C0F51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52680" y="1839960"/>
            <a:ext cx="76042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20000"/>
              </a:lnSpc>
              <a:tabLst>
                <a:tab algn="l" pos="0"/>
                <a:tab algn="l" pos="17460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tabLst>
                <a:tab algn="l" pos="0"/>
                <a:tab algn="l" pos="17460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400" y="2695680"/>
            <a:ext cx="98647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adweight effects involve a counterfactual that must be est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this paper we use changes to the eligibility rules as „natural“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 2002, the Integration Supplement for older workers was only available for hiring long-term unemployed worker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 Taking effect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nuary 1st, 2002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condition wa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king effect on January 1st, 2004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GZ subsidy for older workers was integrated into the framework of the general EGZ, so that workers aged 50+ lost preferenti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0760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ng deadweight effect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C72-0800-40A3-8DE2-22B4B5939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69880" y="2481120"/>
            <a:ext cx="1020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ajor instruments of German active labour marke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 basis: German Social Code (SGB), Volume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Z are paid to the employer as a percentage of standardised labour costs (maximum 50 per cent) for up to 24 months (other limits for workers with specific disadvant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employment relationship is terminated before a minimum period after the expiration of the subsidy, the employer is legally obliged to refund parts of the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legal claim to EGZ either by the worker or the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9184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escription of hiring subsidies (EGZ)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n Germany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DB5-0002-412D-A578-2A6A17BF48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23960" y="2359080"/>
            <a:ext cx="8642520" cy="5662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0440" y="1851120"/>
            <a:ext cx="863604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Employment contracts subsidised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by Integration Supplements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F45-DD19-4E61-A74F-F712A2336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6960" y="2336760"/>
            <a:ext cx="104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GZ is regarded as an important instrument by 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is substantial scope for decision-making concerning the allocation of the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majority of cases, an initial contact between a worker and an employer already ex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ill often be difficult for placement officers to decide whether the company would refrain from hiring without E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 study strongly confirms the notion that deadweight effects are a major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000" y="1275840"/>
            <a:ext cx="863748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mplementation of the programme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594-801D-4CEA-B292-2A5AEEBDD4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14:47:56Z</dcterms:created>
  <dc:creator>ZEW</dc:creator>
  <dc:description/>
  <dc:language>en-US</dc:language>
  <cp:lastModifiedBy>bbo</cp:lastModifiedBy>
  <cp:lastPrinted>2003-01-28T08:59:02Z</cp:lastPrinted>
  <dcterms:modified xsi:type="dcterms:W3CDTF">2006-10-16T17:45:32Z</dcterms:modified>
  <cp:revision>527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8514517</vt:r8>
  </property>
  <property fmtid="{D5CDD505-2E9C-101B-9397-08002B2CF9AE}" pid="3" name="_AuthorEmail">
    <vt:lpwstr>Ursula.Jaenichen@iab.de</vt:lpwstr>
  </property>
  <property fmtid="{D5CDD505-2E9C-101B-9397-08002B2CF9AE}" pid="4" name="_AuthorEmailDisplayName">
    <vt:lpwstr>Jaenichen Ursula</vt:lpwstr>
  </property>
  <property fmtid="{D5CDD505-2E9C-101B-9397-08002B2CF9AE}" pid="5" name="_EmailSubject">
    <vt:lpwstr>Folien</vt:lpwstr>
  </property>
  <property fmtid="{D5CDD505-2E9C-101B-9397-08002B2CF9AE}" pid="6" name="_PreviousAdHocReviewCycleID">
    <vt:r8>-1660711376</vt:r8>
  </property>
  <property fmtid="{D5CDD505-2E9C-101B-9397-08002B2CF9AE}" pid="7" name="_ReviewingToolsShownOnce">
    <vt:lpwstr/>
  </property>
</Properties>
</file>