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9.png" ContentType="image/png"/>
  <Override PartName="/ppt/media/image17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304-95B1-4DA5-BD6F-9F34820E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5E7-5217-466E-AE60-1F0C41D4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528-3D1F-4AA0-8E9F-7ED02002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886-52EF-4C81-8260-95A13C7B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D157-E966-4C33-AED0-80B2C0A5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517A-1AE9-40AB-925F-C3D3A71E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B720-DBAF-4FFA-98E3-DF1722A8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48FF-3A63-40B0-A330-4836154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328C-B829-4C72-A81D-01411CD1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C191-F0E7-41C7-843E-3F20595A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418D-0122-4C68-8276-69D05541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2C0-4379-4CA1-9E59-4C692D7B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2509-C3C7-4012-A042-9D61D893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56AC-C1E4-44E1-886B-41A317F2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80A1-E5F0-4A93-8CD5-4B8A9973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9F7F-1810-468B-BC11-45F9222D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7A5E-A626-41A3-8D71-688B2664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D32-7324-4E00-BF82-CDAB2688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CA0-698E-4ED6-8C0C-E17FE859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704-C2D3-45C4-9585-AFFD8E94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936-4508-4BCE-9514-9074CD41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9DC-05EB-4FDD-A136-3ED7B2D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1F6-C82C-407D-9E01-80A82A9D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5F8-5587-470F-8C2F-0AD53AD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69EC-01EF-4B29-9C7E-33897FD96C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D1E8-1205-400D-9C8A-C6DD7E370E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7724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loyment Effects of Short and Medium Term Further Training Programs in Germany in the Early 2000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87280" y="3897000"/>
            <a:ext cx="867744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rtin Biewen, University of Mainz, IZA, DI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rnd Fitzenberger, University of Frankfurt, ZEW, IZA, I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eronke Osikominu, University of Frankfu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rie Waller, University of Frankfurt, CDSEM, Z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ultiple Treatments (e.g. Lechner (2001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fferent Trea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ere: STT, CFT, PFT or „no treatmen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tential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verage Treatment Effect on the Trea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81600" y="2556000"/>
            <a:ext cx="2293920" cy="345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57680" y="3346560"/>
            <a:ext cx="2608200" cy="41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79760" y="4444920"/>
            <a:ext cx="44704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4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ynamic selection into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 may start at different points of time during unemployment sp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employed individuals who don‘t participate now may participat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tic approach implicitly conditions on future outcomes (Fredriksson/Johanson (200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eatment effect may vary with previous unemployment duration (Sianesi (2003, 2004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→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stinguish different starting poi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5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ggregation of potential starting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5950080"/>
            <a:ext cx="756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66880" y="610884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76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19280" y="287640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619280" y="323640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3597120"/>
            <a:ext cx="86508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3597120"/>
            <a:ext cx="86508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62120" y="27082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30672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1960" y="40752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4221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80000" y="352584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780000" y="388584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4246560"/>
            <a:ext cx="8650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4246560"/>
            <a:ext cx="865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2480" y="33577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371628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02320" y="4724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24360" y="4579920"/>
            <a:ext cx="396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24360" y="4435560"/>
            <a:ext cx="396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156360" y="417348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156360" y="453348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4894200"/>
            <a:ext cx="8650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4894200"/>
            <a:ext cx="865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9200" y="400536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436392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79040" y="537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91360" y="5259240"/>
            <a:ext cx="396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91360" y="5114880"/>
            <a:ext cx="396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4869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3573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2472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2304360" y="519300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4464720" y="519300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6623640" y="5193000"/>
            <a:ext cx="142920" cy="208728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6840" y="629928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43040" y="630864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66320" y="6308640"/>
            <a:ext cx="23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3357720"/>
            <a:ext cx="1296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4724280"/>
            <a:ext cx="1296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65360" y="3591000"/>
            <a:ext cx="8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2760" y="3405240"/>
            <a:ext cx="5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58960" y="3954600"/>
            <a:ext cx="3996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58960" y="3809880"/>
            <a:ext cx="3996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4280" y="4243320"/>
            <a:ext cx="8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21400" y="4068720"/>
            <a:ext cx="5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00640" y="4889520"/>
            <a:ext cx="8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78680" y="4714920"/>
            <a:ext cx="5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85720" y="2786040"/>
            <a:ext cx="30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Example: 4-6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754600" y="3044880"/>
            <a:ext cx="35568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pretation of treatment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eatment effect reflects decision problem of the case worker: participation now vs. participation later (waiting), or participation in program    vs. participation i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4720" y="2779560"/>
            <a:ext cx="7974000" cy="41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22440" y="3381480"/>
            <a:ext cx="8237520" cy="412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797960" y="4932360"/>
            <a:ext cx="164880" cy="247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318280" y="5307120"/>
            <a:ext cx="824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7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pensity-score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an experimental sense, individuals are com-parable if they had the same propensity to par-ticipate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mong all        -individuals, estimate propensity  to participate in program    vs. i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stimate the counterfactual employment outcome of participants in    if they instead had participated  in    by a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ocal linear kernel regress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the propensity score and the calendar month of the beginning of the unemployment sp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397320" y="3711600"/>
            <a:ext cx="701640" cy="320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64080" y="4106880"/>
            <a:ext cx="154080" cy="231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767720" y="4097160"/>
            <a:ext cx="82440" cy="247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361040" y="4911840"/>
            <a:ext cx="153720" cy="231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392200" y="5256360"/>
            <a:ext cx="8280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8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stimated treatment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41440" y="2746440"/>
            <a:ext cx="8370720" cy="1204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5400000">
            <a:off x="6157800" y="1974600"/>
            <a:ext cx="261720" cy="4646880"/>
          </a:xfrm>
          <a:custGeom>
            <a:avLst/>
            <a:gdLst>
              <a:gd name="textAreaLeft" fmla="*/ 0 w 261720"/>
              <a:gd name="textAreaRight" fmla="*/ 94320 w 261720"/>
              <a:gd name="textAreaTop" fmla="*/ 120960 h 4646880"/>
              <a:gd name="textAreaBottom" fmla="*/ 4525920 h 464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68600" y="454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7920" y="4618080"/>
            <a:ext cx="498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ounterfactual employment outcome of the participan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given by weighted average of the employment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f the control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66280" y="4489560"/>
            <a:ext cx="180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ctual 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utcome of a parti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ular particip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94080" y="3679920"/>
            <a:ext cx="49680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9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ross-validated bandwidth choic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Bergemann et al. (2004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4425480" y="277560"/>
            <a:ext cx="272880" cy="8487000"/>
          </a:xfrm>
          <a:custGeom>
            <a:avLst/>
            <a:gdLst>
              <a:gd name="textAreaLeft" fmla="*/ 0 w 272880"/>
              <a:gd name="textAreaRight" fmla="*/ 98640 w 272880"/>
              <a:gd name="textAreaTop" fmla="*/ 221040 h 8487000"/>
              <a:gd name="textAreaBottom" fmla="*/ 8265960 h 848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6840" y="4884840"/>
            <a:ext cx="886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hoose bandwidth so that the employment outcome of a particular member of the control group is 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icted as good as possible by the employment outcomes of the other members of the control grou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6480" y="5618160"/>
            <a:ext cx="893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ere, the particular member of the control group stands for a particular member of the treatmen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hose employment status is to be predicted as good as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3520" y="2935440"/>
            <a:ext cx="87249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0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terminants of the propensity 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dividual characteristics: age, qualifications, marital status, nationality, health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haracteristics of the last job: occupation, industry, wag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bor market and transfer receipt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Assessments of case work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lack of motivation, lack of cooperation, penalties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ional information: regional unemployment rate, federal stat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alidity of Cond. Independence As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ich set of covariates, typically 20 to 35 statis-tically significant regressors in propensity 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en information on typically unobserved f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urther unobserved factors proxied by labor and transfer receipt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ssignment to programs contains strong random element due to local availability of cour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e-Program Test“/Balancing-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urther details of estimation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mith/Todd (2005)-Balancing-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nsive specification searches for each PS (program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ast/Wes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en/wom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tr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raphical check of common support as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ully bootstrapped standard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74640" y="3025800"/>
            <a:ext cx="70167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aining programs still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major part of active labor market programs in German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e.g. expenditures 2000: 6,793 bill. EUR, 2004: 3,616 bill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aditionally, focus on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ong, expensive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cently,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hift towards cheaper short-term training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what extend have programs positive effec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what extend can cheaper short-term programs substitute the traditional long-term progra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1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hort Term Training (ST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44600" y="1822320"/>
            <a:ext cx="8450280" cy="2023920"/>
            <a:chOff x="444600" y="1822320"/>
            <a:chExt cx="8450280" cy="202392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444600" y="1822320"/>
              <a:ext cx="2757240" cy="20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284640" y="1822320"/>
              <a:ext cx="2781000" cy="20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6127560" y="182232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444600" y="4341960"/>
            <a:ext cx="8450280" cy="2012760"/>
            <a:chOff x="444600" y="4341960"/>
            <a:chExt cx="8450280" cy="201276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444600" y="4341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3284640" y="4341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6127560" y="434196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6840" y="2173320"/>
            <a:ext cx="1581120" cy="101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21680" y="2001960"/>
            <a:ext cx="1581120" cy="101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59320" y="4579920"/>
            <a:ext cx="1720800" cy="1214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86760" y="4610160"/>
            <a:ext cx="1720800" cy="1160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2655720"/>
            <a:ext cx="2011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27640" y="2298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19840" y="2522520"/>
            <a:ext cx="2075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56440" y="2165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51440" y="5191200"/>
            <a:ext cx="21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76960" y="4844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9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97520" y="5187960"/>
            <a:ext cx="2205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28520" y="481176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2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lassroom Further Training (C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4600" y="1820880"/>
            <a:ext cx="8450280" cy="2016000"/>
            <a:chOff x="444600" y="1820880"/>
            <a:chExt cx="8450280" cy="201600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444600" y="182088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3284640" y="182088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6127560" y="1823760"/>
              <a:ext cx="276732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444600" y="4373640"/>
            <a:ext cx="8450280" cy="2012760"/>
            <a:chOff x="444600" y="4373640"/>
            <a:chExt cx="8450280" cy="2012760"/>
          </a:xfrm>
        </p:grpSpPr>
        <p:pic>
          <p:nvPicPr>
            <p:cNvPr id="286" name="" descr=""/>
            <p:cNvPicPr/>
            <p:nvPr/>
          </p:nvPicPr>
          <p:blipFill>
            <a:blip r:embed="rId4"/>
            <a:stretch/>
          </p:blipFill>
          <p:spPr>
            <a:xfrm>
              <a:off x="444600" y="437364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5"/>
            <a:stretch/>
          </p:blipFill>
          <p:spPr>
            <a:xfrm>
              <a:off x="3284640" y="437364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6"/>
            <a:stretch/>
          </p:blipFill>
          <p:spPr>
            <a:xfrm>
              <a:off x="6127560" y="437364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1549440" y="2106720"/>
            <a:ext cx="828720" cy="1377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40280" y="31813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Tahoma"/>
              </a:rPr>
              <a:t>Lock-in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4560" y="2227320"/>
            <a:ext cx="1096920" cy="655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07160" y="2549520"/>
            <a:ext cx="1365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44000" y="22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90680" y="4603680"/>
            <a:ext cx="947880" cy="4748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9560" y="4836960"/>
            <a:ext cx="136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16040" y="4554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4680000"/>
            <a:ext cx="365400" cy="977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21400" y="5160960"/>
            <a:ext cx="136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66280" y="483408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6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59720" y="4527720"/>
            <a:ext cx="365040" cy="977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0" y="5008680"/>
            <a:ext cx="1365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1640" y="468144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3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actical Further Training (P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23840" y="2522520"/>
            <a:ext cx="3527640" cy="256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072040" y="2523960"/>
            <a:ext cx="3522600" cy="2562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69160" y="360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03680" y="35640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44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382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47080" y="2803680"/>
            <a:ext cx="1452240" cy="100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48480" y="3317760"/>
            <a:ext cx="1946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4680" y="294012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4): Ea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hort Term Training (ST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34880" y="1812960"/>
            <a:ext cx="8450280" cy="2012760"/>
            <a:chOff x="434880" y="1812960"/>
            <a:chExt cx="8450280" cy="201276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434880" y="1812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3274920" y="1812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"/>
            <a:stretch/>
          </p:blipFill>
          <p:spPr>
            <a:xfrm>
              <a:off x="6117840" y="181296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434880" y="4330800"/>
            <a:ext cx="8450280" cy="2012760"/>
            <a:chOff x="434880" y="4330800"/>
            <a:chExt cx="8450280" cy="2012760"/>
          </a:xfrm>
        </p:grpSpPr>
        <p:pic>
          <p:nvPicPr>
            <p:cNvPr id="324" name="" descr=""/>
            <p:cNvPicPr/>
            <p:nvPr/>
          </p:nvPicPr>
          <p:blipFill>
            <a:blip r:embed="rId4"/>
            <a:stretch/>
          </p:blipFill>
          <p:spPr>
            <a:xfrm>
              <a:off x="434880" y="433080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3274920" y="433080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6"/>
            <a:stretch/>
          </p:blipFill>
          <p:spPr>
            <a:xfrm>
              <a:off x="6117840" y="433080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7853400" y="2270160"/>
            <a:ext cx="1096920" cy="77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2666880"/>
            <a:ext cx="136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32840" y="2330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5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lassroom Further Training (C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46040" y="1814400"/>
            <a:ext cx="8450280" cy="2013120"/>
            <a:chOff x="446040" y="1814400"/>
            <a:chExt cx="8450280" cy="2013120"/>
          </a:xfrm>
        </p:grpSpPr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446040" y="181440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3286080" y="181440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6129000" y="1814400"/>
              <a:ext cx="276732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446040" y="4332240"/>
            <a:ext cx="8450280" cy="2013120"/>
            <a:chOff x="446040" y="4332240"/>
            <a:chExt cx="8450280" cy="2013120"/>
          </a:xfrm>
        </p:grpSpPr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446040" y="433224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3286080" y="433224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29000" y="4332240"/>
              <a:ext cx="2767320" cy="201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"/>
          <p:cNvSpPr/>
          <p:nvPr/>
        </p:nvSpPr>
        <p:spPr>
          <a:xfrm>
            <a:off x="2271600" y="2023920"/>
            <a:ext cx="965160" cy="679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65160" y="2374920"/>
            <a:ext cx="1365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29000" y="20289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9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6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actical Further Training (P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569160" y="360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03680" y="35640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035000" y="2523960"/>
            <a:ext cx="3519360" cy="2559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068800" y="2525760"/>
            <a:ext cx="3519720" cy="2558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173400" y="2905200"/>
            <a:ext cx="1441440" cy="806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74960" y="3301920"/>
            <a:ext cx="1730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76480" y="2965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44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382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st Germany: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oth STT and CFT/PF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hav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zable positive employment effec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5-1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employmen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ffects of STT are in many cases comparabl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those of the longer CFT/P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s for women generally larger than for 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s larger for the long-term unempl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FT effective for West German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most no positive effects in East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o d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1) cross-evaluate programs, 2) incorporate new data, 3) evaluate 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Litera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lder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übler (1998), Lechner (1999), Hujer/Wellner (2000), Fitzenberger/Prey (2000), u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rvey data: SOEP, Arbeitsmarktmonitor 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ore recent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) Lechner et al. (2005a,b), Fitzenberger/Speck-esser (2005), Fitzenberger et al. (200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) Lechner/Wunsch (2006), Schneider et al (200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ministrative data from 1) 80s/90s 2) 2000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tribution of our stud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w, informative dat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ake possible, for the first time, serious evaluations of recent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se of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p-to-date econometric method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at address possibility of multiple treatments and dynamic selection into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w evidenc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effectiveness and comparative effectiveness of short and medium-term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ogram typ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hort-Term Training (ST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– 12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.g. computer course, applicatio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urther Training (CFT, P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veral months to on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room Training (CFT), Practical Training (P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.g. accounting training in practice fi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training (R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to 3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ads to formal professional degre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ata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grated Employment Biographies (IEB 2.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ministrativ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,2% random sample drawn from 4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mployment History (BeH), 01/90-12/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efit Recipient Hist. (LeH), 01/90-06/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pply of Applicants (BewA), 01/00-07/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 Participation (MTG), 01/00-07/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,4 million individuals, 17 million sp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alidation of data set was part of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ata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80920" y="5753160"/>
            <a:ext cx="756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7280" y="288756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0320" y="3519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L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36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3840" y="4168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6360" y="4840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20880" y="59119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86000" y="308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0360" y="30160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1640" y="37368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26000" y="36655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36640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94000" y="43848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0360" y="431316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94000" y="4311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86000" y="30160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8680" y="27367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emplo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98240" y="337644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unempl.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38120" y="40165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sear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1640" y="438480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81640" y="4311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1640" y="4311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76320" y="401472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registered as unemplo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7280" y="37368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81640" y="36655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97280" y="36640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33280" y="3376440"/>
            <a:ext cx="15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unempl. 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86360" y="50324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96080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86360" y="4959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45760" y="4680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54720" y="37368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39080" y="36655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54720" y="36640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9320" y="3367080"/>
            <a:ext cx="17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subsistence allow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54720" y="503244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39080" y="496080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54720" y="4959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0360" y="46720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valuation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 of program is difference of actual employ-ment outcome and employment outcome in case of counterfactual non-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blem: only one outcome observ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ssible solution: use outcomes of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mpar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control group of non-particip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85340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ho is a potential particip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flow-sample in non-employment conditioning on previous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de definition of un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void problem of endogenous un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ur inflow-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flow in non-employment 02/2000 - 01/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t least 3 months of previous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5-53 years old at beginning of non-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8:41:10Z</dcterms:created>
  <dc:creator>Martin Biewen</dc:creator>
  <dc:description/>
  <dc:language>en-US</dc:language>
  <cp:lastModifiedBy>Martin Biewen</cp:lastModifiedBy>
  <dcterms:modified xsi:type="dcterms:W3CDTF">2006-10-26T17:44:54Z</dcterms:modified>
  <cp:revision>68</cp:revision>
  <dc:subject/>
  <dc:title>B</dc:title>
</cp:coreProperties>
</file>