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A95E-5CAC-44AE-83B2-3B076679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ation: 5% higher prob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control for other characteristics of female evaluato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ssive literature has found evidence of a glass-ceiling: women are under-represented in the top ranks. This result is usually robust to the control of large set of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network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resse and Turner look at a panel of 1986-1997 French researchers’ publications and find women publish on average 0.9 papers 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is not so simple. Taste discrimination is not the whol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 on Lavy: Professors involved do not bel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7AB-2F20-4740-9665-9F894913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A53-D892-4A15-AD71-53C00FF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13D-07B3-4654-92CC-B77FD188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B81-C70E-4C23-88B2-56A16EC7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531-F2CD-4770-B1E1-D933A207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066-DFB8-494A-878B-0E119257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715-72C7-4E1C-8353-29C32BD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C23-404A-416D-99DD-F95E7C9B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238-74E5-4FD4-9EA5-E2A54B7D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665-2E20-44D3-92A0-2C98F8F6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76D-6F0A-4AC3-9360-1BE020E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F69-3EEE-432B-8319-B7E3A6D0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B132-D264-4E72-BFDB-5EF1C0F2E32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Gender Parity Break the Glass Ceiling? Evidence from a Randomized Experiment</a:t>
            </a:r>
            <a:br>
              <a:rPr sz="4000"/>
            </a:b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el F. Bagüés &amp; Berta Esteve-Vol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niversidad Carlos 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York Univer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: what do we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evalu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, age, age of entry,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successful candidates for all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, age, age of entry,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all candidates for 2003 and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know the individual vote of each committee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0736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120" y="831960"/>
            <a:ext cx="8212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9720" y="395280"/>
            <a:ext cx="84027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ommittee-level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utcome variabl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emale share in committe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mmitte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19280" y="2637000"/>
                <a:ext cx="5977080" cy="77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6120" y="439560"/>
            <a:ext cx="6251760" cy="59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94000" y="369720"/>
            <a:ext cx="615600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evaluators are tougher with female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 evaluators are more generous with female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on-linear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andidate-level information for years 2003 and 2004 (multiple choice te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der parity or gender quotas imposed or considered in man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ance: electoral party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rway: public enterprises’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pain: cabinet, considering all public sector recruitment committees (legislation project approved by Government in March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revious evidence of gender quota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e use data on public exams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611280"/>
            <a:ext cx="81374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male candidate’s chances to pass the public exam are 5.5% greater if evaluated  by a committee with fewer women than the median committee, than if evaluated by a committee with more women that the media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tivation of the evalua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s have ‘irrational tast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s behave according to rational choice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hink women are worse (lack of confid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men in committees discriminated in the past, men in committees now are more generous with female candidates (past discri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ant to increase their group’s average quality (statistical discri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ver time of the observed gend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 since the first committee with a female m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efor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women in top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: women occupy at least 30% parliamentary seats in 12 out of 17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s of large private companies: women are 2% in Spain, 3% in Italy, 4%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: from equal opportunities to gender p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ilure of the pipelin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omen hire mo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model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top positions can choose policy more adequate for wo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ector: flexible working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: public expenditure more useful to women (Duflo and Chattopadhyay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individual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: evidence of wage gap (Blau &amp; Kahn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: Bertrand &amp; Hallock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: CSIC (2003), Veugelers (2006), Long (1993), Mairesse &amp; Turner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firm productivity (Wolfers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 Evaluation vs Non-Bli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(1990), Goldin &amp; Rouse (2000), Lavy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xperiments (Gneezy et al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data from public examin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etermine the access to public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diciary, diplomacy, notaries, economists, tax inspectors, and many ot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year 175,000 young university graduates take public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number of candidates pass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te formation: many political figures had to pass public exam (e.g. Az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ublic 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committee examines 500 candi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allocation of candidates to evaluating committ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three stages, all qual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by majorit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hoice test introduced in 2003 for some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sults are published in the state official bulletin (BO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amine public exams to the judiciary, years 1995-2004 (new data: 1985-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exams: judge, prosecutor, court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,000 candidat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,700 judges, prosecutors and court secretaries recru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6:45:45Z</dcterms:created>
  <dc:creator>Manuel Bagues</dc:creator>
  <dc:description/>
  <dc:language>en-US</dc:language>
  <cp:lastModifiedBy>Lolín</cp:lastModifiedBy>
  <dcterms:modified xsi:type="dcterms:W3CDTF">2006-10-26T23:16:16Z</dcterms:modified>
  <cp:revision>10</cp:revision>
  <dc:subject/>
  <dc:title>Will gender parity break the glass ceiling?</dc:title>
</cp:coreProperties>
</file>