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B65A-15E5-4186-99E0-5BF830B1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ation: 5% higher prob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control for other characteristics of female evaluato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ssive literature has found evidence of a glass-ceiling: women are under-represented in the top ranks. This result is usually robust to the control of large set of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networks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resse and Turner look at a panel of 1986-1997 French researchers’ publications and find women publish on average 0.9 papers 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is not so simple. Taste discrimination is not the whol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 on Lavy: Professors involved do not bel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537-E617-4205-80B3-02744AD7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BFE-2CDF-4631-B9BF-38194847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0B9-1CBB-456C-AA72-D49EAA20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28F-007B-4743-AFFD-1157EBFD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469-7D29-4DEF-9143-6724499E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4E5-90B4-4270-9DA8-C2674054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E4A-F5B7-4F10-A427-91BECEB3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705-1E12-474A-9135-B525BAD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E1E-E97C-4233-8593-88399495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A99-EC2D-4FB1-858F-CC44017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EBC-BBF4-42D8-8996-BAFEA8E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8DB-373C-4757-9717-135F4D2E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4CB0-54C9-46A0-9C34-2A4DAA4D0A9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Gender Parity Break the Glass Ceiling? Evidence from a Randomized Experiment</a:t>
            </a:r>
            <a:br>
              <a:rPr sz="4000"/>
            </a:b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el F. Bagüés &amp; Berta Esteve-Vol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niversidad Carlos II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York Univer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: what do we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evalu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, age, age of entry,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successful candidates for all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der, age, age of entry,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all candidates for 2003 and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know the individual vote of each committee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0736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5120" y="831960"/>
            <a:ext cx="82123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9720" y="395280"/>
            <a:ext cx="84027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ommittee-level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utcome variabl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emale share in committe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mmitte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19280" y="2637000"/>
                <a:ext cx="5977080" cy="77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6120" y="439560"/>
            <a:ext cx="6251760" cy="59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94000" y="369720"/>
            <a:ext cx="615600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evaluators are tougher with female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 evaluators are more generous with female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on-linear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Candidate-level information for years 2003 and 2004 (multiple choice tes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der parity or gender quotas imposed or considered in man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ance: electoral party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rway: public enterprises’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pain: cabinet, considering all public sector recruitment committees (legislation project approved by Government in March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previous evidence of gender quota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e use data on public exams i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611280"/>
            <a:ext cx="81374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male candidate’s chances to pass the public exam are 5.5% greater if evaluated  by a committee with fewer women than the median committee, than if evaluated by a committee with more women that the media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tivation of the evalua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ors have ‘irrational tast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ors behave according to rational choice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hink women are worse (lack of confide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men in committees discriminated in the past, men in committees now are more generous with female candidates (past discri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ant to increase their group’s average quality (statistical discrim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ver time of the observed gend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 since the first committee with a female m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efor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women in top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: women occupy at least 30% parliamentary seats in 12 out of 179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s of large private companies: women are 2% in Spain, 3% in Italy, 4%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: from equal opportunities to gender p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ilure of the pipelin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omen hire mor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model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in top positions can choose policy more adequate for wo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sector: flexible working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: public expenditure more useful to women (Duflo and Chattopadhyay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individual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: evidence of wage gap (Blau &amp; Kahn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: Bertrand &amp; Hallock 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: CSIC (2003), Veugelers (2006), Long (1993), Mairesse &amp; Turner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firm productivity (Wolfers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d Evaluation vs Non-Bli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(1990), Goldin &amp; Rouse (2000), Lavy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xperiments (Gneezy et al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data from public examin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etermine the access to public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diciary, diplomacy, notaries, economists, tax inspectors, and many ot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year 175,000 young university graduates take public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number of candidates pass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te formation: many political figures had to pass public exam (e.g. Azn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public 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committee examines 500 candid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 allocation of candidates to evaluating committ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three stages, all qual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ing by majorit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hoice test introduced in 2003 for some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sults are published in the state official bulletin (BO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amine public exams to the judiciary, years 1995-2004 (new data: 1985-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exams: judge, prosecutor, court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,000 candidat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1,700 judges, prosecutors and court secretaries recru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6:45:45Z</dcterms:created>
  <dc:creator>Manuel Bagues</dc:creator>
  <dc:description/>
  <dc:language>en-US</dc:language>
  <cp:lastModifiedBy>Lolín</cp:lastModifiedBy>
  <dcterms:modified xsi:type="dcterms:W3CDTF">2006-10-26T23:16:16Z</dcterms:modified>
  <cp:revision>10</cp:revision>
  <dc:subject/>
  <dc:title>Will gender parity break the glass ceiling?</dc:title>
</cp:coreProperties>
</file>