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5D97-9F89-4068-AB85-35EE407D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ation: 5% higher prob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control for other characteristics of female evaluato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ssive literature has found evidence of a glass-ceiling: women are under-represented in the top ranks. This result is usually robust to the control of large set of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network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resse and Turner look at a panel of 1986-1997 French researchers’ publications and find women publish on average 0.9 papers 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is not so simple. Taste discrimination is not the whol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 on Lavy: Professors involved do not bel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79D-1118-42F4-8D14-41CB3392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D2A-59C2-411E-8814-38E616CD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52F-AD01-41FE-96EF-106862F2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261-55ED-42C3-93BA-7E1122C9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13B-2E62-406D-95B3-1035CDB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85C-2B09-46A6-9A81-92709B0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43A-CC2E-4434-805E-0FA0A820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02A-AE88-49FA-BE57-1537BFB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48B-848C-4E21-B7B1-EB55153B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192-325B-4357-BB3A-4CF69A8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611-DEAB-4E0F-9033-21B93AD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7EE-D4C5-48F2-A82E-B20D390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40A3-17C7-4480-A0C0-F0372B46D44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Gender Parity Break the Glass Ceiling? Evidence from a Randomized Experiment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el F. Bagüés &amp; Berta Esteve-Vol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iversidad Carlos 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rk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: what do we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evalu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, age, age of entry,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successful candidates for all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, age, age of entry,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all candidates for 2003 and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know the individual vote of each committee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073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120" y="831960"/>
            <a:ext cx="8212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9720" y="395280"/>
            <a:ext cx="84027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mmittee-level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come variab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emale share in committe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mmitte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19280" y="2637000"/>
                <a:ext cx="597708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6120" y="439560"/>
            <a:ext cx="6251760" cy="59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94000" y="369720"/>
            <a:ext cx="615600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evaluators are tougher with female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evaluators are more generous with female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linear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andidate-level information for years 2003 and 2004 (multiple choice te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der parity or gender quotas imposed or considered in man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ance: electoral party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way: public enterprises’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pain: cabinet, considering all public sector recruitment committees (legislation project approved by Government in March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revious evidence of gender quota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use data on public exams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611280"/>
            <a:ext cx="81374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male candidate’s chances to pass the public exam are 5.5% greater if evaluated  by a committee with fewer women than the median committee, than if evaluated by a committee with more women that the media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tivation of the evalua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s have ‘irrational tast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s behave according to rational choice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hink women are worse (lack of confid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men in committees discriminated in the past, men in committees now are more generous with female candidates (past discri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ant to increase their group’s average quality (statistical discri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ver time of the observed gend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since the first committee with a female m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efor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women in top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: women occupy at least 30% parliamentary seats in 12 out of 17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s of large private companies: women are 2% in Spain, 3% in Italy, 4%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: from equal opportunities to gender 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lure of the pipelin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omen hire mo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mode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top positions can choose policy more adequate for wo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: flexible work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: public expenditure more useful to women (Duflo and Chattopadhyay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individual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: evidence of wage gap (Blau &amp; Kahn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: Bertrand &amp; Hallock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: CSIC (2003), Veugelers (2006), Long (1993), Mairesse &amp; Turner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firm productivity (Wolfers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Evaluation vs Non-Bli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(1990), Goldin &amp; Rouse (2000), Lavy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xperiments (Gneezy et a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data from public examin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etermine the access to public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diciary, diplomacy, notaries, economists, tax inspectors, and many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175,000 young university graduates take public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number of candidates pass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te formation: many political figures had to pass public exam (e.g. Az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ublic 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committee examines 500 candi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allocation of candidates to evaluating commit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three stages, all qual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by majorit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hoice test introduced in 2003 for some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sults are published in the state official bulletin (BO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amine public exams to the judiciary, years 1995-2004 (new data: 1985-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exams: judge, prosecutor, court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,000 candidat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,700 judges, prosecutors and court secretaries recru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6:45:45Z</dcterms:created>
  <dc:creator>Manuel Bagues</dc:creator>
  <dc:description/>
  <dc:language>en-US</dc:language>
  <cp:lastModifiedBy>Lolín</cp:lastModifiedBy>
  <dcterms:modified xsi:type="dcterms:W3CDTF">2006-10-26T23:16:16Z</dcterms:modified>
  <cp:revision>10</cp:revision>
  <dc:subject/>
  <dc:title>Will gender parity break the glass ceiling?</dc:title>
</cp:coreProperties>
</file>