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8A2-2994-43F4-935D-F5D55D5E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81D-A699-44E6-A77C-35977AD6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351-4567-4B93-B565-F8E59145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052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777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052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B0E-309C-49DE-A8B9-3C120E5E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3C00-694D-4776-9A7A-F1020C85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D248-2F2B-4AD5-95A3-727AC64C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4F20-C125-4939-A6B8-5480D3E7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A1B3-D453-4B3E-ACC5-512E0C55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9C55-8959-4095-84D7-FD9E02E2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77400" y="1142640"/>
            <a:ext cx="8185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8C23-9224-4136-A731-DE0145BF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C784-6034-41FD-968C-1F591F08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EF7-E9A7-4763-B305-B920C9CE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E402-4AEC-4E19-98C0-5C69C2FA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B21B-E9AC-49FA-90CB-C429CD7E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8650-52DC-4184-8FCC-EA3456AA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4491-CEF8-42F2-ADCB-733B0685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389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0052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777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389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0052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6742-560D-4093-9DE7-6C4D7F5F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5BE-E553-46DB-93B4-73403312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A7F-58D4-4C04-84EF-921013AE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B1B-693D-4682-A511-B6F38ABC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77400" y="1142640"/>
            <a:ext cx="8185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170-C609-4C54-8AD0-21AA0CEC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84B-7F3A-4C32-95F9-767D066D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86B-9D4B-42FA-83EE-9235D2AD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777-23C7-4840-9873-21BA2A0B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ge60" descr=""/>
          <p:cNvPicPr/>
          <p:nvPr/>
        </p:nvPicPr>
        <p:blipFill>
          <a:blip r:embed="rId2"/>
          <a:srcRect l="0" t="0" r="10770" b="6959"/>
          <a:stretch/>
        </p:blipFill>
        <p:spPr>
          <a:xfrm>
            <a:off x="7577280" y="4035600"/>
            <a:ext cx="2328840" cy="282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425680" y="177840"/>
            <a:ext cx="1028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102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71E3-0035-4544-91FD-3C94FBABE8EA}" type="datetime">
              <a:rPr b="0" lang="sv-SE" sz="1400" spc="-1" strike="noStrike">
                <a:solidFill>
                  <a:srgbClr val="000000"/>
                </a:solidFill>
                <a:latin typeface="Arial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10200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8840" y="6102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D09F-2B83-4449-B88D-A784DC38FE2F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26960" y="609480"/>
            <a:ext cx="9066240" cy="5867640"/>
          </a:xfrm>
          <a:prstGeom prst="rect">
            <a:avLst/>
          </a:prstGeom>
          <a:noFill/>
          <a:ln w="12600">
            <a:solidFill>
              <a:srgbClr val="639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0" r="-3349" b="0"/>
          <a:stretch/>
        </p:blipFill>
        <p:spPr>
          <a:xfrm>
            <a:off x="263520" y="184320"/>
            <a:ext cx="3000240" cy="80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age60" descr=""/>
          <p:cNvPicPr/>
          <p:nvPr/>
        </p:nvPicPr>
        <p:blipFill>
          <a:blip r:embed="rId2"/>
          <a:srcRect l="0" t="0" r="10770" b="6959"/>
          <a:stretch/>
        </p:blipFill>
        <p:spPr>
          <a:xfrm>
            <a:off x="7577280" y="4035600"/>
            <a:ext cx="2328840" cy="282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25680" y="177840"/>
            <a:ext cx="1028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95360" y="6102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F947-BBDA-486E-96FF-BC0FF774C545}" type="datetime">
              <a:rPr b="0" lang="sv-SE" sz="1400" spc="-1" strike="noStrike">
                <a:solidFill>
                  <a:srgbClr val="000000"/>
                </a:solidFill>
                <a:latin typeface="Arial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384360" y="610200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98840" y="6102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54AA-1B17-40D8-BAA1-A80903A6BFCE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960" y="609480"/>
            <a:ext cx="9066240" cy="5867640"/>
          </a:xfrm>
          <a:prstGeom prst="rect">
            <a:avLst/>
          </a:prstGeom>
          <a:noFill/>
          <a:ln w="12600">
            <a:solidFill>
              <a:srgbClr val="639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-3349" b="0"/>
          <a:stretch/>
        </p:blipFill>
        <p:spPr>
          <a:xfrm>
            <a:off x="263520" y="184320"/>
            <a:ext cx="3000240" cy="80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3040" y="2130480"/>
            <a:ext cx="843264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Virtues of SIN</a:t>
            </a:r>
            <a:br>
              <a:rPr sz="2600"/>
            </a:b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– Effects of an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mmigrant workplace</a:t>
            </a: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 introduction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85720" y="362916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Olof Åslund and Per Johan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407B-32AF-4F31-AE57-CCCE92A46A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When did the participants come to Swe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3800" y="1765440"/>
            <a:ext cx="60386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FA5-8DC6-444F-96BF-0DA3791DE5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SIN participants vs other unemploy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47760" y="1954080"/>
          <a:ext cx="7535880" cy="3900600"/>
        </p:xfrm>
        <a:graphic>
          <a:graphicData uri="http://schemas.openxmlformats.org/drawingml/2006/table">
            <a:tbl>
              <a:tblPr/>
              <a:tblGrid>
                <a:gridCol w="4248000"/>
                <a:gridCol w="1643400"/>
                <a:gridCol w="1644480"/>
              </a:tblGrid>
              <a:tr h="70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 educatio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 educatio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tiary education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d as not eligible for benefit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time in open un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time in L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oyment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earnings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790-0B36-4ED2-96D5-0E0345B40D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Status 3 days before 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85960" y="2120760"/>
          <a:ext cx="8005680" cy="3746520"/>
        </p:xfrm>
        <a:graphic>
          <a:graphicData uri="http://schemas.openxmlformats.org/drawingml/2006/table">
            <a:tbl>
              <a:tblPr/>
              <a:tblGrid>
                <a:gridCol w="2668320"/>
                <a:gridCol w="2668680"/>
                <a:gridCol w="2668680"/>
              </a:tblGrid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mplo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o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. emplo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030-D2B1-4D41-8295-3D37045CDD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On the day of SIN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40120" y="2900520"/>
            <a:ext cx="5757840" cy="7426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9120" y="4259160"/>
            <a:ext cx="5757840" cy="7430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35160" y="5137200"/>
            <a:ext cx="5757840" cy="7430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43000" y="1855800"/>
          <a:ext cx="7542000" cy="3819600"/>
        </p:xfrm>
        <a:graphic>
          <a:graphicData uri="http://schemas.openxmlformats.org/drawingml/2006/table">
            <a:tbl>
              <a:tblPr/>
              <a:tblGrid>
                <a:gridCol w="1807920"/>
                <a:gridCol w="1148040"/>
                <a:gridCol w="1146240"/>
                <a:gridCol w="1145880"/>
                <a:gridCol w="1148040"/>
                <a:gridCol w="11458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ays bef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 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 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 of e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mploy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oy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. em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k 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150-82CD-4349-94AC-BFA1114027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Implications for the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ompare participants to non-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 start and end dates ”soft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ong selection on unobserved characteris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”reduced form” analysis at the municip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” = registered in SIN location in SIN peri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D type of estimator: before-after in treatment and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37E-DF3A-4199-94E2-74D2B9250A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Is a DD setup appropri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7760" y="5740560"/>
            <a:ext cx="81662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 ”imaginary reform” in Septem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Probability of being in work 360 days after unemployment entry, by location and 180-day period of entry."/>
          <p:cNvPicPr/>
          <p:nvPr/>
        </p:nvPicPr>
        <p:blipFill>
          <a:blip r:embed="rId1"/>
          <a:stretch/>
        </p:blipFill>
        <p:spPr>
          <a:xfrm>
            <a:off x="2133720" y="1689120"/>
            <a:ext cx="5394240" cy="395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606-4A3C-4C5D-A602-D540506406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Potential effects of 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70400" y="2329200"/>
            <a:ext cx="6089760" cy="3043800"/>
            <a:chOff x="1670400" y="2329200"/>
            <a:chExt cx="6089760" cy="3043800"/>
          </a:xfrm>
        </p:grpSpPr>
        <p:sp>
          <p:nvSpPr>
            <p:cNvPr id="126" name=""/>
            <p:cNvSpPr/>
            <p:nvPr/>
          </p:nvSpPr>
          <p:spPr>
            <a:xfrm>
              <a:off x="6047640" y="2329200"/>
              <a:ext cx="171252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loy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70400" y="2329200"/>
              <a:ext cx="190296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employ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54240" y="4801320"/>
              <a:ext cx="19029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54240" y="4041720"/>
              <a:ext cx="190296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l. subsi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54240" y="3280680"/>
              <a:ext cx="1902960" cy="57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exp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1880" y="3090240"/>
              <a:ext cx="114192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1880" y="3090240"/>
              <a:ext cx="114192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21880" y="3090240"/>
              <a:ext cx="1141920" cy="19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7560" y="2990880"/>
              <a:ext cx="838440" cy="669960"/>
            </a:xfrm>
            <a:custGeom>
              <a:avLst/>
              <a:gdLst/>
              <a:ahLst/>
              <a:rect l="l" t="t" r="r" b="b"/>
              <a:pathLst>
                <a:path w="793" h="634">
                  <a:moveTo>
                    <a:pt x="0" y="634"/>
                  </a:moveTo>
                  <a:lnTo>
                    <a:pt x="79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57560" y="3014280"/>
              <a:ext cx="1028520" cy="1217520"/>
            </a:xfrm>
            <a:custGeom>
              <a:avLst/>
              <a:gdLst/>
              <a:ahLst/>
              <a:rect l="l" t="t" r="r" b="b"/>
              <a:pathLst>
                <a:path w="973" h="1152">
                  <a:moveTo>
                    <a:pt x="0" y="1152"/>
                  </a:moveTo>
                  <a:lnTo>
                    <a:pt x="97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57560" y="3077640"/>
              <a:ext cx="1132200" cy="1914840"/>
            </a:xfrm>
            <a:custGeom>
              <a:avLst/>
              <a:gdLst/>
              <a:ahLst/>
              <a:rect l="l" t="t" r="r" b="b"/>
              <a:pathLst>
                <a:path w="1071" h="1812">
                  <a:moveTo>
                    <a:pt x="0" y="1812"/>
                  </a:moveTo>
                  <a:lnTo>
                    <a:pt x="10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64160" y="2900160"/>
              <a:ext cx="2093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763800" y="2709720"/>
              <a:ext cx="20934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3192840" y="3090240"/>
              <a:ext cx="761040" cy="380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3002760" y="3090240"/>
              <a:ext cx="951120" cy="1141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811960" y="3090240"/>
              <a:ext cx="1141560" cy="1902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4C9-E915-4D66-954C-82F9939865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he outflow from unemploy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55680" y="2097000"/>
          <a:ext cx="7597440" cy="3795120"/>
        </p:xfrm>
        <a:graphic>
          <a:graphicData uri="http://schemas.openxmlformats.org/drawingml/2006/table">
            <a:tbl>
              <a:tblPr/>
              <a:tblGrid>
                <a:gridCol w="3235320"/>
                <a:gridCol w="2180880"/>
                <a:gridCol w="2181240"/>
              </a:tblGrid>
              <a:tr h="79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From open unemployment 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Actual SIN re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Imaginary reform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Em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2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0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Subs. Em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5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4.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Work exper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4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1.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7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2.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0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2.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Othe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4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1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156280" y="2768760"/>
            <a:ext cx="3924360" cy="8506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72280" y="3822840"/>
            <a:ext cx="1511280" cy="1790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51E-0669-41CC-9685-1F8BDC730F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o employment from IMT: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79360" y="2021040"/>
          <a:ext cx="7890120" cy="4176720"/>
        </p:xfrm>
        <a:graphic>
          <a:graphicData uri="http://schemas.openxmlformats.org/drawingml/2006/table">
            <a:tbl>
              <a:tblPr/>
              <a:tblGrid>
                <a:gridCol w="3359160"/>
                <a:gridCol w="2265480"/>
                <a:gridCol w="2265480"/>
              </a:tblGrid>
              <a:tr h="87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To employment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Actual SIN re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Fake reform”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Any IM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2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1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Subs. Emplo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3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4.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Work exper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4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4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Wo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+19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7.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9.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4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Othe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+0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Roman 10cpi"/>
                          <a:ea typeface="Times New Roman"/>
                        </a:rPr>
                        <a:t>(–2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486400" y="4013280"/>
            <a:ext cx="1511280" cy="1790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337-99C0-42B6-AF90-14F917A674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Robustness che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 to Asia, Africa and Europe excl. EU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propensity score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SIN start on September 1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what stronger results for work experie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gion of res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ar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tratification by calendar time and propensity s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0CB-831A-45BA-87CE-124E94D527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N program – regulations an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participates in S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when someone enters S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ical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ffects of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ding re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5CD-C09B-4D8E-8207-3B05A3D567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Comparing the costs and benefits of 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11240" y="1951200"/>
          <a:ext cx="7821720" cy="3317760"/>
        </p:xfrm>
        <a:graphic>
          <a:graphicData uri="http://schemas.openxmlformats.org/drawingml/2006/table">
            <a:tbl>
              <a:tblPr/>
              <a:tblGrid>
                <a:gridCol w="2301840"/>
                <a:gridCol w="1839960"/>
                <a:gridCol w="1839960"/>
                <a:gridCol w="18399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ed days in wor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(base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bs created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cost per job-year 2005 (SE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 (base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75B-7F9A-4DE1-8ADE-0C4C72E327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effects of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increased the flow from unemployment to work experience schemes, and the flow from work experience to employ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IN a new approach to labor market poli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ory perhaps, but not in pract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tching and search assistance: expect positive resul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57B-753F-432F-A3C4-52FD324356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= ”workplace introduction for certain immigran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antial problems of labor market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w-skill jobs for the highly educ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olitical attempts: priority at the PES, local introduction programs, neighborhood development program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499-8184-4544-B1EC-8EBA131B9D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he SIN t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municip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September 1, 2003 (extended through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ed grou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ugees and immigrants age 20 or ab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r having completed local introduction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t risk of becoming) long-term unemplo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le of taking a job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 ”best alternative availab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K 126 million, 4,781 entered in 2005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Times New Roman"/>
              </a:rPr>
              <a:t>Extra funding for special case work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82D-0157-4A51-B5A6-4ED8E52905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Why interest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olicies that are effective for disadvantaged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ly ”new”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tandard evaluation problem: SIN may affect many parts of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stic and challenging evaluation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licy makers need answers – can we provide reliable ones with less than ideal setting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B0B-4DF8-453A-9F1D-AB63C081E6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he six steps of SIN - ”supported employm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search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gath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place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1D9-7937-42F5-AE74-80BCF750F8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Previous studies on S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s (2005) report to the Ministry of Indust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lly positive to S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up and running before fall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eps 1-3 most importa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 with participants, officers and employers (Hernemar 2004, Lindgren Åsbrink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b ready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ood matc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= search and matching assistance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54D-3183-49FF-A0CC-15F3B824BE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AU database + SIN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Entire population 16-65, 1985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ow to unemployment Jan 1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 15,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itions to: Employment, Subsidized employment, Work experience, ”Other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-63 years old at unemployment entry, born outside the Nordic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ed at PES office in SIN local labor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Times New Roman"/>
              </a:rPr>
              <a:t>About 220,000 individu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F16-0287-4A3A-90E6-F372E54CA5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Where were the SIN participants bo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38320" y="1779480"/>
            <a:ext cx="5898960" cy="431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7FB-CE9D-4EBD-A192-AFD94A5F29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2:22:37Z</dcterms:created>
  <dc:creator>Olof Åslund</dc:creator>
  <dc:description>IFAU905E
v 1.2 2005-02-04</dc:description>
  <dc:language>en-US</dc:language>
  <cp:lastModifiedBy>FSO</cp:lastModifiedBy>
  <dcterms:modified xsi:type="dcterms:W3CDTF">2006-10-25T11:02:35Z</dcterms:modified>
  <cp:revision>41</cp:revision>
  <dc:subject/>
  <dc:title>Virtues of SIN – Effects of an immigrant workplace introduction program</dc:title>
</cp:coreProperties>
</file>