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907588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958B-2417-4112-ACD4-98661699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77760" y="397980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14A2-486E-4EFB-BE80-07B6D6F0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240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3B8F-5108-4627-B2B3-E8D9F275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896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052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7776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896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052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DCFD-072A-40B1-815F-2CF162BC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ED51-BA10-4B1B-88AD-B7241769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8CDE-E6FD-42A6-8992-03B29A1B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A3CB-49F3-49B4-ADE3-E1DA7429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019A-8243-4D46-867B-EFCAEEF7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19A0-046D-43BA-BF63-44D0C787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77400" y="1142640"/>
            <a:ext cx="818532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4B93-8233-481D-9AA4-D8BDD9A8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1CB6-7ECA-4761-BA7C-D7CD1504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D099-11DE-4C3B-B7F7-5FC71588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6240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2EE8-F8C1-4CF6-8782-37F8AD2D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F1E4-ED57-4853-8202-9AFCF8AC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77760" y="397980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AAA1-CADF-4BE0-BC80-5963EB48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6240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EBE9-B4D5-4CA0-937D-910A051B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3896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0052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7776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3896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0052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953E-5F3D-40D8-988C-E376CC9C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3822-DF33-43D5-837C-2FC4F330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0E5B-C58E-44B9-A6F5-CCCA68D5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AC51-B171-440F-B364-D5511013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77400" y="1142640"/>
            <a:ext cx="818532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DEA0-ACFF-4EC0-8E56-7AE56A7B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C0E-C0EA-4FF6-A98F-AA299505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240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0B83-A89F-4D84-894A-42BF5258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C511-797F-4757-9B5B-A3C53D75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ge60" descr=""/>
          <p:cNvPicPr/>
          <p:nvPr/>
        </p:nvPicPr>
        <p:blipFill>
          <a:blip r:embed="rId2"/>
          <a:srcRect l="0" t="0" r="10770" b="6959"/>
          <a:stretch/>
        </p:blipFill>
        <p:spPr>
          <a:xfrm>
            <a:off x="7577280" y="4035600"/>
            <a:ext cx="2328840" cy="2822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425680" y="177840"/>
            <a:ext cx="1028880" cy="7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95360" y="6102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AFE9-B2A9-4F95-AE43-4B2AC73A8851}" type="datetime">
              <a:rPr b="0" lang="sv-SE" sz="1400" spc="-1" strike="noStrike">
                <a:solidFill>
                  <a:srgbClr val="000000"/>
                </a:solidFill>
                <a:latin typeface="Arial"/>
              </a:rPr>
              <a:t>26-07-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84360" y="610200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98840" y="610200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2F9C-1F2B-4605-90F3-6A914AFCE413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26960" y="609480"/>
            <a:ext cx="9066240" cy="5867640"/>
          </a:xfrm>
          <a:prstGeom prst="rect">
            <a:avLst/>
          </a:prstGeom>
          <a:noFill/>
          <a:ln w="12600">
            <a:solidFill>
              <a:srgbClr val="639a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rcRect l="0" t="0" r="-3349" b="0"/>
          <a:stretch/>
        </p:blipFill>
        <p:spPr>
          <a:xfrm>
            <a:off x="263520" y="184320"/>
            <a:ext cx="3000240" cy="80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age60" descr=""/>
          <p:cNvPicPr/>
          <p:nvPr/>
        </p:nvPicPr>
        <p:blipFill>
          <a:blip r:embed="rId2"/>
          <a:srcRect l="0" t="0" r="10770" b="6959"/>
          <a:stretch/>
        </p:blipFill>
        <p:spPr>
          <a:xfrm>
            <a:off x="7577280" y="4035600"/>
            <a:ext cx="2328840" cy="2822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25680" y="177840"/>
            <a:ext cx="1028880" cy="7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95360" y="6102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A826-3382-4B70-BA01-C24163311D9F}" type="datetime">
              <a:rPr b="0" lang="sv-SE" sz="1400" spc="-1" strike="noStrike">
                <a:solidFill>
                  <a:srgbClr val="000000"/>
                </a:solidFill>
                <a:latin typeface="Arial"/>
              </a:rPr>
              <a:t>26-07-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384360" y="610200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98840" y="610200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2BEB-641F-41BC-BD4B-D0884FC660E7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6960" y="609480"/>
            <a:ext cx="9066240" cy="5867640"/>
          </a:xfrm>
          <a:prstGeom prst="rect">
            <a:avLst/>
          </a:prstGeom>
          <a:noFill/>
          <a:ln w="12600">
            <a:solidFill>
              <a:srgbClr val="639a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0" t="0" r="-3349" b="0"/>
          <a:stretch/>
        </p:blipFill>
        <p:spPr>
          <a:xfrm>
            <a:off x="263520" y="184320"/>
            <a:ext cx="3000240" cy="809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3040" y="2130480"/>
            <a:ext cx="843264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Virtues of SIN</a:t>
            </a:r>
            <a:br>
              <a:rPr sz="2600"/>
            </a:b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– Effects of an 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mmigrant workplace</a:t>
            </a: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 introduction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85720" y="3629160"/>
            <a:ext cx="6933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Olof Åslund and Per Johan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B334-4335-4DFD-954C-50E9ECB80A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When did the participants come to Swed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63800" y="1765440"/>
            <a:ext cx="603864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24C5-D1A4-40C2-A765-4A81C220B2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SIN participants vs other unemploy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247760" y="1954080"/>
          <a:ext cx="7535880" cy="3900600"/>
        </p:xfrm>
        <a:graphic>
          <a:graphicData uri="http://schemas.openxmlformats.org/drawingml/2006/table">
            <a:tbl>
              <a:tblPr/>
              <a:tblGrid>
                <a:gridCol w="4248000"/>
                <a:gridCol w="1643400"/>
                <a:gridCol w="1644480"/>
              </a:tblGrid>
              <a:tr h="709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 partici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partici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mary education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ary education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tiary education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ed as not eligible for benefits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time in open unem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9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time in L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oyment 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earnings 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F95B-A20C-4974-B073-A1E1A059F4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Status 3 days before S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85960" y="2120760"/>
          <a:ext cx="8005680" cy="3746520"/>
        </p:xfrm>
        <a:graphic>
          <a:graphicData uri="http://schemas.openxmlformats.org/drawingml/2006/table">
            <a:tbl>
              <a:tblPr/>
              <a:tblGrid>
                <a:gridCol w="2668320"/>
                <a:gridCol w="2668680"/>
                <a:gridCol w="2668680"/>
              </a:tblGrid>
              <a:tr h="53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q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employ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.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oy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s. employ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k exper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75AF-70F2-47D5-81C2-D3E8975756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On the day of SIN en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40120" y="2900520"/>
            <a:ext cx="5757840" cy="7426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9120" y="4259160"/>
            <a:ext cx="5757840" cy="7430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35160" y="5137200"/>
            <a:ext cx="5757840" cy="7430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43000" y="1855800"/>
          <a:ext cx="7542000" cy="3819600"/>
        </p:xfrm>
        <a:graphic>
          <a:graphicData uri="http://schemas.openxmlformats.org/drawingml/2006/table">
            <a:tbl>
              <a:tblPr/>
              <a:tblGrid>
                <a:gridCol w="1807920"/>
                <a:gridCol w="1148040"/>
                <a:gridCol w="1146240"/>
                <a:gridCol w="1145880"/>
                <a:gridCol w="1148040"/>
                <a:gridCol w="114588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days bef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em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s em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k ex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 of e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employ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5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oy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s. em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.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k ex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5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ADA9-503D-4080-9650-B11CB2B216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Implications for the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compare participants to non-partici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N start and end dates ”soft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ong selection on unobserved characteris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”reduced form” analysis at the municip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N” = registered in SIN location in SIN perio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D type of estimator: before-after in treatment and contr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DD7D-EAE9-4BA9-BE97-5CCC63F4E2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Is a DD setup appropriat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77760" y="5740560"/>
            <a:ext cx="81662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o ”imaginary reform” in September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Probability of being in work 360 days after unemployment entry, by location and 180-day period of entry."/>
          <p:cNvPicPr/>
          <p:nvPr/>
        </p:nvPicPr>
        <p:blipFill>
          <a:blip r:embed="rId1"/>
          <a:stretch/>
        </p:blipFill>
        <p:spPr>
          <a:xfrm>
            <a:off x="2133720" y="1689120"/>
            <a:ext cx="5394240" cy="395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D039-31A5-451C-A9BA-6A8098E99C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Potential effects of S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670400" y="2329200"/>
            <a:ext cx="6089760" cy="3043800"/>
            <a:chOff x="1670400" y="2329200"/>
            <a:chExt cx="6089760" cy="3043800"/>
          </a:xfrm>
        </p:grpSpPr>
        <p:sp>
          <p:nvSpPr>
            <p:cNvPr id="126" name=""/>
            <p:cNvSpPr/>
            <p:nvPr/>
          </p:nvSpPr>
          <p:spPr>
            <a:xfrm>
              <a:off x="6047640" y="2329200"/>
              <a:ext cx="1712520" cy="57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mploy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70400" y="2329200"/>
              <a:ext cx="1902960" cy="57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employ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54240" y="4801320"/>
              <a:ext cx="19029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54240" y="4041720"/>
              <a:ext cx="1902960" cy="57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mpl. subsi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54240" y="3280680"/>
              <a:ext cx="1902960" cy="57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ork exp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21880" y="3090240"/>
              <a:ext cx="1141920" cy="57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21880" y="3090240"/>
              <a:ext cx="1141920" cy="11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21880" y="3090240"/>
              <a:ext cx="1141920" cy="19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57560" y="2990880"/>
              <a:ext cx="838440" cy="669960"/>
            </a:xfrm>
            <a:custGeom>
              <a:avLst/>
              <a:gdLst/>
              <a:ahLst/>
              <a:rect l="l" t="t" r="r" b="b"/>
              <a:pathLst>
                <a:path w="793" h="634">
                  <a:moveTo>
                    <a:pt x="0" y="634"/>
                  </a:moveTo>
                  <a:lnTo>
                    <a:pt x="79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57560" y="3014280"/>
              <a:ext cx="1028520" cy="1217520"/>
            </a:xfrm>
            <a:custGeom>
              <a:avLst/>
              <a:gdLst/>
              <a:ahLst/>
              <a:rect l="l" t="t" r="r" b="b"/>
              <a:pathLst>
                <a:path w="973" h="1152">
                  <a:moveTo>
                    <a:pt x="0" y="1152"/>
                  </a:moveTo>
                  <a:lnTo>
                    <a:pt x="97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57560" y="3077640"/>
              <a:ext cx="1132200" cy="1914840"/>
            </a:xfrm>
            <a:custGeom>
              <a:avLst/>
              <a:gdLst/>
              <a:ahLst/>
              <a:rect l="l" t="t" r="r" b="b"/>
              <a:pathLst>
                <a:path w="1071" h="1812">
                  <a:moveTo>
                    <a:pt x="0" y="1812"/>
                  </a:moveTo>
                  <a:lnTo>
                    <a:pt x="107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64160" y="2900160"/>
              <a:ext cx="2093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763800" y="2709720"/>
              <a:ext cx="209340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3192840" y="3090240"/>
              <a:ext cx="761040" cy="380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3002760" y="3090240"/>
              <a:ext cx="951120" cy="1141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2811960" y="3090240"/>
              <a:ext cx="1141560" cy="1902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D1FD-468A-4F5E-8DF0-32DB452C54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The outflow from unemploy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55680" y="2097000"/>
          <a:ext cx="7597440" cy="3795120"/>
        </p:xfrm>
        <a:graphic>
          <a:graphicData uri="http://schemas.openxmlformats.org/drawingml/2006/table">
            <a:tbl>
              <a:tblPr/>
              <a:tblGrid>
                <a:gridCol w="3235320"/>
                <a:gridCol w="2180880"/>
                <a:gridCol w="2181240"/>
              </a:tblGrid>
              <a:tr h="799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From open unemployment 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Actual SIN re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Imaginary reform 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Emplo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+12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+10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Subs. Em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+5.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+4.5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Work experi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+14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–1.0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Wo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+17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–2.5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+10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+2.2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Other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+4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+1.8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156280" y="2768760"/>
            <a:ext cx="3924360" cy="8506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72280" y="3822840"/>
            <a:ext cx="1511280" cy="17906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7220-0365-4A1E-ACA9-A267A3E6BB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To employment from IMT: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179360" y="2021040"/>
          <a:ext cx="7890120" cy="4176720"/>
        </p:xfrm>
        <a:graphic>
          <a:graphicData uri="http://schemas.openxmlformats.org/drawingml/2006/table">
            <a:tbl>
              <a:tblPr/>
              <a:tblGrid>
                <a:gridCol w="3359160"/>
                <a:gridCol w="2265480"/>
                <a:gridCol w="2265480"/>
              </a:tblGrid>
              <a:tr h="87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To employment fr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Actual SIN re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Fake reform” 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Any IM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+2.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–1.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Subs. Emplo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–3.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+4.0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Work experi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+14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–4.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Wo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+19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–7.4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+9.4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–4.8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Other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+0.8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–2.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5486400" y="4013280"/>
            <a:ext cx="1511280" cy="17906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8437-58DD-4EE7-B7B3-710D368F7E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Robustness chec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 to Asia, Africa and Europe excl. EU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propensity score individu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SIN start on September 1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mewhat stronger results for work experien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region of res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ari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Stratification by calendar time and propensity s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FE23-95BF-45ED-A902-3B1028296D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IN program – regulations and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participates in S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s when someone enters S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ological consid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ffects of S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ding rema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95DF-0C53-44AF-900B-E5E62AACE6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Comparing the costs and benefits of S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11240" y="1951200"/>
          <a:ext cx="7821720" cy="3317760"/>
        </p:xfrm>
        <a:graphic>
          <a:graphicData uri="http://schemas.openxmlformats.org/drawingml/2006/table">
            <a:tbl>
              <a:tblPr/>
              <a:tblGrid>
                <a:gridCol w="2301840"/>
                <a:gridCol w="1839960"/>
                <a:gridCol w="1839960"/>
                <a:gridCol w="183996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cted days in wor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 (basel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obs created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d cost per job-year 2005 (SE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3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 (basel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EBC9-F08D-4ADC-98BB-D27C0E3D13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Concluding rema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 effects of S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 increased the flow from unemployment to work experience schemes, and the flow from work experience to employ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SIN a new approach to labor market polic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eory perhaps, but not in pract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tching and search assistance: expect positive result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175F-91C0-43AA-B938-5CCADD6F36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 = ”workplace introduction for certain immigran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antial problems of labor market 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w-skill jobs for the highly educa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political attempts: priority at the PES, local introduction programs, neighborhood development program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4C4C-9480-4AB5-8D3B-B5A5D7EA30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The SIN tr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municip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September 1, 2003 (extended through 20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ed grou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ugees and immigrants age 20 or abo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r having completed local introduction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t risk of becoming) long-term unemplo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ble of taking a job immedi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 ”best alternative availabl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K 126 million, 4,781 entered in 2005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Extra funding for special case work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25A6-0BDA-4E7D-B6E6-E632D8DABB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Why interest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policies that are effective for disadvantaged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ly ”new”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standard evaluation problem: SIN may affect many parts of th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stic and challenging evaluation sit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cy makers need answers – can we provide reliable ones with less than ideal setting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67A9-C5C4-4332-8000-167228B46D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The six steps of SIN - ”supported employment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 searche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 gath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place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5A49-B21F-4458-ABFE-C2930A54FA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Previous studies on S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s (2005) report to the Ministry of Indust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lly positive to S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t up and running before fall 200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eps 1-3 most importa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views with participants, officers and employers (Hernemar 2004, Lindgren Åsbrink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ob ready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im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ood match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 = search and matching assistance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F14D-A1AA-4657-B2F2-B1F4F8DBFA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Th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AU database + SIN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Entire population 16-65, 1985-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ow to unemployment Jan 1, 20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 15,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ansitions to: Employment, Subsidized employment, Work experience, ”Other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-63 years old at unemployment entry, born outside the Nordic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ered at PES office in SIN local labor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About 220,000 individu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71CE-9E1E-4731-862F-AB54D1AE8D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Where were the SIN participants bor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38320" y="1779480"/>
            <a:ext cx="5898960" cy="431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0F34-D2E6-440A-B00E-B2EFAEAF84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12:22:37Z</dcterms:created>
  <dc:creator>Olof Åslund</dc:creator>
  <dc:description>IFAU905E
v 1.2 2005-02-04</dc:description>
  <dc:language>en-US</dc:language>
  <cp:lastModifiedBy>FSO</cp:lastModifiedBy>
  <dcterms:modified xsi:type="dcterms:W3CDTF">2006-10-25T11:02:35Z</dcterms:modified>
  <cp:revision>41</cp:revision>
  <dc:subject/>
  <dc:title>Virtues of SIN – Effects of an immigrant workplace introduction program</dc:title>
</cp:coreProperties>
</file>