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36FB-484F-479D-A141-E3BACFBB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77760" y="397980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66B8-A70F-444B-97FE-9991ACE7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240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8AD-B276-4ACC-AF1A-46778B5D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896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052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7776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896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052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7B4-27E0-4B49-8ECD-E6E437E1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91C5-D51D-4550-90D6-8AED62C2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BBF4-20A2-446E-AF05-B7E2A8CF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8EA1-0628-490C-919D-70D67023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8F08-3E6C-4BB6-B303-842223C9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3FFD-FFFD-4FFD-8BBB-2D168CF4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77400" y="1142640"/>
            <a:ext cx="818532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F9C0-748A-402C-9302-B8D21C8B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F54E-D8C9-4492-9193-F042D9B3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AEE-51F6-4627-B838-3DD0E855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6240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3F38-5552-4C34-A10B-A85D4AFB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DEF1-3B26-4390-8AC3-0D5CBE35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77760" y="397980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17D0-C03A-4095-A865-EF6FC47A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6240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865D-9EAE-4910-9CCF-40381A77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3896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0052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7776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3896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0052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B9DE-4DEC-4A95-81BD-ED6CBB99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E1FF-833C-4457-8B64-4CE59526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B44-AC1B-4648-81C0-DCB39BCA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78B7-A068-4358-BEE0-54952692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77400" y="1142640"/>
            <a:ext cx="818532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CFC-CE6C-4FA3-8492-1BC12988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D60-2232-4542-B4C4-A3F7390C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240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D80-CD9B-426E-9DF3-1CD174F1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3BB-421C-4D2B-98F1-2D2A4B8D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ge60" descr=""/>
          <p:cNvPicPr/>
          <p:nvPr/>
        </p:nvPicPr>
        <p:blipFill>
          <a:blip r:embed="rId2"/>
          <a:srcRect l="0" t="0" r="10770" b="6959"/>
          <a:stretch/>
        </p:blipFill>
        <p:spPr>
          <a:xfrm>
            <a:off x="7577280" y="4035600"/>
            <a:ext cx="2328840" cy="282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425680" y="177840"/>
            <a:ext cx="102888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102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DBA8-D501-4DFC-A731-CAA4E9C5001C}" type="datetime">
              <a:rPr b="0" lang="sv-SE" sz="1400" spc="-1" strike="noStrike">
                <a:solidFill>
                  <a:srgbClr val="000000"/>
                </a:solidFill>
                <a:latin typeface="Arial"/>
              </a:rPr>
              <a:t>26-07-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84360" y="610200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98840" y="610200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8E3A-17DC-4980-866B-457F0625CA5A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26960" y="609480"/>
            <a:ext cx="9066240" cy="5867640"/>
          </a:xfrm>
          <a:prstGeom prst="rect">
            <a:avLst/>
          </a:prstGeom>
          <a:noFill/>
          <a:ln w="12600">
            <a:solidFill>
              <a:srgbClr val="639a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rcRect l="0" t="0" r="-3349" b="0"/>
          <a:stretch/>
        </p:blipFill>
        <p:spPr>
          <a:xfrm>
            <a:off x="263520" y="184320"/>
            <a:ext cx="3000240" cy="80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age60" descr=""/>
          <p:cNvPicPr/>
          <p:nvPr/>
        </p:nvPicPr>
        <p:blipFill>
          <a:blip r:embed="rId2"/>
          <a:srcRect l="0" t="0" r="10770" b="6959"/>
          <a:stretch/>
        </p:blipFill>
        <p:spPr>
          <a:xfrm>
            <a:off x="7577280" y="4035600"/>
            <a:ext cx="2328840" cy="2822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25680" y="177840"/>
            <a:ext cx="102888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95360" y="6102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F186-1483-47CC-90E9-7CC8008BC7BE}" type="datetime">
              <a:rPr b="0" lang="sv-SE" sz="1400" spc="-1" strike="noStrike">
                <a:solidFill>
                  <a:srgbClr val="000000"/>
                </a:solidFill>
                <a:latin typeface="Arial"/>
              </a:rPr>
              <a:t>26-07-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384360" y="610200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98840" y="610200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D1B2-6EE3-4B61-8092-A4813F4D9375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960" y="609480"/>
            <a:ext cx="9066240" cy="5867640"/>
          </a:xfrm>
          <a:prstGeom prst="rect">
            <a:avLst/>
          </a:prstGeom>
          <a:noFill/>
          <a:ln w="12600">
            <a:solidFill>
              <a:srgbClr val="639a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0" t="0" r="-3349" b="0"/>
          <a:stretch/>
        </p:blipFill>
        <p:spPr>
          <a:xfrm>
            <a:off x="263520" y="184320"/>
            <a:ext cx="3000240" cy="809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3040" y="2130480"/>
            <a:ext cx="843264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Virtues of SIN</a:t>
            </a:r>
            <a:br>
              <a:rPr sz="2600"/>
            </a:b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– Effects of an 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mmigrant workplace</a:t>
            </a: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 introduction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85720" y="362916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Olof Åslund and Per Johan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5171-8D09-4F33-A09E-589064844F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When did the participants come to Swe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63800" y="1765440"/>
            <a:ext cx="603864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D34-F38A-435F-95D1-15F0C74BE4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SIN participants vs other unemploy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247760" y="1954080"/>
          <a:ext cx="7535880" cy="3900600"/>
        </p:xfrm>
        <a:graphic>
          <a:graphicData uri="http://schemas.openxmlformats.org/drawingml/2006/table">
            <a:tbl>
              <a:tblPr/>
              <a:tblGrid>
                <a:gridCol w="4248000"/>
                <a:gridCol w="1643400"/>
                <a:gridCol w="1644480"/>
              </a:tblGrid>
              <a:tr h="709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mary education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ary education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tiary education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d as not eligible for benefits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time in open unem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9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time in L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oyment 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earnings 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180-1945-47A0-9728-F0AB9F0E84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Status 3 days before S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85960" y="2120760"/>
          <a:ext cx="8005680" cy="3746520"/>
        </p:xfrm>
        <a:graphic>
          <a:graphicData uri="http://schemas.openxmlformats.org/drawingml/2006/table">
            <a:tbl>
              <a:tblPr/>
              <a:tblGrid>
                <a:gridCol w="2668320"/>
                <a:gridCol w="2668680"/>
                <a:gridCol w="2668680"/>
              </a:tblGrid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employ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oy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. employ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k exper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6159-E182-4DC1-AD56-06C9A678E1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On the day of SIN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40120" y="2900520"/>
            <a:ext cx="5757840" cy="7426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9120" y="4259160"/>
            <a:ext cx="5757840" cy="7430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35160" y="5137200"/>
            <a:ext cx="5757840" cy="7430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43000" y="1855800"/>
          <a:ext cx="7542000" cy="3819600"/>
        </p:xfrm>
        <a:graphic>
          <a:graphicData uri="http://schemas.openxmlformats.org/drawingml/2006/table">
            <a:tbl>
              <a:tblPr/>
              <a:tblGrid>
                <a:gridCol w="1807920"/>
                <a:gridCol w="1148040"/>
                <a:gridCol w="1146240"/>
                <a:gridCol w="1145880"/>
                <a:gridCol w="1148040"/>
                <a:gridCol w="114588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days bef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em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 em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k ex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 of e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employ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oy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. em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.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k ex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12A-4A55-4AF5-A78E-2FE7517D49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Implications for the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ompare participants to non-partici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N start and end dates ”soft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ong selection on unobserved characteris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”reduced form” analysis at the municip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N” = registered in SIN location in SIN peri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D type of estimator: before-after in treatment and contr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90B-CAEC-4465-9CD0-4D62F821F1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Is a DD setup appropriat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7760" y="5740560"/>
            <a:ext cx="81662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 ”imaginary reform” in September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Probability of being in work 360 days after unemployment entry, by location and 180-day period of entry."/>
          <p:cNvPicPr/>
          <p:nvPr/>
        </p:nvPicPr>
        <p:blipFill>
          <a:blip r:embed="rId1"/>
          <a:stretch/>
        </p:blipFill>
        <p:spPr>
          <a:xfrm>
            <a:off x="2133720" y="1689120"/>
            <a:ext cx="5394240" cy="395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A7E-AA11-44FC-BF10-A0DF41CA5A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Potential effects of S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670400" y="2329200"/>
            <a:ext cx="6089760" cy="3043800"/>
            <a:chOff x="1670400" y="2329200"/>
            <a:chExt cx="6089760" cy="3043800"/>
          </a:xfrm>
        </p:grpSpPr>
        <p:sp>
          <p:nvSpPr>
            <p:cNvPr id="126" name=""/>
            <p:cNvSpPr/>
            <p:nvPr/>
          </p:nvSpPr>
          <p:spPr>
            <a:xfrm>
              <a:off x="6047640" y="2329200"/>
              <a:ext cx="1712520" cy="57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loy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70400" y="2329200"/>
              <a:ext cx="1902960" cy="57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employ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54240" y="4801320"/>
              <a:ext cx="19029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54240" y="4041720"/>
              <a:ext cx="1902960" cy="57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l. subsi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54240" y="3280680"/>
              <a:ext cx="1902960" cy="57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rk exp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21880" y="3090240"/>
              <a:ext cx="1141920" cy="5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21880" y="3090240"/>
              <a:ext cx="1141920" cy="11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21880" y="3090240"/>
              <a:ext cx="1141920" cy="19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57560" y="2990880"/>
              <a:ext cx="838440" cy="669960"/>
            </a:xfrm>
            <a:custGeom>
              <a:avLst/>
              <a:gdLst/>
              <a:ahLst/>
              <a:rect l="l" t="t" r="r" b="b"/>
              <a:pathLst>
                <a:path w="793" h="634">
                  <a:moveTo>
                    <a:pt x="0" y="634"/>
                  </a:moveTo>
                  <a:lnTo>
                    <a:pt x="79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57560" y="3014280"/>
              <a:ext cx="1028520" cy="1217520"/>
            </a:xfrm>
            <a:custGeom>
              <a:avLst/>
              <a:gdLst/>
              <a:ahLst/>
              <a:rect l="l" t="t" r="r" b="b"/>
              <a:pathLst>
                <a:path w="973" h="1152">
                  <a:moveTo>
                    <a:pt x="0" y="1152"/>
                  </a:moveTo>
                  <a:lnTo>
                    <a:pt x="97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57560" y="3077640"/>
              <a:ext cx="1132200" cy="1914840"/>
            </a:xfrm>
            <a:custGeom>
              <a:avLst/>
              <a:gdLst/>
              <a:ahLst/>
              <a:rect l="l" t="t" r="r" b="b"/>
              <a:pathLst>
                <a:path w="1071" h="1812">
                  <a:moveTo>
                    <a:pt x="0" y="1812"/>
                  </a:moveTo>
                  <a:lnTo>
                    <a:pt x="107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64160" y="2900160"/>
              <a:ext cx="2093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763800" y="2709720"/>
              <a:ext cx="209340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3192840" y="3090240"/>
              <a:ext cx="761040" cy="380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3002760" y="3090240"/>
              <a:ext cx="951120" cy="1141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2811960" y="3090240"/>
              <a:ext cx="1141560" cy="1902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83CE-3ED9-4C70-AADE-BF6244CB9C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The outflow from unemploy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55680" y="2097000"/>
          <a:ext cx="7597440" cy="3795120"/>
        </p:xfrm>
        <a:graphic>
          <a:graphicData uri="http://schemas.openxmlformats.org/drawingml/2006/table">
            <a:tbl>
              <a:tblPr/>
              <a:tblGrid>
                <a:gridCol w="3235320"/>
                <a:gridCol w="2180880"/>
                <a:gridCol w="2181240"/>
              </a:tblGrid>
              <a:tr h="799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From open unemployment 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Actual SIN re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Imaginary reform 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Emplo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+12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+10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Subs. Em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+5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+4.5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Work exper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+14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–1.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Wo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+17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–2.5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+10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+2.2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Other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+4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+1.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156280" y="2768760"/>
            <a:ext cx="3924360" cy="8506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72280" y="3822840"/>
            <a:ext cx="1511280" cy="17906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04F-2898-4B3C-A7B4-5E942C064F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To employment from IMT: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179360" y="2021040"/>
          <a:ext cx="7890120" cy="4176720"/>
        </p:xfrm>
        <a:graphic>
          <a:graphicData uri="http://schemas.openxmlformats.org/drawingml/2006/table">
            <a:tbl>
              <a:tblPr/>
              <a:tblGrid>
                <a:gridCol w="3359160"/>
                <a:gridCol w="2265480"/>
                <a:gridCol w="2265480"/>
              </a:tblGrid>
              <a:tr h="87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To employment 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Actual SIN re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Fake reform” 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Any IM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+2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–1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Subs. Emplo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–3.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+4.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Work exper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+14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–4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Wo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+19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–7.4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+9.4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–4.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Other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+0.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–2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5486400" y="4013280"/>
            <a:ext cx="1511280" cy="17906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BEB4-27BE-4568-AF8E-1CE3812994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Robustness chec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 to Asia, Africa and Europe excl. EU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propensity score individ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SIN start on September 1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mewhat stronger results for work experien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egion of res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ari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Stratification by calendar time and propensity s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771-85B5-4FB1-93D1-1E900D9FDC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N program – regulations and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participates in S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when someone enters S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ological consid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ffects of 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ding rem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EDD2-F2DA-4314-8173-966603F7AB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Comparing the costs and benefits of S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11240" y="1951200"/>
          <a:ext cx="7821720" cy="3317760"/>
        </p:xfrm>
        <a:graphic>
          <a:graphicData uri="http://schemas.openxmlformats.org/drawingml/2006/table">
            <a:tbl>
              <a:tblPr/>
              <a:tblGrid>
                <a:gridCol w="2301840"/>
                <a:gridCol w="1839960"/>
                <a:gridCol w="1839960"/>
                <a:gridCol w="18399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cted days in wor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(basel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obs created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cost per job-year 2005 (SE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3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 (basel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512-80A1-4CEA-A271-E05AFE8EB7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Concluding rema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 effects of 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 increased the flow from unemployment to work experience schemes, and the flow from work experience to employ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SIN a new approach to labor market polic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eory perhaps, but not in pract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tching and search assistance: expect positive result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7C90-9466-44CF-A426-87308B471C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 = ”workplace introduction for certain immigran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antial problems of labor market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w-skill jobs for the highly educa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olitical attempts: priority at the PES, local introduction programs, neighborhood development program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F8E-C392-495D-9A71-334B2D9D98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The SIN tr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municip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September 1, 2003 (extended through 2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ed grou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ugees and immigrants age 20 or abo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r having completed local introduction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t risk of becoming) long-term unemplo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ble of taking a job immedi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 ”best alternative availabl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K 126 million, 4,781 entered in 2005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Extra funding for special case work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8479-1AD3-40B6-AEAB-4221E9FECF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Why interest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policies that are effective for disadvantaged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”new”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standard evaluation problem: SIN may affect many parts of th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stic and challenging evaluation 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cy makers need answers – can we provide reliable ones with less than ideal setting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7D59-F51A-498A-9EB5-28E6D6C4DC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The six steps of SIN - ”supported employmen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searche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gath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place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294-217D-4634-9ABC-433730C292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Previous studies on S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s (2005) report to the Ministry of Indust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lly positive to S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 up and running before fall 200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eps 1-3 most importa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iews with participants, officers and employers (Hernemar 2004, Lindgren Åsbrink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ob ready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im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ood match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 = search and matching assistance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95C9-D3F6-4301-8DA4-B03BA64E42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Th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AU database + SIN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Entire population 16-65, 1985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ow to unemployment Jan 1, 20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 15,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nsitions to: Employment, Subsidized employment, Work experience, ”Other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-63 years old at unemployment entry, born outside the Nordic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ered at PES office in SIN local labor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About 220,000 individu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8AB3-A035-4D4E-A3E2-41BDB02E3E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Where were the SIN participants bor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38320" y="1779480"/>
            <a:ext cx="5898960" cy="431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2344-D8B6-4D11-AF4C-8FC51F2002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2:22:37Z</dcterms:created>
  <dc:creator>Olof Åslund</dc:creator>
  <dc:description>IFAU905E
v 1.2 2005-02-04</dc:description>
  <dc:language>en-US</dc:language>
  <cp:lastModifiedBy>FSO</cp:lastModifiedBy>
  <dcterms:modified xsi:type="dcterms:W3CDTF">2006-10-25T11:02:35Z</dcterms:modified>
  <cp:revision>41</cp:revision>
  <dc:subject/>
  <dc:title>Virtues of SIN – Effects of an immigrant workplace introduction program</dc:title>
</cp:coreProperties>
</file>