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A8C3-60F8-4A07-A887-D96A4B6FD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550E-3C5B-4FCC-8C90-7825A6733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7DEC-48B6-4CA2-8C6E-B921E6203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0BCF-1773-4CF2-A855-C0232F7E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45BF6-9EB9-43CD-B4F4-A14C43592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1887D-8590-4349-B3D7-7CEC40FB0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DC381-4833-4CD5-8FC7-4325A65E1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995B6-73F9-46E2-BAA4-BBB6800CC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1CB4B-7D35-4613-AEA8-3B899A446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3E7C-84B6-4BE4-8EBD-C1AA015CA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B7B3-6F34-49E6-A095-8330D8156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AE93-7FA3-46C2-A4F9-26A071304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E1EA-B6AA-4B2E-8FCA-5BA87A33AD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6388A-2536-4125-A63F-1B4D8F9C2B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D5769-1DB1-4EB3-8AAD-73A1BFFDF2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7B4FE-D34E-424F-9252-DD01B9385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EB0E0-5A85-4436-9FFA-A5532B8E9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10B1-9D69-439A-8423-9F95126BC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70D8-76ED-420F-B590-6D4CE2956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B625-54DC-4F76-961B-51154906D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E606-77CF-4273-8E8E-1B0F82B0D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913D-3D86-4213-AE23-9BB71B7E5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3A62-5F71-40CD-B849-8A9DBEFED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5659A-396E-4135-A0A8-E245E1759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6B8-7078-427D-A5E8-DF48CF45459B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4960" y="2437920"/>
            <a:ext cx="649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3A45-2F7C-4B07-BEB1-34C0FF228FDD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5320" y="1989000"/>
            <a:ext cx="74217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TIME CONSTRAINTS,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DURABLE CONSUMER GOODS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AND </a:t>
            </a:r>
            <a:br>
              <a:rPr sz="2800"/>
            </a:br>
            <a:r>
              <a:rPr b="1" lang="en-GB" sz="2800" spc="-1" strike="noStrike">
                <a:solidFill>
                  <a:srgbClr val="6e6e6f"/>
                </a:solidFill>
                <a:latin typeface="Times New Roman"/>
              </a:rPr>
              <a:t>THE PREVALENCE OF OBESITY IN WESTERN EUROPE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3640" y="4724280"/>
            <a:ext cx="4535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f"/>
                </a:solidFill>
                <a:latin typeface="Verdana"/>
              </a:rPr>
              <a:t>Karsten Albæk</a:t>
            </a:r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1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4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2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7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44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6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2997360"/>
          <a:ext cx="8750160" cy="2882880"/>
        </p:xfrm>
        <a:graphic>
          <a:graphicData uri="http://schemas.openxmlformats.org/drawingml/2006/table">
            <a:tbl>
              <a:tblPr/>
              <a:tblGrid>
                <a:gridCol w="1558800"/>
                <a:gridCol w="1333440"/>
                <a:gridCol w="1428840"/>
                <a:gridCol w="1655640"/>
                <a:gridCol w="1274760"/>
                <a:gridCol w="14986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4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773360"/>
            <a:ext cx="8642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3284640"/>
          <a:ext cx="7848720" cy="3147840"/>
        </p:xfrm>
        <a:graphic>
          <a:graphicData uri="http://schemas.openxmlformats.org/drawingml/2006/table">
            <a:tbl>
              <a:tblPr/>
              <a:tblGrid>
                <a:gridCol w="1247760"/>
                <a:gridCol w="1344600"/>
                <a:gridCol w="1152720"/>
                <a:gridCol w="1511280"/>
                <a:gridCol w="1224000"/>
                <a:gridCol w="136836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5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2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car poss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Positive impact in all countri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 in 6 out of 10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Positive impact in 3 countries (none significant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, as most households in Europe only have one ca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male mostly uses the ca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 the female does not use the car as much as the male,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car has no detrimental effect on the weight of the femal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1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3429000"/>
          <a:ext cx="835344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295640"/>
                <a:gridCol w="1512720"/>
                <a:gridCol w="1224000"/>
                <a:gridCol w="1440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62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9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micro wave ov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Positive and significant effect on we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 both males and females in 4 out of 6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No effect in 3 out of 4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only a positive and significant effect for Spanish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)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different use of the micro wave oven, for ex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Used to heat ready prepared foo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Heat milk for cappuccino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dishwashe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8 out of 20 coefficients are negativ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6 coefficients are significantly negativ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ct: a dishwasher is an extremely time saving devic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shing up by hand after a family of 4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akes often more than ½ hou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is time could be used for something el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the time saved is used on something that reduc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eight problems (for example making food instead of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rming up ready prepared food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im of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ic and econometric analysis of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verweight an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reme overweight (obesity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 of weight: Body mass index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BMI = weight in kilo/(height in meters)</a:t>
            </a:r>
            <a:r>
              <a:rPr b="0" lang="en-US" sz="2000" spc="-1" strike="noStrike" baseline="30000">
                <a:solidFill>
                  <a:srgbClr val="6e6e6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3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4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84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6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not working full tim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The coefficients are negative for all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ly negative in the 4 Southern Europea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unt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Mixed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3 positive and significant coefficient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 negative and significant coeffici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Males, who do not work full time, do not face as t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constraints as males working full 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2852640"/>
          <a:ext cx="8713800" cy="3645000"/>
        </p:xfrm>
        <a:graphic>
          <a:graphicData uri="http://schemas.openxmlformats.org/drawingml/2006/table">
            <a:tbl>
              <a:tblPr/>
              <a:tblGrid>
                <a:gridCol w="1098360"/>
                <a:gridCol w="906480"/>
                <a:gridCol w="1155600"/>
                <a:gridCol w="1081440"/>
                <a:gridCol w="1157040"/>
                <a:gridCol w="1077840"/>
                <a:gridCol w="1003320"/>
                <a:gridCol w="123372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3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2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5.5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3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50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fe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924280"/>
          <a:ext cx="8137440" cy="364464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1079640"/>
                <a:gridCol w="1008000"/>
                <a:gridCol w="1081080"/>
                <a:gridCol w="1008000"/>
                <a:gridCol w="935280"/>
                <a:gridCol w="115236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2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9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6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8.5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9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0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6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7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2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tential endogeneity problem, car possess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t persons might buy a car because they are f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pplied in the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pulation density of residence (3 catego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sumption: Residence does not directly affect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73360"/>
          <a:ext cx="80643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064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4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dea: Analyze factors which affect energy balanc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take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ending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use of importance?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urable consumer goods which affect time us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a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icrowave oven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hwash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mal modeling: Becker’s analysis of time u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ension: Take preferences of weight into accou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viations from preferred weight enter into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utility of the agen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ata: European Community Household Panel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estions about weight and height 1998-2001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 Western European countries: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5.500 to 21.500 males in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tto for femal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oled sample: about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7.000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5.000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etric analysis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LS results for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average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 regression for pooled s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differ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s of the weight distribu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nalysis, potential endogeneity proble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2SL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al quantile regr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nditioning variables, not included in presentat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hildr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iving alon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ouse 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duca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moking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co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Year dumm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7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46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7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1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69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9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9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9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2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6.12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5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6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0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3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74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9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3:21:13Z</dcterms:created>
  <dc:creator>install</dc:creator>
  <dc:description/>
  <dc:language>en-US</dc:language>
  <cp:lastModifiedBy>diemar</cp:lastModifiedBy>
  <dcterms:modified xsi:type="dcterms:W3CDTF">2006-10-25T19:48:01Z</dcterms:modified>
  <cp:revision>94</cp:revision>
  <dc:subject/>
  <dc:title>TIME CONSTRAINTS, DURABLE CONSUMER GOODS AND  THE PREVALENCE OF OBESITY IN WESTERN EUROPE </dc:title>
</cp:coreProperties>
</file>