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08D60-CE87-4D85-8527-081AB0BDF1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1160" y="1943280"/>
            <a:ext cx="6438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81160" y="3774240"/>
            <a:ext cx="6438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DECF2-7AC5-4003-975B-1D03A66970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1160" y="1943280"/>
            <a:ext cx="31420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80560" y="1943280"/>
            <a:ext cx="31420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1160" y="3774240"/>
            <a:ext cx="31420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80560" y="3774240"/>
            <a:ext cx="31420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6F8AE-BFCE-4F06-A7B4-45FE6263BC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1160" y="1943280"/>
            <a:ext cx="20732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58440" y="1943280"/>
            <a:ext cx="20732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35720" y="1943280"/>
            <a:ext cx="20732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81160" y="3774240"/>
            <a:ext cx="20732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58440" y="3774240"/>
            <a:ext cx="20732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35720" y="3774240"/>
            <a:ext cx="20732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976BB-198A-427A-88E4-4280CC0BAF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5F534F-607B-4697-8465-5CACC9EE98D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81160" y="1943280"/>
            <a:ext cx="6438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1D4B4B-97A5-43F3-B19B-65D77CBD7DD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81160" y="1943280"/>
            <a:ext cx="6438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395BE5-9999-47AD-9B19-89E3F496BCB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1160" y="1943280"/>
            <a:ext cx="31420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80560" y="1943280"/>
            <a:ext cx="31420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ED8806-7D31-4B9C-97E4-458D4D81160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B51A23-9443-4244-AE6F-61A90F76975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5753160" cy="29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7A949A-9A93-41CD-B5F3-B5517C185C7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1160" y="1943280"/>
            <a:ext cx="31420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80560" y="1943280"/>
            <a:ext cx="31420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81160" y="3774240"/>
            <a:ext cx="31420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C4A3A4-21C1-48B4-A11F-F8FDB9D919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81160" y="1943280"/>
            <a:ext cx="6438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48271-6AC4-4B0D-BE1F-C11B507FF7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1160" y="1943280"/>
            <a:ext cx="31420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80560" y="1943280"/>
            <a:ext cx="31420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80560" y="3774240"/>
            <a:ext cx="31420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953A6C-25C3-4391-8606-657992D3B70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81160" y="1943280"/>
            <a:ext cx="31420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80560" y="1943280"/>
            <a:ext cx="31420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81160" y="3774240"/>
            <a:ext cx="6438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4F47EA-075C-4018-9BAE-C8BF9F7E1FB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1160" y="1943280"/>
            <a:ext cx="6438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81160" y="3774240"/>
            <a:ext cx="6438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4BBF1D-16E3-49F3-96B3-99BE03A312C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1160" y="1943280"/>
            <a:ext cx="31420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80560" y="1943280"/>
            <a:ext cx="31420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1160" y="3774240"/>
            <a:ext cx="31420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80560" y="3774240"/>
            <a:ext cx="31420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91C6E2-FAB1-421F-BA39-CE8C6A4265C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1160" y="1943280"/>
            <a:ext cx="20732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58440" y="1943280"/>
            <a:ext cx="20732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535720" y="1943280"/>
            <a:ext cx="20732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81160" y="3774240"/>
            <a:ext cx="20732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58440" y="3774240"/>
            <a:ext cx="20732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535720" y="3774240"/>
            <a:ext cx="20732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CD3634-F25B-42BB-962A-D0853C131D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1160" y="1943280"/>
            <a:ext cx="6438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A0B68-968B-443A-972F-09C46AF5EA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1160" y="1943280"/>
            <a:ext cx="31420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80560" y="1943280"/>
            <a:ext cx="31420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C85B0-461C-4C3D-B45E-64D2F3B898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0E28B-F10A-4A35-8A6A-CA29848F14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5753160" cy="29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1BEC1-3F92-4C6F-8A4A-06BA7D5D3B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1160" y="1943280"/>
            <a:ext cx="31420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80560" y="1943280"/>
            <a:ext cx="31420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81160" y="3774240"/>
            <a:ext cx="31420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B8880-7A48-4EF6-A6D5-507EC6F4A0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1160" y="1943280"/>
            <a:ext cx="31420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80560" y="1943280"/>
            <a:ext cx="31420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80560" y="3774240"/>
            <a:ext cx="31420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0B34A-D881-40A0-9015-137287984F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1160" y="1943280"/>
            <a:ext cx="31420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80560" y="1943280"/>
            <a:ext cx="31420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1160" y="3774240"/>
            <a:ext cx="6438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47575-3068-4BA0-99FC-10F6329EE9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630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81160" y="1943280"/>
            <a:ext cx="6438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6e6f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  <a:p>
            <a:pPr lvl="1" marL="343080" indent="-343080">
              <a:spcBef>
                <a:spcPts val="400"/>
              </a:spcBef>
              <a:buClr>
                <a:srgbClr val="6e6e6f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6e6f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  <a:p>
            <a:pPr lvl="2" marL="343080" indent="-343080">
              <a:spcBef>
                <a:spcPts val="400"/>
              </a:spcBef>
              <a:buClr>
                <a:srgbClr val="6e6e6f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6e6f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  <a:p>
            <a:pPr lvl="3" marL="343080" indent="-343080">
              <a:spcBef>
                <a:spcPts val="400"/>
              </a:spcBef>
              <a:buClr>
                <a:srgbClr val="6e6e6f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6e6f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  <a:p>
            <a:pPr lvl="4" marL="343080" indent="-343080">
              <a:spcBef>
                <a:spcPts val="400"/>
              </a:spcBef>
              <a:buClr>
                <a:srgbClr val="6e6e6f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6e6f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  <a:p>
            <a:pPr lvl="5" marL="343080" indent="-343080">
              <a:spcBef>
                <a:spcPts val="400"/>
              </a:spcBef>
              <a:buClr>
                <a:srgbClr val="6e6e6f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6e6f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  <a:p>
            <a:pPr lvl="6" marL="343080" indent="-343080">
              <a:spcBef>
                <a:spcPts val="400"/>
              </a:spcBef>
              <a:buClr>
                <a:srgbClr val="6e6e6f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6e6f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914400" y="6648120"/>
            <a:ext cx="7315200" cy="1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600" spc="-1" strike="noStrike">
                <a:solidFill>
                  <a:srgbClr val="6a6f7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600" spc="-1" strike="noStrike">
                <a:solidFill>
                  <a:srgbClr val="6a6f77"/>
                </a:solidFill>
                <a:latin typeface="Times New Roman"/>
              </a:rPr>
              <a:t>&lt;footer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610120" y="6648120"/>
            <a:ext cx="41940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600" spc="-1" strike="noStrike">
                <a:solidFill>
                  <a:srgbClr val="6e6e6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1EDBE-041A-4E83-AFF3-9E65F9323328}" type="slidenum">
              <a:rPr b="0" lang="da-DK" sz="600" spc="-1" strike="noStrike">
                <a:solidFill>
                  <a:srgbClr val="6e6e6f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94960" y="2437920"/>
            <a:ext cx="64962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3"/>
          </p:nvPr>
        </p:nvSpPr>
        <p:spPr>
          <a:xfrm>
            <a:off x="914400" y="6648120"/>
            <a:ext cx="7315200" cy="1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600" spc="-1" strike="noStrike">
                <a:solidFill>
                  <a:srgbClr val="6a6f7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600" spc="-1" strike="noStrike">
                <a:solidFill>
                  <a:srgbClr val="6a6f77"/>
                </a:solidFill>
                <a:latin typeface="Times New Roman"/>
              </a:rPr>
              <a:t>&lt;footer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8610120" y="6648120"/>
            <a:ext cx="41940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600" spc="-1" strike="noStrike">
                <a:solidFill>
                  <a:srgbClr val="6e6e6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98D42-1838-47C5-87DB-EA462DDAD925}" type="slidenum">
              <a:rPr b="0" lang="da-DK" sz="600" spc="-1" strike="noStrike">
                <a:solidFill>
                  <a:srgbClr val="6e6e6f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e6e6f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6e6e6f"/>
              </a:solidFill>
              <a:latin typeface="Verdana"/>
            </a:endParaRPr>
          </a:p>
          <a:p>
            <a:pPr lvl="1" marL="45720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e6e6f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6e6e6f"/>
              </a:solidFill>
              <a:latin typeface="Verdana"/>
            </a:endParaRPr>
          </a:p>
          <a:p>
            <a:pPr lvl="2" marL="914400" algn="ctr">
              <a:spcBef>
                <a:spcPts val="349"/>
              </a:spcBef>
              <a:buClr>
                <a:srgbClr val="6e6e6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e6e6f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6e6e6f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6e6e6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e6e6f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6e6e6f"/>
              </a:solidFill>
              <a:latin typeface="Verdana"/>
            </a:endParaRPr>
          </a:p>
          <a:p>
            <a:pPr lvl="4" marL="1828800" algn="ctr">
              <a:spcBef>
                <a:spcPts val="300"/>
              </a:spcBef>
              <a:buClr>
                <a:srgbClr val="6e6e6f"/>
              </a:buClr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e6e6f"/>
                </a:solidFill>
                <a:latin typeface="Verdana"/>
              </a:rPr>
              <a:t>Fifth Outline Level</a:t>
            </a:r>
            <a:endParaRPr b="0" lang="en-US" sz="1200" spc="-1" strike="noStrike">
              <a:solidFill>
                <a:srgbClr val="6e6e6f"/>
              </a:solidFill>
              <a:latin typeface="Verdana"/>
            </a:endParaRPr>
          </a:p>
          <a:p>
            <a:pPr lvl="5" marL="1828800">
              <a:spcBef>
                <a:spcPts val="300"/>
              </a:spcBef>
              <a:buClr>
                <a:srgbClr val="6e6e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e6e6f"/>
                </a:solidFill>
                <a:latin typeface="Verdana"/>
              </a:rPr>
              <a:t>Sixth Outline Level</a:t>
            </a:r>
            <a:endParaRPr b="0" lang="en-US" sz="1200" spc="-1" strike="noStrike">
              <a:solidFill>
                <a:srgbClr val="6e6e6f"/>
              </a:solidFill>
              <a:latin typeface="Verdana"/>
            </a:endParaRPr>
          </a:p>
          <a:p>
            <a:pPr lvl="6" marL="1828800">
              <a:spcBef>
                <a:spcPts val="300"/>
              </a:spcBef>
              <a:buClr>
                <a:srgbClr val="6e6e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e6e6f"/>
                </a:solidFill>
                <a:latin typeface="Verdana"/>
              </a:rPr>
              <a:t>Seventh Outline Level</a:t>
            </a:r>
            <a:endParaRPr b="0" lang="en-US" sz="12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95320" y="1989000"/>
            <a:ext cx="742176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6e6f"/>
                </a:solidFill>
                <a:latin typeface="Times New Roman"/>
              </a:rPr>
              <a:t>TIME CONSTRAINTS, </a:t>
            </a:r>
            <a:br>
              <a:rPr sz="2800"/>
            </a:br>
            <a:r>
              <a:rPr b="1" lang="en-US" sz="2800" spc="-1" strike="noStrike">
                <a:solidFill>
                  <a:srgbClr val="6e6e6f"/>
                </a:solidFill>
                <a:latin typeface="Times New Roman"/>
              </a:rPr>
              <a:t>DURABLE CONSUMER GOODS </a:t>
            </a:r>
            <a:br>
              <a:rPr sz="2800"/>
            </a:br>
            <a:r>
              <a:rPr b="1" lang="en-US" sz="2800" spc="-1" strike="noStrike">
                <a:solidFill>
                  <a:srgbClr val="6e6e6f"/>
                </a:solidFill>
                <a:latin typeface="Times New Roman"/>
              </a:rPr>
              <a:t>AND </a:t>
            </a:r>
            <a:br>
              <a:rPr sz="2800"/>
            </a:br>
            <a:r>
              <a:rPr b="1" lang="en-GB" sz="2800" spc="-1" strike="noStrike">
                <a:solidFill>
                  <a:srgbClr val="6e6e6f"/>
                </a:solidFill>
                <a:latin typeface="Times New Roman"/>
              </a:rPr>
              <a:t>THE PREVALENCE OF OBESITY IN WESTERN EUROPE</a:t>
            </a:r>
            <a:r>
              <a:rPr b="0" lang="en-GB" sz="2000" spc="-1" strike="noStrike">
                <a:solidFill>
                  <a:srgbClr val="6e6e6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123640" y="4724280"/>
            <a:ext cx="4535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6e6f"/>
                </a:solidFill>
                <a:latin typeface="Verdana"/>
              </a:rPr>
              <a:t>Karsten Albæk</a:t>
            </a:r>
            <a:endParaRPr b="0" lang="en-US" sz="24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80800" y="836640"/>
            <a:ext cx="57531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e6e6f"/>
                </a:solidFill>
                <a:latin typeface="Times New Roman"/>
              </a:rPr>
              <a:t>OBESITY IN WESTERN EUROPE</a:t>
            </a:r>
            <a:endParaRPr b="0" lang="en-US" sz="18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2247840" y="1784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1700280"/>
            <a:ext cx="785016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Verdana"/>
              </a:rPr>
              <a:t>Summary statistics, Females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Verdana"/>
              </a:rPr>
              <a:t>Southern Europ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24000" y="2708280"/>
          <a:ext cx="8280360" cy="3451320"/>
        </p:xfrm>
        <a:graphic>
          <a:graphicData uri="http://schemas.openxmlformats.org/drawingml/2006/table">
            <a:tbl>
              <a:tblPr/>
              <a:tblGrid>
                <a:gridCol w="1944360"/>
                <a:gridCol w="1140120"/>
                <a:gridCol w="1206360"/>
                <a:gridCol w="1407960"/>
                <a:gridCol w="1206720"/>
                <a:gridCol w="1374840"/>
              </a:tblGrid>
              <a:tr h="50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Austria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Spain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Portugal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Italy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Greece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an of BMI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24.114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46)</a:t>
                      </a:r>
                      <a:r>
                        <a:rPr b="0" lang="da-DK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23.981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34)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24.647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35)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23.227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27)</a:t>
                      </a:r>
                      <a:r>
                        <a:rPr b="0" lang="da-DK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24.446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38)</a:t>
                      </a:r>
                      <a:r>
                        <a:rPr b="0" lang="da-DK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hare of overweight (BMI 25+)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342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05)</a:t>
                      </a:r>
                      <a:r>
                        <a:rPr b="0" lang="da-DK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331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04)</a:t>
                      </a:r>
                      <a:r>
                        <a:rPr b="0" lang="da-DK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394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04)</a:t>
                      </a:r>
                      <a:r>
                        <a:rPr b="0" lang="da-DK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260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03)</a:t>
                      </a:r>
                      <a:r>
                        <a:rPr b="0" lang="da-DK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383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04)</a:t>
                      </a:r>
                      <a:r>
                        <a:rPr b="0" lang="da-DK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hare of obese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BMI 30+)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092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03)</a:t>
                      </a:r>
                      <a:r>
                        <a:rPr b="0" lang="da-DK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094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02)</a:t>
                      </a:r>
                      <a:r>
                        <a:rPr b="0" lang="da-DK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102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02)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057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02)</a:t>
                      </a:r>
                      <a:r>
                        <a:rPr b="0" lang="da-DK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082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02)</a:t>
                      </a:r>
                      <a:r>
                        <a:rPr b="0" lang="da-DK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80800" y="836640"/>
            <a:ext cx="57531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e6e6f"/>
                </a:solidFill>
                <a:latin typeface="Times New Roman"/>
              </a:rPr>
              <a:t>OBESITY IN WESTERN EUROPE</a:t>
            </a:r>
            <a:endParaRPr b="0" lang="en-US" sz="1800" spc="-1" strike="noStrike">
              <a:solidFill>
                <a:srgbClr val="6e6e6f"/>
              </a:solidFill>
              <a:latin typeface="Verdan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50920" y="2997360"/>
          <a:ext cx="8750160" cy="2882880"/>
        </p:xfrm>
        <a:graphic>
          <a:graphicData uri="http://schemas.openxmlformats.org/drawingml/2006/table">
            <a:tbl>
              <a:tblPr/>
              <a:tblGrid>
                <a:gridCol w="1558800"/>
                <a:gridCol w="1333440"/>
                <a:gridCol w="1428840"/>
                <a:gridCol w="1655640"/>
                <a:gridCol w="1274760"/>
                <a:gridCol w="1498680"/>
              </a:tblGrid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Finland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Sweden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Denmark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Ireland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Belgium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</a:tr>
              <a:tr h="116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Males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1.73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1.10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68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69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2.77*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1.16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2.73*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1.37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1.94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1.52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</a:tr>
              <a:tr h="116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Females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1.37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1.21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0.21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75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52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1.47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0.76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1.51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1.42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1.52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"/>
          <p:cNvSpPr/>
          <p:nvPr/>
        </p:nvSpPr>
        <p:spPr>
          <a:xfrm>
            <a:off x="2247840" y="1784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1773360"/>
            <a:ext cx="86421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Verdana"/>
              </a:rPr>
              <a:t>OLS results for determinants of log body mass index, percent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Verdana"/>
              </a:rPr>
              <a:t>Possession of a </a:t>
            </a:r>
            <a:r>
              <a:rPr b="1" lang="en-GB" sz="2000" spc="-1" strike="noStrike">
                <a:solidFill>
                  <a:srgbClr val="6e6e6f"/>
                </a:solidFill>
                <a:latin typeface="Verdana"/>
              </a:rPr>
              <a:t>car</a:t>
            </a:r>
            <a:r>
              <a:rPr b="0" lang="en-GB" sz="2000" spc="-1" strike="noStrike">
                <a:solidFill>
                  <a:srgbClr val="6e6e6f"/>
                </a:solidFill>
                <a:latin typeface="Verdana"/>
              </a:rPr>
              <a:t> in the household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Verdana"/>
              </a:rPr>
              <a:t>Northern Europ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80800" y="907920"/>
            <a:ext cx="57531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e6e6f"/>
                </a:solidFill>
                <a:latin typeface="Times New Roman"/>
              </a:rPr>
              <a:t>OBESITY IN WESTERN EUROPE</a:t>
            </a:r>
            <a:endParaRPr b="0" lang="en-US" sz="1800" spc="-1" strike="noStrike">
              <a:solidFill>
                <a:srgbClr val="6e6e6f"/>
              </a:solidFill>
              <a:latin typeface="Verdana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539640" y="3284640"/>
          <a:ext cx="7848720" cy="3147840"/>
        </p:xfrm>
        <a:graphic>
          <a:graphicData uri="http://schemas.openxmlformats.org/drawingml/2006/table">
            <a:tbl>
              <a:tblPr/>
              <a:tblGrid>
                <a:gridCol w="1247760"/>
                <a:gridCol w="1344600"/>
                <a:gridCol w="1152720"/>
                <a:gridCol w="1511280"/>
                <a:gridCol w="1224000"/>
                <a:gridCol w="1368360"/>
              </a:tblGrid>
              <a:tr h="64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Austria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Spain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Portugal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Italy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Greece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</a:tr>
              <a:tr h="116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Males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1.56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1.32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1.55*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66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2.25**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75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2.22*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92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1.56**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56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Females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01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1.30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1.36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73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1.23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1.02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2.33*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1.08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0.05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66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2247840" y="1784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1943280"/>
            <a:ext cx="79930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Verdana"/>
              </a:rPr>
              <a:t>OLS results for determinants of log body mass index, percent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Verdana"/>
              </a:rPr>
              <a:t>Possession of a </a:t>
            </a:r>
            <a:r>
              <a:rPr b="1" lang="en-GB" sz="2000" spc="-1" strike="noStrike">
                <a:solidFill>
                  <a:srgbClr val="6e6e6f"/>
                </a:solidFill>
                <a:latin typeface="Verdana"/>
              </a:rPr>
              <a:t>car</a:t>
            </a:r>
            <a:r>
              <a:rPr b="0" lang="en-GB" sz="2000" spc="-1" strike="noStrike">
                <a:solidFill>
                  <a:srgbClr val="6e6e6f"/>
                </a:solidFill>
                <a:latin typeface="Verdana"/>
              </a:rPr>
              <a:t> in the household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Verdana"/>
              </a:rPr>
              <a:t>Southern Europ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Times New Roman"/>
              </a:rPr>
              <a:t>OBESITY IN WESTERN EUROP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82000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Comments, effect of car possession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Males: Positive impact in all countries 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(significant in 6 out of 10)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Females: Positive impact in 3 countries (none significant)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Hypothesis, as most households in Europe only have one car: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The male mostly uses the car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As the female does not use the car as much as the male, 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the car has no detrimental effect on the weight of the female 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80800" y="836640"/>
            <a:ext cx="57531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e6e6f"/>
                </a:solidFill>
                <a:latin typeface="Times New Roman"/>
              </a:rPr>
              <a:t>OBESITY IN WESTERN EUROPE</a:t>
            </a:r>
            <a:endParaRPr b="0" lang="en-US" sz="1800" spc="-1" strike="noStrike">
              <a:solidFill>
                <a:srgbClr val="6e6e6f"/>
              </a:solidFill>
              <a:latin typeface="Verdan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79280" y="3429000"/>
          <a:ext cx="8785080" cy="2882880"/>
        </p:xfrm>
        <a:graphic>
          <a:graphicData uri="http://schemas.openxmlformats.org/drawingml/2006/table">
            <a:tbl>
              <a:tblPr/>
              <a:tblGrid>
                <a:gridCol w="1463400"/>
                <a:gridCol w="1416240"/>
                <a:gridCol w="1439640"/>
                <a:gridCol w="1584360"/>
                <a:gridCol w="1440000"/>
                <a:gridCol w="1441440"/>
              </a:tblGrid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Finland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Sweden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Denmark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Ireland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Belgium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</a:tr>
              <a:tr h="116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Males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1.85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1.07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1.89**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53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1.73*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74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64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86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1.50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84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</a:tr>
              <a:tr h="116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Females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0.77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1.26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2.15**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62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3.18**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94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1.74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1.10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97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91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"/>
          <p:cNvSpPr/>
          <p:nvPr/>
        </p:nvSpPr>
        <p:spPr>
          <a:xfrm>
            <a:off x="2247840" y="1784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539640" y="1943280"/>
            <a:ext cx="79930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Verdana"/>
              </a:rPr>
              <a:t>OLS results for determinants of log body mass index, percent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Verdana"/>
              </a:rPr>
              <a:t>Possession of a </a:t>
            </a:r>
            <a:r>
              <a:rPr b="1" lang="en-GB" sz="2000" spc="-1" strike="noStrike">
                <a:solidFill>
                  <a:srgbClr val="6e6e6f"/>
                </a:solidFill>
                <a:latin typeface="Verdana"/>
              </a:rPr>
              <a:t>microwave oven </a:t>
            </a:r>
            <a:r>
              <a:rPr b="0" lang="en-GB" sz="2000" spc="-1" strike="noStrike">
                <a:solidFill>
                  <a:srgbClr val="6e6e6f"/>
                </a:solidFill>
                <a:latin typeface="Verdana"/>
              </a:rPr>
              <a:t>in the household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Verdana"/>
              </a:rPr>
              <a:t>Northern Europ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80800" y="907920"/>
            <a:ext cx="57531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e6e6f"/>
                </a:solidFill>
                <a:latin typeface="Times New Roman"/>
              </a:rPr>
              <a:t>OBESITY IN WESTERN EUROPE</a:t>
            </a:r>
            <a:endParaRPr b="0" lang="en-US" sz="1800" spc="-1" strike="noStrike">
              <a:solidFill>
                <a:srgbClr val="6e6e6f"/>
              </a:solidFill>
              <a:latin typeface="Verdan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50920" y="3429000"/>
          <a:ext cx="8353440" cy="2562120"/>
        </p:xfrm>
        <a:graphic>
          <a:graphicData uri="http://schemas.openxmlformats.org/drawingml/2006/table">
            <a:tbl>
              <a:tblPr/>
              <a:tblGrid>
                <a:gridCol w="1536480"/>
                <a:gridCol w="1344600"/>
                <a:gridCol w="1295640"/>
                <a:gridCol w="1512720"/>
                <a:gridCol w="1224000"/>
                <a:gridCol w="144000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Austria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Spain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Portugal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Italy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Greece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</a:tr>
              <a:tr h="97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Males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2.62**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61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1.18**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44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0.20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58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32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36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0.09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52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Females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2.06**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76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0.53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50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0.11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70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0.63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43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1.06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67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2247840" y="1784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127" name=""/>
          <p:cNvSpPr/>
          <p:nvPr/>
        </p:nvSpPr>
        <p:spPr>
          <a:xfrm>
            <a:off x="539640" y="1943280"/>
            <a:ext cx="79930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Verdana"/>
              </a:rPr>
              <a:t>OLS results for determinants of log body mass index, percent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Verdana"/>
              </a:rPr>
              <a:t>Possession of a </a:t>
            </a:r>
            <a:r>
              <a:rPr b="1" lang="en-GB" sz="2000" spc="-1" strike="noStrike">
                <a:solidFill>
                  <a:srgbClr val="6e6e6f"/>
                </a:solidFill>
                <a:latin typeface="Verdana"/>
              </a:rPr>
              <a:t>microwave oven</a:t>
            </a:r>
            <a:r>
              <a:rPr b="0" lang="en-GB" sz="2000" spc="-1" strike="noStrike">
                <a:solidFill>
                  <a:srgbClr val="6e6e6f"/>
                </a:solidFill>
                <a:latin typeface="Verdana"/>
              </a:rPr>
              <a:t> in the household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Verdana"/>
              </a:rPr>
              <a:t>Southern Europ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Times New Roman"/>
              </a:rPr>
              <a:t>OBESITY IN WESTERN EUROP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82000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Comments, effect of possession of a micro wave oven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Northern Europe: Positive and significant effect on weight 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for both males and females in 4 out of 6 countries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Southern Europe: No effect in 3 out of 4 countries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(only a positive and significant effect for Spanish 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males)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Hypothesis: different use of the micro wave oven, for exampl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Northern Europe: Used to heat ready prepared food 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Southern Europe: Heat milk for cappuccino 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80800" y="836640"/>
            <a:ext cx="57531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e6e6f"/>
                </a:solidFill>
                <a:latin typeface="Times New Roman"/>
              </a:rPr>
              <a:t>OBESITY IN WESTERN EUROPE</a:t>
            </a:r>
            <a:endParaRPr b="0" lang="en-US" sz="1800" spc="-1" strike="noStrike">
              <a:solidFill>
                <a:srgbClr val="6e6e6f"/>
              </a:solidFill>
              <a:latin typeface="Verdan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79280" y="3429000"/>
          <a:ext cx="8785080" cy="2882880"/>
        </p:xfrm>
        <a:graphic>
          <a:graphicData uri="http://schemas.openxmlformats.org/drawingml/2006/table">
            <a:tbl>
              <a:tblPr/>
              <a:tblGrid>
                <a:gridCol w="1463400"/>
                <a:gridCol w="1416240"/>
                <a:gridCol w="1439640"/>
                <a:gridCol w="1584360"/>
                <a:gridCol w="1440000"/>
                <a:gridCol w="1441440"/>
              </a:tblGrid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Finland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Sweden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Denmark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Ireland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Belgium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</a:tr>
              <a:tr h="116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Males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0.46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76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05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49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0.34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88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0.72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66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0.77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77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</a:tr>
              <a:tr h="116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Females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1.04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85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1.79**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58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1.74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1.17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0.48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76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2.11*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83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2247840" y="1784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539640" y="1943280"/>
            <a:ext cx="79930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Verdana"/>
              </a:rPr>
              <a:t>OLS results for determinants of log body mass index, percent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Verdana"/>
              </a:rPr>
              <a:t>Possession of a </a:t>
            </a:r>
            <a:r>
              <a:rPr b="1" lang="en-GB" sz="2000" spc="-1" strike="noStrike">
                <a:solidFill>
                  <a:srgbClr val="6e6e6f"/>
                </a:solidFill>
                <a:latin typeface="Verdana"/>
              </a:rPr>
              <a:t>dishwasher </a:t>
            </a:r>
            <a:r>
              <a:rPr b="0" lang="en-GB" sz="2000" spc="-1" strike="noStrike">
                <a:solidFill>
                  <a:srgbClr val="6e6e6f"/>
                </a:solidFill>
                <a:latin typeface="Verdana"/>
              </a:rPr>
              <a:t>in the household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Verdana"/>
              </a:rPr>
              <a:t>Northern Europ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80800" y="907920"/>
            <a:ext cx="57531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e6e6f"/>
                </a:solidFill>
                <a:latin typeface="Times New Roman"/>
              </a:rPr>
              <a:t>OBESITY IN WESTERN EUROPE</a:t>
            </a:r>
            <a:endParaRPr b="0" lang="en-US" sz="1800" spc="-1" strike="noStrike">
              <a:solidFill>
                <a:srgbClr val="6e6e6f"/>
              </a:solidFill>
              <a:latin typeface="Verdan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50920" y="3429000"/>
          <a:ext cx="8642160" cy="2562120"/>
        </p:xfrm>
        <a:graphic>
          <a:graphicData uri="http://schemas.openxmlformats.org/drawingml/2006/table">
            <a:tbl>
              <a:tblPr/>
              <a:tblGrid>
                <a:gridCol w="1536480"/>
                <a:gridCol w="1344600"/>
                <a:gridCol w="1511280"/>
                <a:gridCol w="1513080"/>
                <a:gridCol w="1440000"/>
                <a:gridCol w="129672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Austria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Spain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Portugal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Italy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Greece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Males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1.22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68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1.80**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49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1.20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68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0.71*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35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0.14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44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Females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0.93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77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2.38**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51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1.18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79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1.89**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45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0.25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60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2247840" y="1784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539640" y="1943280"/>
            <a:ext cx="79930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Verdana"/>
              </a:rPr>
              <a:t>OLS results for determinants of log body mass index, percent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Verdana"/>
              </a:rPr>
              <a:t>Possession of a </a:t>
            </a:r>
            <a:r>
              <a:rPr b="1" lang="en-GB" sz="2000" spc="-1" strike="noStrike">
                <a:solidFill>
                  <a:srgbClr val="6e6e6f"/>
                </a:solidFill>
                <a:latin typeface="Verdana"/>
              </a:rPr>
              <a:t>dishwasher</a:t>
            </a:r>
            <a:r>
              <a:rPr b="0" lang="en-GB" sz="2000" spc="-1" strike="noStrike">
                <a:solidFill>
                  <a:srgbClr val="6e6e6f"/>
                </a:solidFill>
                <a:latin typeface="Verdana"/>
              </a:rPr>
              <a:t> in the household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Verdana"/>
              </a:rPr>
              <a:t>Southern Europ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Times New Roman"/>
              </a:rPr>
              <a:t>OBESITY IN WESTERN EUROP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8200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Comments, effect of possession of a dishwasher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18 out of 20 coefficients are negativ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6 coefficients are significantly negative 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Fact: a dishwasher is an extremely time saving devic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Washing up by hand after a family of 4 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takes often more than ½ hour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This time could be used for something els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Hypothesis: the time saved is used on something that reduces 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weight problems (for example making food instead of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warming up ready prepared food)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Times New Roman"/>
              </a:rPr>
              <a:t>OBESITY IN WESTERN EUROP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1160" y="1943280"/>
            <a:ext cx="6438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Aim of paper: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Economic and econometric analysis of 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overweight and 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extreme overweight (obesity)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in Western Europ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Measure of weight: Body mass index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BMI = weight in kilo/(height in meters)</a:t>
            </a:r>
            <a:r>
              <a:rPr b="0" lang="en-US" sz="2000" spc="-1" strike="noStrike" baseline="30000">
                <a:solidFill>
                  <a:srgbClr val="6e6e6f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80800" y="836640"/>
            <a:ext cx="57531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e6e6f"/>
                </a:solidFill>
                <a:latin typeface="Times New Roman"/>
              </a:rPr>
              <a:t>OBESITY IN WESTERN EUROPE</a:t>
            </a:r>
            <a:endParaRPr b="0" lang="en-US" sz="1800" spc="-1" strike="noStrike">
              <a:solidFill>
                <a:srgbClr val="6e6e6f"/>
              </a:solidFill>
              <a:latin typeface="Verdana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79280" y="3429000"/>
          <a:ext cx="8785080" cy="2882880"/>
        </p:xfrm>
        <a:graphic>
          <a:graphicData uri="http://schemas.openxmlformats.org/drawingml/2006/table">
            <a:tbl>
              <a:tblPr/>
              <a:tblGrid>
                <a:gridCol w="1463400"/>
                <a:gridCol w="1416240"/>
                <a:gridCol w="1439640"/>
                <a:gridCol w="1584360"/>
                <a:gridCol w="1440000"/>
                <a:gridCol w="1441440"/>
              </a:tblGrid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Finland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Sweden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Denmark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Ireland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Belgium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</a:tr>
              <a:tr h="116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Males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1.02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79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0.34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62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0.62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1.05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1.17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82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0.35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98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</a:tr>
              <a:tr h="116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Females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2.30**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78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1.45**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54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2.84**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1.05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10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82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94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80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2247840" y="1784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1943280"/>
            <a:ext cx="79930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Verdana"/>
              </a:rPr>
              <a:t>OLS results for determinants of log body mass index, percent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e6e6f"/>
                </a:solidFill>
                <a:latin typeface="Verdana"/>
              </a:rPr>
              <a:t>Not working fulltim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Verdana"/>
              </a:rPr>
              <a:t>Northern Europ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80800" y="907920"/>
            <a:ext cx="57531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e6e6f"/>
                </a:solidFill>
                <a:latin typeface="Times New Roman"/>
              </a:rPr>
              <a:t>OBESITY IN WESTERN EUROPE</a:t>
            </a:r>
            <a:endParaRPr b="0" lang="en-US" sz="1800" spc="-1" strike="noStrike">
              <a:solidFill>
                <a:srgbClr val="6e6e6f"/>
              </a:solidFill>
              <a:latin typeface="Verdan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250920" y="3429000"/>
          <a:ext cx="8642160" cy="2562120"/>
        </p:xfrm>
        <a:graphic>
          <a:graphicData uri="http://schemas.openxmlformats.org/drawingml/2006/table">
            <a:tbl>
              <a:tblPr/>
              <a:tblGrid>
                <a:gridCol w="1536480"/>
                <a:gridCol w="1344600"/>
                <a:gridCol w="1511280"/>
                <a:gridCol w="1513080"/>
                <a:gridCol w="1440000"/>
                <a:gridCol w="129672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Austria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Spain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Portugal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Italy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Greece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Males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0.81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79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1.11*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54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1.67*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65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0.89*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41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1.11*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51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Females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0.63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68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1.27*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51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1.17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77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0.04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42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73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50)</a:t>
                      </a:r>
                      <a:r>
                        <a:rPr b="0" lang="da-DK" sz="2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"/>
          <p:cNvSpPr/>
          <p:nvPr/>
        </p:nvSpPr>
        <p:spPr>
          <a:xfrm>
            <a:off x="2247840" y="1784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147" name=""/>
          <p:cNvSpPr/>
          <p:nvPr/>
        </p:nvSpPr>
        <p:spPr>
          <a:xfrm>
            <a:off x="539640" y="1943280"/>
            <a:ext cx="79930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Verdana"/>
              </a:rPr>
              <a:t>OLS results for determinants of log body mass index, percent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e6e6f"/>
                </a:solidFill>
                <a:latin typeface="Verdana"/>
              </a:rPr>
              <a:t>Not working fulltim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Verdana"/>
              </a:rPr>
              <a:t>Southern Europ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Times New Roman"/>
              </a:rPr>
              <a:t>OBESITY IN WESTERN EUROP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8200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Comments, effect of not working full time: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Males: The coefficients are negative for all countries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(significantly negative in the 4 Southern European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countries)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Females: Mixed results 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3 positive and significant coefficients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1 negative and significant coefficient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Hypothesis: Males, who do not work full time, do not face as tight 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time constraints as males working full tim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80800" y="836640"/>
            <a:ext cx="57531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Times New Roman"/>
              </a:rPr>
              <a:t>OBESITY IN WESTERN EUROP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151" name=""/>
          <p:cNvSpPr/>
          <p:nvPr/>
        </p:nvSpPr>
        <p:spPr>
          <a:xfrm>
            <a:off x="395280" y="1700280"/>
            <a:ext cx="79930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Verdana"/>
              </a:rPr>
              <a:t>Quantile, OLS and IV regressions results 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Verdana"/>
              </a:rPr>
              <a:t>for the determinants of log body mass index,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e6e6f"/>
                </a:solidFill>
                <a:latin typeface="Verdana"/>
              </a:rPr>
              <a:t>males</a:t>
            </a:r>
            <a:r>
              <a:rPr b="0" lang="en-GB" sz="2000" spc="-1" strike="noStrike">
                <a:solidFill>
                  <a:srgbClr val="6e6e6f"/>
                </a:solidFill>
                <a:latin typeface="Verdana"/>
              </a:rPr>
              <a:t>, percent</a:t>
            </a:r>
            <a:r>
              <a:rPr b="0" lang="da-DK" sz="1600" spc="-1" strike="noStrike">
                <a:solidFill>
                  <a:srgbClr val="6e6e6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250920" y="2852640"/>
          <a:ext cx="8713800" cy="3645000"/>
        </p:xfrm>
        <a:graphic>
          <a:graphicData uri="http://schemas.openxmlformats.org/drawingml/2006/table">
            <a:tbl>
              <a:tblPr/>
              <a:tblGrid>
                <a:gridCol w="1098360"/>
                <a:gridCol w="906480"/>
                <a:gridCol w="1155600"/>
                <a:gridCol w="1081440"/>
                <a:gridCol w="1157040"/>
                <a:gridCol w="1077840"/>
                <a:gridCol w="1003320"/>
                <a:gridCol w="1233720"/>
              </a:tblGrid>
              <a:tr h="69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BMI=20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BMI=20.5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BMI= 25 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BMI=27.5 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BMI=30 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OLS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IV-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regression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</a:tr>
              <a:tr h="69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Car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3.84**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55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2.73**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23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2.01**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20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1.53**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25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56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40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2.01**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21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13.26*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5.57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Micro-wave 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oven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76*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38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67**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18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56**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14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97**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17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1.38**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28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85**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14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25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37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</a:tr>
              <a:tr h="69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Dish-washer 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0.44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35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0.43*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19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0.64**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16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0.89**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20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1.03**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25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0.67**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14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1.50**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50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Not fulltime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worker  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2.34**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38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1.41**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20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0.93**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17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0.67**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21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0.02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28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0.88**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16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10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50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Times New Roman"/>
              </a:rPr>
              <a:t>OBESITY IN WESTERN EUROP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154" name=""/>
          <p:cNvSpPr/>
          <p:nvPr/>
        </p:nvSpPr>
        <p:spPr>
          <a:xfrm>
            <a:off x="395280" y="1700280"/>
            <a:ext cx="79930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Verdana"/>
              </a:rPr>
              <a:t>Quantile, OLS and IV regressions results 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Verdana"/>
              </a:rPr>
              <a:t>for the determinants of log body mass index,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e6e6f"/>
                </a:solidFill>
                <a:latin typeface="Verdana"/>
              </a:rPr>
              <a:t>females</a:t>
            </a:r>
            <a:r>
              <a:rPr b="0" lang="en-GB" sz="2000" spc="-1" strike="noStrike">
                <a:solidFill>
                  <a:srgbClr val="6e6e6f"/>
                </a:solidFill>
                <a:latin typeface="Verdana"/>
              </a:rPr>
              <a:t>, percent</a:t>
            </a:r>
            <a:r>
              <a:rPr b="0" lang="da-DK" sz="1600" spc="-1" strike="noStrike">
                <a:solidFill>
                  <a:srgbClr val="6e6e6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250920" y="2924280"/>
          <a:ext cx="8137440" cy="3644640"/>
        </p:xfrm>
        <a:graphic>
          <a:graphicData uri="http://schemas.openxmlformats.org/drawingml/2006/table">
            <a:tbl>
              <a:tblPr/>
              <a:tblGrid>
                <a:gridCol w="936360"/>
                <a:gridCol w="936720"/>
                <a:gridCol w="1079640"/>
                <a:gridCol w="1008000"/>
                <a:gridCol w="1081080"/>
                <a:gridCol w="1008000"/>
                <a:gridCol w="935280"/>
                <a:gridCol w="1152360"/>
              </a:tblGrid>
              <a:tr h="69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BMI=20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BMI=20.5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BMI= 25 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BMI=27.5 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BMI=30 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OLS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IV-regression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</a:tr>
              <a:tr h="69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Car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83**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24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83**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24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0.55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28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1.32**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44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1.91**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48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0.42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24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13.67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8.51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Micro-wave 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oven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16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18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30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17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24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26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19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28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40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36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32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17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0.47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54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</a:tr>
              <a:tr h="69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Dish-washer 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0.85**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19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1.36**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17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1.49**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20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1.84**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27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2.06**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44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1.37**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17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2.61**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89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Not fulltime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worker  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-0.25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16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37*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18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79**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21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1.28**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24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1.57**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32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57**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15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94**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30)</a:t>
                      </a:r>
                      <a:r>
                        <a:rPr b="0" lang="da-DK" sz="14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Times New Roman"/>
              </a:rPr>
              <a:t>OBESITY IN WESTERN EUROP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3640" y="1699920"/>
            <a:ext cx="799308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Potential endogeneity problem, car possession: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Fat persons might buy a car because they are fat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Instrument applied in the paper: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Population density of residence (3 categories)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Assumption: Residence does not directly affect BMI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Times New Roman"/>
              </a:rPr>
              <a:t>OBESITY IN WESTERN EUROP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77756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Times New Roman"/>
              </a:rPr>
              <a:t>OBESITY IN WESTERN EUROP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835344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Times New Roman"/>
              </a:rPr>
              <a:t>OBESITY IN WESTERN EUROP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395280" y="1773360"/>
          <a:ext cx="8064360" cy="4608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773360"/>
                    <a:ext cx="806436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Times New Roman"/>
              </a:rPr>
              <a:t>OBESITY IN WESTERN EUROP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784872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Times New Roman"/>
              </a:rPr>
              <a:t>OBESITY IN WESTERN EUROP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26560" y="1700280"/>
            <a:ext cx="720756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Idea: Analyze factors which affect energy balance 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intake of calories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spending of calories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Time use of importance?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Durable consumer goods which affect time use: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Cars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Microwave ovens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Dishwashers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Formal modeling: Becker’s analysis of time us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Extension: Take preferences of weight into account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Deviations from preferred weight enter into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the utility of the agents 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Times New Roman"/>
              </a:rPr>
              <a:t>OBESITY IN WESTERN EUROP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26560" y="1700280"/>
            <a:ext cx="720756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Data: European Community Household Panel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Questions about weight and height 1998-2001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10 Western European countries: 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       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5.500 to 21.500 males in each country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ditto for females 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Pooled sample: about 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107.000 males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105.000 females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Times New Roman"/>
              </a:rPr>
              <a:t>OBESITY IN WESTERN EUROP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26560" y="1700280"/>
            <a:ext cx="79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Econometric analysis: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OLS results for each country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Measures the impact of covariates on average BMI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Quantile regression for pooled sampl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Measures the impact of covariates on different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quantiles of the weight distribution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Instrument analysis, potential endogeneity problem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2SLS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instrumental quantile regression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Times New Roman"/>
              </a:rPr>
              <a:t>OBESITY IN WESTERN EUROP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26560" y="1700280"/>
            <a:ext cx="792180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Conditioning variables, not included in presentation: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Children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Living alon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Spouse not working fulltim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Education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Smoking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Incom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Ag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Year dummies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80800" y="836640"/>
            <a:ext cx="57531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e6e6f"/>
                </a:solidFill>
                <a:latin typeface="Times New Roman"/>
              </a:rPr>
              <a:t>OBESITY IN WESTERN EUROPE</a:t>
            </a:r>
            <a:endParaRPr b="0" lang="en-US" sz="18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2247840" y="1784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96" name=""/>
          <p:cNvSpPr/>
          <p:nvPr/>
        </p:nvSpPr>
        <p:spPr>
          <a:xfrm>
            <a:off x="539640" y="1700280"/>
            <a:ext cx="785016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Verdana"/>
              </a:rPr>
              <a:t>Summary statistics, Males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Verdana"/>
              </a:rPr>
              <a:t>Northern Europ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24000" y="2708280"/>
          <a:ext cx="8280360" cy="3451320"/>
        </p:xfrm>
        <a:graphic>
          <a:graphicData uri="http://schemas.openxmlformats.org/drawingml/2006/table">
            <a:tbl>
              <a:tblPr/>
              <a:tblGrid>
                <a:gridCol w="1944360"/>
                <a:gridCol w="1140120"/>
                <a:gridCol w="1206360"/>
                <a:gridCol w="1407960"/>
                <a:gridCol w="1206720"/>
                <a:gridCol w="1374840"/>
              </a:tblGrid>
              <a:tr h="50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Finland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Sweden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Denmark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Ireland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Belgium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an of BMI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25.787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38)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25.462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45)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25.327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47)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25.578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42)</a:t>
                      </a:r>
                      <a:r>
                        <a:rPr b="0" lang="da-DK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25.320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51)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hare of overweight (BMI 25+)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536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05)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512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07)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483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07)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531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06)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481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06)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hare of obese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BMI 30+)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117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03)</a:t>
                      </a:r>
                      <a:r>
                        <a:rPr b="0" lang="da-DK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095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04)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094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04)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089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03)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110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04)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0800" y="836640"/>
            <a:ext cx="57531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e6e6f"/>
                </a:solidFill>
                <a:latin typeface="Times New Roman"/>
              </a:rPr>
              <a:t>OBESITY IN WESTERN EUROPE</a:t>
            </a:r>
            <a:endParaRPr b="0" lang="en-US" sz="18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2247840" y="1784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539640" y="1700280"/>
            <a:ext cx="785016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Verdana"/>
              </a:rPr>
              <a:t>Summary statistics, Males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Verdana"/>
              </a:rPr>
              <a:t>Southern Europ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24000" y="2708280"/>
          <a:ext cx="8280360" cy="3451320"/>
        </p:xfrm>
        <a:graphic>
          <a:graphicData uri="http://schemas.openxmlformats.org/drawingml/2006/table">
            <a:tbl>
              <a:tblPr/>
              <a:tblGrid>
                <a:gridCol w="1944360"/>
                <a:gridCol w="1140120"/>
                <a:gridCol w="1206360"/>
                <a:gridCol w="1407960"/>
                <a:gridCol w="1206720"/>
                <a:gridCol w="1374840"/>
              </a:tblGrid>
              <a:tr h="50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Austria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Spain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Portugal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Italy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Greece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an of BMI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25.698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39)</a:t>
                      </a:r>
                      <a:r>
                        <a:rPr b="0" lang="da-DK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25.928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29)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25.581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28)</a:t>
                      </a:r>
                      <a:r>
                        <a:rPr b="0" lang="da-DK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25.229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23)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26.125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31)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hare of overweight (BMI 25+)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529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05)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555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04)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528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04)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467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03)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609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04)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hare of obese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BMI 30+)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111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03)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129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03)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091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02)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081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02)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101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03)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80800" y="836640"/>
            <a:ext cx="57531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e6e6f"/>
                </a:solidFill>
                <a:latin typeface="Times New Roman"/>
              </a:rPr>
              <a:t>OBESITY IN WESTERN EUROPE</a:t>
            </a:r>
            <a:endParaRPr b="0" lang="en-US" sz="18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2247840" y="1784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539640" y="1700280"/>
            <a:ext cx="785016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Verdana"/>
              </a:rPr>
              <a:t>Summary statistics, Females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6e6f"/>
                </a:solidFill>
                <a:latin typeface="Verdana"/>
              </a:rPr>
              <a:t>Northern Europ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24000" y="2708280"/>
          <a:ext cx="8280360" cy="3451320"/>
        </p:xfrm>
        <a:graphic>
          <a:graphicData uri="http://schemas.openxmlformats.org/drawingml/2006/table">
            <a:tbl>
              <a:tblPr/>
              <a:tblGrid>
                <a:gridCol w="1944360"/>
                <a:gridCol w="1140120"/>
                <a:gridCol w="1206360"/>
                <a:gridCol w="1407960"/>
                <a:gridCol w="1206720"/>
                <a:gridCol w="1374840"/>
              </a:tblGrid>
              <a:tr h="50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Finland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Sweden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Denmark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Ireland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Belgium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1368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an of BMI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24.622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46)</a:t>
                      </a:r>
                      <a:r>
                        <a:rPr b="0" lang="da-DK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24.134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52)</a:t>
                      </a:r>
                      <a:r>
                        <a:rPr b="0" lang="da-DK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23.985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55)</a:t>
                      </a:r>
                      <a:r>
                        <a:rPr b="0" lang="da-DK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24.195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52)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23.744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55)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hare of overweight (BMI 25+)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383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05)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332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06)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326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06)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345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06)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296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06)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5760">
                      <a:solidFill>
                        <a:srgbClr val="6e6e6f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hare of obese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BMI 30+)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122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03)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082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04)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087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04)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089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04)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576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0.088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(0.003)</a:t>
                      </a:r>
                      <a:r>
                        <a:rPr b="0" lang="da-DK" sz="2000" spc="-1" strike="noStrike">
                          <a:solidFill>
                            <a:srgbClr val="6e6e6f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6e6e6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6e6e6f"/>
                      </a:solidFill>
                    </a:lnL>
                    <a:lnR w="13680">
                      <a:solidFill>
                        <a:srgbClr val="6e6e6f"/>
                      </a:solidFill>
                    </a:lnR>
                    <a:lnT w="5760">
                      <a:solidFill>
                        <a:srgbClr val="6e6e6f"/>
                      </a:solidFill>
                    </a:lnT>
                    <a:lnB w="13680">
                      <a:solidFill>
                        <a:srgbClr val="6e6e6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5T13:21:13Z</dcterms:created>
  <dc:creator>install</dc:creator>
  <dc:description/>
  <dc:language>en-US</dc:language>
  <cp:lastModifiedBy>diemar</cp:lastModifiedBy>
  <dcterms:modified xsi:type="dcterms:W3CDTF">2006-10-25T19:48:01Z</dcterms:modified>
  <cp:revision>94</cp:revision>
  <dc:subject/>
  <dc:title>TIME CONSTRAINTS, DURABLE CONSUMER GOODS AND  THE PREVALENCE OF OBESITY IN WESTERN EUROPE </dc:title>
</cp:coreProperties>
</file>