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C849C1-A67B-4A18-AFA7-DCDD18D42FF3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DE39BB-6F42-4BD2-B1FD-32A7914E6BE4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07920" y="47181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37C-2DD1-45AB-A9D1-EB789742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97C-5FCA-4E87-B57C-4BD4F72F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FD0-935E-4879-B3F5-DE978567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0C0-308C-4923-92E5-CF8C7E23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191-9380-4FF0-858A-72572531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F07-4F1B-4C82-B1C2-C7F83F16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E37-9B5F-46B4-819D-A4BFE509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529-299B-4832-B2E7-DD3EA9B0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EEA-8233-43D7-9CAE-C057D185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3D0-F565-4714-A7B3-0E573284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CD0-0659-462D-A0EA-589339D7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5CB-B4F3-4DF3-8B5D-099AEE7D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7EB3-C678-4028-AA0C-9DBCAC0826D4}" type="slidenum"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7400" y="1481040"/>
            <a:ext cx="79740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MetaNormalLF-Roman"/>
              </a:rPr>
              <a:t>Social Connections and Incentives in the Workplace: Evidence from Personnel Data</a:t>
            </a: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MetaNormalLF-Roman"/>
              </a:rPr>
              <a:t>by</a:t>
            </a: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MetaNormalLF-Roman"/>
              </a:rPr>
              <a:t>Oriana Bandiera, Iwan Barankay, and Imran Rasu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8800" y="2765160"/>
            <a:ext cx="748044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Comments b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Thomas Zwick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Centre for European Economic Research (ZEW) Mannheim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MetaNormalLF-Roman"/>
              </a:rPr>
              <a:t>3rd Conference on Evaluation Research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27/28 October 2006, Mannheim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92080" y="2124000"/>
            <a:ext cx="695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Impact of social connections on manager and employee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Does this impact change if managers get incentive w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Which implications do social connections have for enterprise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Clear causal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MetaNormalLF-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742-5574-4E27-ACB5-F0D21138A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MetaNormalLF-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Managerial decisions are shaped by social connections with their subordinates and their monetary incentives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Favoritism may be suboptimal for firm productivity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Higher incentives for managers decrease favoritism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3A6-7DC6-4101-9944-796CBF946F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55520" y="1469880"/>
            <a:ext cx="77425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Impressive example for insider econo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Very well written, especially careful in the derivation of the theoretical hypotheses and test of rival empirical expla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Use of a perfect natural experiment by estimating difference in differ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MetaNormalLF-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A21-09DA-4EE5-91DE-32BF0A124D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MetaNormalLF-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9120" y="1469880"/>
            <a:ext cx="79516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Gener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Central covariates (share of socially connected workers) are possibly jointly affected on the level of the group and not individual – cluster on group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Does change from fixed wages to performance pay increase average produc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Negative impact of arrival cohort on productivity (continuous variable) after performance bonus for managers (Table A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Is there an effect of social connections </a:t>
            </a:r>
            <a:r>
              <a:rPr b="0" i="1" lang="de-DE" sz="2800" spc="-1" strike="noStrike">
                <a:solidFill>
                  <a:srgbClr val="000000"/>
                </a:solidFill>
                <a:latin typeface="MetaNormalLF-Roman"/>
              </a:rPr>
              <a:t>between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 work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BE1-C7BD-4398-8954-2769A06A5F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SO</cp:lastModifiedBy>
  <dcterms:modified xsi:type="dcterms:W3CDTF">2006-10-27T08:08:51Z</dcterms:modified>
  <cp:revision>254</cp:revision>
  <dc:subject/>
  <dc:title>PowerPoint-Präsentation</dc:title>
</cp:coreProperties>
</file>