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78384E-21C3-423F-9B1B-8BA9BE96F9FA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AB66F9-EB8A-4E6F-96BF-A6AE40D3CA4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07920" y="47181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A29-85E5-4385-8F41-ED334E91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1E2-A26F-4812-A59C-52FE8546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80E-5DD0-480C-B849-1196E448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FE7-4F30-4D40-9418-6481F4A5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285-D0EF-4A18-B174-7E6B165A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D4E-3A98-4790-8858-7276BC6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1B8-447B-4D1F-A8D2-DA3E0F37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C04-5D2D-4E55-8C47-A11B22F3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B99-705B-495B-8579-FF33C3AF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F68-E230-49BB-AF12-F0C6BC5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165-C878-4507-8062-1C1946DA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A7F-1FB1-4ED4-A883-816BCCF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7C18-0030-4FAD-A08E-7A0BECE44332}" type="slidenum"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7400" y="1481040"/>
            <a:ext cx="79740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333399"/>
                </a:solidFill>
                <a:latin typeface="MetaNormalLF-Roman"/>
              </a:rPr>
              <a:t>Social Connections and Incentives in the Workplace: Evidence from Personnel Data</a:t>
            </a:r>
            <a:br>
              <a:rPr sz="2800"/>
            </a:br>
            <a:r>
              <a:rPr b="1" lang="de-DE" sz="2800" spc="-1" strike="noStrike">
                <a:solidFill>
                  <a:srgbClr val="333399"/>
                </a:solidFill>
                <a:latin typeface="MetaNormalLF-Roman"/>
              </a:rPr>
              <a:t>by</a:t>
            </a:r>
            <a:br>
              <a:rPr sz="2800"/>
            </a:br>
            <a:r>
              <a:rPr b="1" lang="de-DE" sz="2800" spc="-1" strike="noStrike">
                <a:solidFill>
                  <a:srgbClr val="333399"/>
                </a:solidFill>
                <a:latin typeface="MetaNormalLF-Roman"/>
              </a:rPr>
              <a:t>Oriana Bandiera, Iwan Barankay, and Imran Rasu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8800" y="2765160"/>
            <a:ext cx="748044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Comments b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Thomas Zwick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Centre for European Economic Research (ZEW) Mannheim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MetaNormalLF-Roman"/>
              </a:rPr>
              <a:t>3rd Conference on Evaluation Research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27/28 October 2006, Mannheim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92080" y="2124000"/>
            <a:ext cx="695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Impact of social connections on manager and employee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Does this impact change if managers get incentive w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Which implications do social connections have for enterprise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Clear causal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MetaNormalLF-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81A-059A-49EC-BFDA-59F23F5D73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MetaNormalLF-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Managerial decisions are shaped by social connections with their subordinates and their monetary incentives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Favoritism may be suboptimal for firm productivity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Higher incentives for managers decrease favoritism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809-D02E-453B-A5BE-8D2BD092C8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55520" y="1469880"/>
            <a:ext cx="77425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Impressive example for insider econo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Very well written, especially careful in the derivation of the theoretical hypotheses and test of rival empirical expla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Use of a perfect natural experiment by estimating difference in differe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MetaNormalLF-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C99-020E-46B0-AA1F-6847C2BDF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MetaNormalLF-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9120" y="1469880"/>
            <a:ext cx="79516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Gener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Central covariates (share of socially connected workers) are possibly jointly affected on the level of the group and not individual – cluster on group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Does change from fixed wages to performance pay increase average producti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Negative impact of arrival cohort on productivity (continuous variable) after performance bonus for managers (Table A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Is there an effect of social connections </a:t>
            </a:r>
            <a:r>
              <a:rPr b="0" i="1" lang="de-DE" sz="2800" spc="-1" strike="noStrike">
                <a:solidFill>
                  <a:srgbClr val="000000"/>
                </a:solidFill>
                <a:latin typeface="MetaNormalLF-Roman"/>
              </a:rPr>
              <a:t>between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 work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95C-CDCC-481E-B419-D43EB441BE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SO</cp:lastModifiedBy>
  <dcterms:modified xsi:type="dcterms:W3CDTF">2006-10-27T08:08:51Z</dcterms:modified>
  <cp:revision>254</cp:revision>
  <dc:subject/>
  <dc:title>PowerPoint-Präsentation</dc:title>
</cp:coreProperties>
</file>