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94E758-1727-4969-9AA5-1E85C33377AD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3D75C0-7887-4F8A-B9F7-06E04E08CE9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07920" y="47181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5DB-0862-4414-81EA-7DC3C8B0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794-4A36-49F5-9918-3EB9CB4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5D9-1141-4305-A199-C5123A2A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3E2-DA47-426F-B6A5-E02032AE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675-6708-426A-B847-61CE30A4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8EB-D453-43CA-AD46-AF381D9C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819-CB65-4904-B449-FAA7EB27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E60-7F23-40C3-9FF0-857DA7A9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9BD-5333-455F-971A-8160F01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562-9AE6-4022-98D3-9E392BB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27A-0581-4FEE-AC58-1975E60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974-33AE-4586-9BC8-2C81BF1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0E84-328B-4D36-8225-42D1926DEF94}" type="slidenum"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7400" y="1481040"/>
            <a:ext cx="79740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Social Connections and Incentives in the Workplace: Evidence from Personnel Data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by</a:t>
            </a:r>
            <a:br>
              <a:rPr sz="2800"/>
            </a:br>
            <a:r>
              <a:rPr b="1" lang="de-DE" sz="2800" spc="-1" strike="noStrike">
                <a:solidFill>
                  <a:srgbClr val="333399"/>
                </a:solidFill>
                <a:latin typeface="MetaNormalLF-Roman"/>
              </a:rPr>
              <a:t>Oriana Bandiera, Iwan Barankay, and Imran Rasu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8800" y="2765160"/>
            <a:ext cx="74804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omments b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Thomas Zwic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Centre for European Economic Research (ZEW)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27/28 October 2006, Mannheim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92080" y="2124000"/>
            <a:ext cx="695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act of social connections on manager and employee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this impact change if managers get incentive w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Which implications do social connections have for enterprise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lear causal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MetaNormalLF-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24B-5E27-4FDD-A335-4FBC1D804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Managerial decisions are shaped by social connections with their subordinates and their monetary incentiv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Favoritism may be suboptimal for firm productivity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Higher incentives for managers decrease favoritism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2E4-FA52-40F2-BBCB-E988F37CB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55520" y="1469880"/>
            <a:ext cx="77425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mpressive example for insider econ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Very well written, especially careful in the derivation of the theoretical hypotheses and test of rival empirical expla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Use of a perfect natural experiment by estimating difference in differ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16C-1692-4597-90B2-E4961FF577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3399"/>
                </a:solidFill>
                <a:latin typeface="MetaNormalLF-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9120" y="1469880"/>
            <a:ext cx="79516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Gener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Central covariates (share of socially connected workers) are possibly jointly affected on the level of the group and not individual – cluster on group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Does change from fixed wages to performance pay increase average produ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Negative impact of arrival cohort on productivity (continuous variable) after performance bonus for managers (Table A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Is there an effect of social connections </a:t>
            </a:r>
            <a:r>
              <a:rPr b="0" i="1" lang="de-DE" sz="2800" spc="-1" strike="noStrike">
                <a:solidFill>
                  <a:srgbClr val="000000"/>
                </a:solidFill>
                <a:latin typeface="MetaNormalLF-Roman"/>
              </a:rPr>
              <a:t>between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work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D93-476F-4CC2-BEDA-DF8CD0178B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7T08:08:51Z</dcterms:modified>
  <cp:revision>254</cp:revision>
  <dc:subject/>
  <dc:title>PowerPoint-Präsentation</dc:title>
</cp:coreProperties>
</file>