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868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096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6364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868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096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B8A-A320-4B35-9BDD-614876B8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7FC-1AC1-4EA3-8EE6-A5C1856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D6D-4FA0-4F3A-B40F-32654876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750-92DE-482A-98B3-0CDA310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9D9-5E3A-4C1A-A15E-D3C8992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6400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B9D-B1F2-41E8-A50B-9B47B56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80E-6183-439D-8274-07243B9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46C-4FD7-4E10-9418-DEFF3D5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371-2BDB-4644-8218-D50A303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152-B7FD-4A04-B5B4-9A7AE350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151-68EA-4ED7-9375-A9173124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868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96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6364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868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96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464-C98D-4769-B39A-FE8ED791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6400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975" t="0" r="0" b="0"/>
          <a:stretch/>
        </p:blipFill>
        <p:spPr>
          <a:xfrm>
            <a:off x="0" y="3673440"/>
            <a:ext cx="1901880" cy="2743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d7d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4008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Faculty of Economics and Business Administration</a:t>
            </a:r>
            <a:r>
              <a:rPr b="0" lang="de-DE" sz="12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	</a:t>
            </a:r>
            <a:r>
              <a:rPr b="0" lang="de-DE" sz="12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7920"/>
            <a:ext cx="9144000" cy="1152720"/>
          </a:xfrm>
          <a:prstGeom prst="rect">
            <a:avLst/>
          </a:prstGeom>
          <a:solidFill>
            <a:srgbClr val="cc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" name=""/>
          <p:cNvSpPr/>
          <p:nvPr/>
        </p:nvSpPr>
        <p:spPr>
          <a:xfrm>
            <a:off x="8229600" y="6416640"/>
            <a:ext cx="762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eridien Roman"/>
                <a:ea typeface="ＭＳ Ｐゴシック"/>
              </a:rPr>
              <a:t>Page </a:t>
            </a:r>
            <a:fld id="{79719233-E0E9-41DF-9DCB-5E7654CC24C4}" type="slidenum">
              <a:rPr b="0" lang="de-DE" sz="1000" spc="-1" strike="noStrike">
                <a:solidFill>
                  <a:srgbClr val="000000"/>
                </a:solidFill>
                <a:latin typeface="Meridien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77320" y="6400800"/>
            <a:ext cx="0" cy="15228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705720" y="225360"/>
            <a:ext cx="182880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7A7C-710C-4D76-9FCD-FCBEDE0A73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2610" b="0"/>
          <a:stretch/>
        </p:blipFill>
        <p:spPr>
          <a:xfrm>
            <a:off x="647640" y="1449360"/>
            <a:ext cx="8496360" cy="439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8012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28800" cy="72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6528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791320"/>
            <a:ext cx="9144000" cy="380880"/>
          </a:xfrm>
          <a:prstGeom prst="rect">
            <a:avLst/>
          </a:prstGeom>
          <a:solidFill>
            <a:srgbClr val="d7d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86188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60018"/>
                </a:solidFill>
                <a:latin typeface="Meridien Bold"/>
                <a:ea typeface="ＭＳ Ｐゴシック"/>
              </a:rPr>
              <a:t>www.wiwi.uni-frankfurt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48000" y="1376280"/>
            <a:ext cx="6588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eridien Bold"/>
              </a:rPr>
              <a:t>Discussion on: </a:t>
            </a:r>
            <a:br>
              <a:rPr sz="2000"/>
            </a:br>
            <a:r>
              <a:rPr b="1" lang="en-US" sz="2600" spc="-1" strike="noStrike">
                <a:solidFill>
                  <a:srgbClr val="000000"/>
                </a:solidFill>
                <a:latin typeface="Meridien Bold"/>
              </a:rPr>
              <a:t>Estimating the impact of a policy reform on welfare participation: The 2001 extension to the Minimum Income Guarantee for UK pensioners</a:t>
            </a:r>
            <a:br>
              <a:rPr sz="2600"/>
            </a:br>
            <a:r>
              <a:rPr b="1" lang="en-US" sz="2000" spc="-1" strike="noStrike">
                <a:solidFill>
                  <a:srgbClr val="000000"/>
                </a:solidFill>
                <a:latin typeface="Meridien Bold"/>
              </a:rPr>
              <a:t>presented by</a:t>
            </a:r>
            <a:r>
              <a:rPr b="1" lang="en-US" sz="2600" spc="-1" strike="noStrike">
                <a:solidFill>
                  <a:srgbClr val="000000"/>
                </a:solidFill>
                <a:latin typeface="Meridien Bold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Meridien Bold"/>
              </a:rPr>
              <a:t>Francesca Zantomio</a:t>
            </a:r>
            <a:endParaRPr b="0" lang="en-US" sz="26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rie Waller, Goethe University, CDSEM, Z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7840" y="1339920"/>
            <a:ext cx="75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luence of financial incentives on welfare tak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Income Guarantee aims at avoiding poverty among British pens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-tested income support scheme, to be cla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in 2001: Influence on take-up behaviour based on cross-sectional surve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ching on variables -&gt; increase in take-up rate about 9 percen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increase revealed by parametr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igation of poverty is an important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a specific aspect of the reform effects, insights on behaviour, important to know more how reforms tak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comparison to conventional parametric estimation convi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done very carefully, many potential problems are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1280" y="1628640"/>
            <a:ext cx="7453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main intention of the pap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you go further with the interpretation of your results (in line with your main inten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in inten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arn about behavioral changes and incentives: interpret your results in relation to the idea of utility maximization mentioned on p.1 and rationality concep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valuation of the reform itself: to what extend does the higher take-up rate reduce poverty of the elde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vince the reader of the non parametric approach, then you might want to put chapter 6 more in the centre of the pap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questions on the Family Resources Surv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sampling? Small number of eligible pensioners, could they per chance differ a lot from the year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ion of the interviews ove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severe is non-response for pensioners (in general and for example on assets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does the simulation of MIG entitlements work? MIG receivers that are not entitled according to simulation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7310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at does the estimate potentially capture using different nonparametric estima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tandard Roy-Rubin Setting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e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election into programme based on unobser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IG Reform, before-after comparison using panel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eral time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60018"/>
                </a:solidFill>
                <a:latin typeface="Arial"/>
              </a:rPr>
              <a:t>+ time effect due to one year later in life of individuals (as less savings 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233000"/>
            <a:ext cx="792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efore-after comparison using cross sectional data without matching (p.9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general time effect based on observables (as general pension increa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general time effect based on unobservables (as social attitud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cohort effect based on observables (as share of those with savings increa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cohort effect based on unobservables (as new cohorts better in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effect due to non ignorability of survey nonresponse conditional on ober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effect due to non ignorability of survey nonresponse conditional on un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+ effect due to different people in sample (random, but small sample) based on oberservab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(+ effect due to different people in sample (random, but small sample) based on unobservab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efore-after comparison using cross sectional data with matching (p.11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effect + </a:t>
            </a: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effects on unobservables (in b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in of matching depends on what is used as observed vari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, age group, martial status, disability, simulated MIG entitlements, enoug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ort effects, different people in sample, could you eliminate more by using more information  (and if necessary propensity score matching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do a similar before-after comparison for the publicity campaign May-November 2000? Compare financial incentive with advertising eff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9:55:12Z</dcterms:created>
  <dc:creator>Osikominu</dc:creator>
  <dc:description/>
  <dc:language>en-US</dc:language>
  <cp:lastModifiedBy>FSO</cp:lastModifiedBy>
  <dcterms:modified xsi:type="dcterms:W3CDTF">2006-10-26T10:55:47Z</dcterms:modified>
  <cp:revision>233</cp:revision>
  <dc:subject/>
  <dc:title>Folie 1</dc:title>
</cp:coreProperties>
</file>