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63640" y="386388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3600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8680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0960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6364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8680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0960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10C-1E47-4D41-9E28-13477B70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FE7-3B46-4295-ACA3-610040E9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163-CD50-4900-9893-327541BB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423-B9D9-4668-A4B2-0498CD61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78B-31D8-4518-91EE-8FFCFD81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6400800" cy="53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337-E2FF-4DAF-8E07-84A41827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097E-6BDB-45FE-9247-ECDF97DC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43600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79EA-9B9F-482D-96BB-B896EAF5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99D-0911-4599-8E64-B3A95CC0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63640" y="386388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A7C-7468-414C-AA0F-3B510C8F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3600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4555-16B9-41E8-AA87-446CFE25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18680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0960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76364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18680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0960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734-8D7C-4FEB-BBA0-199CC28E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6400800" cy="53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3600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8975" t="0" r="0" b="0"/>
          <a:stretch/>
        </p:blipFill>
        <p:spPr>
          <a:xfrm>
            <a:off x="0" y="3673440"/>
            <a:ext cx="1901880" cy="2743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d7d0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4008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760018"/>
                </a:solidFill>
                <a:latin typeface="Meridien Roman"/>
                <a:ea typeface="ＭＳ Ｐゴシック"/>
              </a:rPr>
              <a:t>Faculty of Economics and Business Administration</a:t>
            </a:r>
            <a:r>
              <a:rPr b="0" lang="de-DE" sz="1200" spc="-1" strike="noStrike">
                <a:solidFill>
                  <a:srgbClr val="760018"/>
                </a:solidFill>
                <a:latin typeface="Meridien Roman"/>
                <a:ea typeface="ＭＳ Ｐゴシック"/>
              </a:rPr>
              <a:t>	</a:t>
            </a:r>
            <a:r>
              <a:rPr b="0" lang="de-DE" sz="1200" spc="-1" strike="noStrike">
                <a:solidFill>
                  <a:srgbClr val="760018"/>
                </a:solidFill>
                <a:latin typeface="Meridien Roman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7920"/>
            <a:ext cx="9144000" cy="1152720"/>
          </a:xfrm>
          <a:prstGeom prst="rect">
            <a:avLst/>
          </a:prstGeom>
          <a:solidFill>
            <a:srgbClr val="cc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ridien Bold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6" name=""/>
          <p:cNvSpPr/>
          <p:nvPr/>
        </p:nvSpPr>
        <p:spPr>
          <a:xfrm>
            <a:off x="8229600" y="6416640"/>
            <a:ext cx="762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Meridien Roman"/>
                <a:ea typeface="ＭＳ Ｐゴシック"/>
              </a:rPr>
              <a:t>Page </a:t>
            </a:r>
            <a:fld id="{41F6A326-9CF0-472A-BFD9-2ED5360B7592}" type="slidenum">
              <a:rPr b="0" lang="de-DE" sz="1000" spc="-1" strike="noStrike">
                <a:solidFill>
                  <a:srgbClr val="000000"/>
                </a:solidFill>
                <a:latin typeface="Meridien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160640"/>
            <a:ext cx="9144000" cy="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077320" y="6400800"/>
            <a:ext cx="0" cy="15228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6705720" y="225360"/>
            <a:ext cx="182880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444F-DE8D-4FC7-9495-2CDA1C054F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2610" b="0"/>
          <a:stretch/>
        </p:blipFill>
        <p:spPr>
          <a:xfrm>
            <a:off x="647640" y="1449360"/>
            <a:ext cx="8496360" cy="439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180120"/>
            <a:ext cx="9144000" cy="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1828800" cy="72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65280" cy="5791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5791320"/>
            <a:ext cx="9144000" cy="380880"/>
          </a:xfrm>
          <a:prstGeom prst="rect">
            <a:avLst/>
          </a:prstGeom>
          <a:solidFill>
            <a:srgbClr val="d7d0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586188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760018"/>
                </a:solidFill>
                <a:latin typeface="Meridien Bold"/>
                <a:ea typeface="ＭＳ Ｐゴシック"/>
              </a:rPr>
              <a:t>www.wiwi.uni-frankfurt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48000" y="1376280"/>
            <a:ext cx="6588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eridien Bold"/>
              </a:rPr>
              <a:t>Discussion on: </a:t>
            </a:r>
            <a:br>
              <a:rPr sz="2000"/>
            </a:br>
            <a:r>
              <a:rPr b="1" lang="en-US" sz="2600" spc="-1" strike="noStrike">
                <a:solidFill>
                  <a:srgbClr val="000000"/>
                </a:solidFill>
                <a:latin typeface="Meridien Bold"/>
              </a:rPr>
              <a:t>Estimating the impact of a policy reform on welfare participation: The 2001 extension to the Minimum Income Guarantee for UK pensioners</a:t>
            </a:r>
            <a:br>
              <a:rPr sz="2600"/>
            </a:br>
            <a:r>
              <a:rPr b="1" lang="en-US" sz="2000" spc="-1" strike="noStrike">
                <a:solidFill>
                  <a:srgbClr val="000000"/>
                </a:solidFill>
                <a:latin typeface="Meridien Bold"/>
              </a:rPr>
              <a:t>presented by</a:t>
            </a:r>
            <a:r>
              <a:rPr b="1" lang="en-US" sz="2600" spc="-1" strike="noStrike">
                <a:solidFill>
                  <a:srgbClr val="000000"/>
                </a:solidFill>
                <a:latin typeface="Meridien Bold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Meridien Bold"/>
              </a:rPr>
              <a:t>Francesca Zantomio</a:t>
            </a:r>
            <a:endParaRPr b="0" lang="en-US" sz="26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48436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rie Waller, Goethe University, CDSEM, Z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ridien Bold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7840" y="1339920"/>
            <a:ext cx="75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luence of financial incentives on welfare tak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 Income Guarantee aims at avoiding poverty among British pensi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s-tested income support scheme, to be clai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rm in 2001: Influence on take-up behaviour based on cross-sectional surve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ching on variables -&gt; increase in take-up rate about 9 percen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increase revealed by parametric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tigation of poverty is an important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on a specific aspect of the reform effects, insights on behaviour, important to know more how reforms tak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comparison to conventional parametric estimation convi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done very carefully, many potential problems are consid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1280" y="1628640"/>
            <a:ext cx="7453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main intention of the paper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ld you go further with the interpretation of your results (in line with your main intentio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main intention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earn about behavioral changes and incentives: interpret your results in relation to the idea of utility maximization mentioned on p.1 and rationality concep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valuation of the reform itself: to what extend does the higher take-up rate reduce poverty of the elder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vince the reader of the non parametric approach, then you might want to put chapter 6 more in the centre of the pap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questions on the Family Resources Surv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is the sampling? Small number of eligible pensioners, could they per chance differ a lot from the year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bution of the interviews over the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severe is non-response for pensioners (in general and for example on assets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ell does the simulation of MIG entitlements work? MIG receivers that are not entitled according to simulation occ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73105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at does the estimate potentially capture using different nonparametric estima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tandard Roy-Rubin Setting 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e e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selection into programme based on unobser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IG Reform, before-after comparison using panel da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rm e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eral time e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60018"/>
                </a:solidFill>
                <a:latin typeface="Arial"/>
              </a:rPr>
              <a:t>+ time effect due to one year later in life of individuals (as less savings 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233000"/>
            <a:ext cx="7920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efore-after comparison using cross sectional data without matching (p.9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general time effect based on observables (as general pension increas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b5da4"/>
                </a:solidFill>
                <a:latin typeface="Arial"/>
              </a:rPr>
              <a:t>+ general time effect based on unobservables (as social attitud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cohort effect based on observables (as share of those with savings increas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b5da4"/>
                </a:solidFill>
                <a:latin typeface="Arial"/>
              </a:rPr>
              <a:t>+ cohort effect based on unobservables (as new cohorts better inform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effect due to non ignorability of survey nonresponse conditional on ober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b5da4"/>
                </a:solidFill>
                <a:latin typeface="Arial"/>
              </a:rPr>
              <a:t>+ effect due to non ignorability of survey nonresponse conditional on un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+ effect due to different people in sample (random, but small sample) based on oberservabl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b5da4"/>
                </a:solidFill>
                <a:latin typeface="Arial"/>
              </a:rPr>
              <a:t>(+ effect due to different people in sample (random, but small sample) based on unobservabl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efore-after comparison using cross sectional data with matching (p.11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 effect + </a:t>
            </a:r>
            <a:r>
              <a:rPr b="0" lang="en-GB" sz="1800" spc="-1" strike="noStrike">
                <a:solidFill>
                  <a:srgbClr val="3b5da4"/>
                </a:solidFill>
                <a:latin typeface="Arial"/>
              </a:rPr>
              <a:t>effects on unobservables (in b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ain of matching depends on what is used as observed variabl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x, age group, martial status, disability, simulated MIG entitlements, enoug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hort effects, different people in sample, could you eliminate more by using more information  (and if necessary propensity score matching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to do a similar before-after comparison for the publicity campaign May-November 2000? Compare financial incentive with advertising effec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9:55:12Z</dcterms:created>
  <dc:creator>Osikominu</dc:creator>
  <dc:description/>
  <dc:language>en-US</dc:language>
  <cp:lastModifiedBy>FSO</cp:lastModifiedBy>
  <dcterms:modified xsi:type="dcterms:W3CDTF">2006-10-26T10:55:47Z</dcterms:modified>
  <cp:revision>233</cp:revision>
  <dc:subject/>
  <dc:title>Folie 1</dc:title>
</cp:coreProperties>
</file>