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967A-D6A5-421F-8F8B-E55050122AC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R INTUICIÓN DEL DE BENTOL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 distintas características de trabajadores temporales y permanentes pueden hacer que la decisión de irse o quedarse en casa sea endóg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DEC1-0A47-48DF-BB61-EE373D62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72B-25E2-42B7-AE5C-1A3B4398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FD19-7E3F-4C2A-8E9A-99D72A76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0B2E-FE85-48E5-80A5-59803AF1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BDD-5B4C-4663-8E90-300F7508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96BA-B64C-4CC1-8CC2-78A7A476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746-4428-4B11-AF1B-51A1ED01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C6DA-96B4-4E6A-A7DF-ACD9524F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5C6-15EE-4C6D-A2F8-CDA114AC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F82-7DD3-42B1-A9E1-AE4D0CE1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05C-0E13-41F0-BDAF-F8AF68CE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C1F9-3922-49EA-A77D-7F14AE1D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B859-FC51-4B88-B37E-E17247EDE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Job security and New Restrictive Permanent Contracts: Are Spanish Workers More Worried of Losing their Job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64008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isabetta Trevi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ussion by Ernesto Villanueva (Bank of Sp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ther concerns (F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crepancy between results that include fixed-effects and those that do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iven substantial heterogeneity in formation of satisfaction, FE advisable (Hamermesh, 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ut FE, if truly constant, should be uncorrelated with legal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s the sample composition chang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trition among FT contracts who find new jo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ther concern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w are standard errors compu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hoice of bandwidth of kernel/locllinreg used when propensity-score matc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nsitivity of choi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1. Question of the 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N: How is worker’s satisfaction with job security affected by changes in firing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panish labor market  cos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contracts FT (fire-at-will), and PC (45 days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98: (perm) contracts workers &lt; 30 or &gt;45  reduced firing costs (treated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-ste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dentify “comparable control group” using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-in-D treated vs.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veral treatment groups: PC and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252720" y="43920"/>
            <a:ext cx="96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1. Find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86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habitation as a good for parents (Manacorda and Moretti,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edit markets (Martins and Villanueva, 20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uiz-Castillo and Martínez-Granado (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 la Rica and Iza, 2004: decision to get married. Use fixed-term contr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bjective measures of employment risk (Becker et al.,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2. Con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ork examining real impact of legal firing costs (Angrist, Au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ork looking at subjective perceptions (Clark) or at expecta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his paper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o workers perceive increased risk of losing jobs as brought about by legal refor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road implications, possibly beyond labor ec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bor market: investment in job-specific ski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ealth economics: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cro: consumption and sa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nc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 What is exactly being measur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 What can this strategy (D-in-D) mea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 Why is it measured this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hy D-in-D + matc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hy FT as a treated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. What does the paper want  to meas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tion 1: Perception of job insecu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N: Has the subjective probability of losing the job increased? (interpersonally comparable, unlike satisfac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panish EFF has som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tion 2: A predictor of wellbeing or of fulfilment of expect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stion on how to compare across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ke sure we are not picking “something els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2.What does this strategy cap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-in-D captures all effects of a reform with G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age increases (Lazear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re jobs available for all? For the tre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e reform moves other aspects of job satisfaction (beyond job secur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jectivity bias may change reports of all job-related satisfaction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CHP contains satisfaction w/job and w/other aspects (some unrelated, like commu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ommend exploring overall satisfaction w/job and other dim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3. The empirical strategy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-in-D plus propensity-score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eckman et al. (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tching required to “balance covari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: deterministic function of age (used to m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pare person 28 w/ children and person 32, no children, same P. Really compar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me story for employment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uld start by plotting group-specific trends in satisfaction (checking if they are paralle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3. Which treatment grou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rsion 1: workers with a PC alre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rectly affected in their current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rsion 2: workers with 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ffected if contract upgraded or in new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he latter case involves the impact estimated many other marg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07:56:18Z</dcterms:created>
  <dc:creator>TURAMBAR</dc:creator>
  <dc:description/>
  <dc:language>en-US</dc:language>
  <cp:lastModifiedBy>UPF</cp:lastModifiedBy>
  <dcterms:modified xsi:type="dcterms:W3CDTF">2006-10-26T22:27:48Z</dcterms:modified>
  <cp:revision>92</cp:revision>
  <dc:subject/>
  <dc:title>Riesgo Laboral y  Corresidencia</dc:title>
</cp:coreProperties>
</file>