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DD45D-8EA5-4D9E-A781-1F9F578B579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R INTUICIÓN DEL DE BENTOLI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 distintas características de trabajadores temporales y permanentes pueden hacer que la decisión de irse o quedarse en casa sea endóg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767B-6E3B-45A0-93AD-D41D6B293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D765-C3A9-40B2-B0E3-E747C9D78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1888-1398-4C84-AB58-2EF9318BD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8D16-2FED-4833-8251-A618E27E7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464E-F7A6-40F2-8AEB-38D1B4987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FF0D-A4C1-4E3D-96C5-F42474C11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F2B1-FD29-460C-ACD7-88BF9BEBF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8620-0BDB-43AA-B609-CE8B81237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7BC0-AA27-4238-9C43-4F7C1DD76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5CFD-3C1E-422C-933A-7DEDFB3D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273C-3487-46DF-A091-2BA1FED4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CA86-3D02-440C-8D4D-4E49B0E3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B0E94-4869-4214-9BF1-8E0B4CA29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Job security and New Restrictive Permanent Contracts: Are Spanish Workers More Worried of Losing their Job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4581000"/>
            <a:ext cx="6400800" cy="17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isabetta Trevis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scussion by Ernesto Villanueva (Bank of Spa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Other concerns (F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iscrepancy between results that include fixed-effects and those that do n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iven substantial heterogeneity in formation of satisfaction, FE advisable (Hamermesh, 9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ut FE, if truly constant, should be uncorrelated with legal chan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s the sample composition chang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ttrition among FT contracts who find new job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Other concerns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ow are standard errors compu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hoice of bandwidth of kernel/locllinreg used when propensity-score match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nsitivity of choi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1. Question of the pa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QN: How is worker’s satisfaction with job security affected by changes in firing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panish labor market  cos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 contracts FT (fire-at-will), and PC (45 days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998: (perm) contracts workers &lt; 30 or &gt;45  reduced firing costs (treated gro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2-step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dentify “comparable control group” using mat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-in-D treated vs. Contr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veral treatment groups: PC and 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252720" y="43920"/>
            <a:ext cx="961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1. Find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86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habitation as a good for parents (Manacorda and Moretti, 200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redit markets (Martins and Villanueva, 200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uiz-Castillo and Martínez-Granado (200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 la Rica and Iza, 2004: decision to get married. Use fixed-term contra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ubjective measures of employment risk (Becker et al., 200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2. Con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Work examining real impact of legal firing costs (Angrist, Au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Work looking at subjective perceptions (Clark) or at expectation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his paper: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How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o workers perceive increased risk of losing jobs as brought about by legal reform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road implications, possibly beyond labor ec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bor market: investment in job-specific skil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ealth economics: st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acro: consumption and sav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oncer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1. What is exactly being measure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. What can this strategy (D-in-D) meas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3. Why is it measured this w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Why D-in-D + match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Why FT as a treated grou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3. What does the paper want  to meas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ption 1: Perception of job insecur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QN: Has the subjective probability of losing the job increased? (interpersonally comparable, unlike satisfac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panish EFF has som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ption 2: A predictor of wellbeing or of fulfilment of expecta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Question on how to compare across individ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ake sure we are not picking “something else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2.What does this strategy captu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-in-D captures all effects of a reform with GE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Wage increases (Lazear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ore jobs available for all? For the trea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he reform moves other aspects of job satisfaction (beyond job secur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ubjectivity bias may change reports of all job-related satisfaction compon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CHP contains satisfaction w/job and w/other aspects (some unrelated, like commut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commend exploring overall satisfaction w/job and other dim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3. The empirical strategy (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-in-D plus propensity-score mat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eckman et al. (9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atching required to “balance covariat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: deterministic function of age (used to mat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mpare person 28 w/ children and person 32, no children, same P. Really compara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ame story for employment experi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uld start by plotting group-specific trends in satisfaction (checking if they are parallel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3. Which treatment grou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ersion 1: workers with a PC alrea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irectly affected in their current jo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ersion 2: workers with 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ffected if contract upgraded or in new jo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he latter case involves the impact estimated many other marg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8T07:56:18Z</dcterms:created>
  <dc:creator>TURAMBAR</dc:creator>
  <dc:description/>
  <dc:language>en-US</dc:language>
  <cp:lastModifiedBy>UPF</cp:lastModifiedBy>
  <dcterms:modified xsi:type="dcterms:W3CDTF">2006-10-26T22:27:48Z</dcterms:modified>
  <cp:revision>92</cp:revision>
  <dc:subject/>
  <dc:title>Riesgo Laboral y  Corresidencia</dc:title>
</cp:coreProperties>
</file>