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931F4-C830-4FE3-AB3C-85ACF5BD074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R INTUICIÓN DEL DE BENTOLI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 distintas características de trabajadores temporales y permanentes pueden hacer que la decisión de irse o quedarse en casa sea endóge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B9F8-3EF7-48B5-A3A8-0CCC2AA6C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1234-E6B6-40A5-AB6F-5D323D0AC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8642-FB7B-4B27-9FB8-847B5B059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0B46-8A6E-4971-8276-1080F5BD8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BFF5-EDF6-46D7-9091-590E7C864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02B5-83AF-48D4-9A10-E54071BED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4606-71EC-4675-A699-432A3F204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2A63-550C-4121-86D6-E279D22F0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AFF1-0F95-454A-90E7-AB6D4B4D2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4214-20F7-477B-8C53-1C620884A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726A-092A-4F19-A85C-2D8820FAF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58E5-3E3B-4324-B9B9-5BE89F7DF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1D7AD-7F0E-4455-AF20-45189EAFCD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Job security and New Restrictive Permanent Contracts: Are Spanish Workers More Worried of Losing their Job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03280" y="4581000"/>
            <a:ext cx="6400800" cy="17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isabetta Trevis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iscussion by Ernesto Villanueva (Bank of Spai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Other concerns (F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iscrepancy between results that include fixed-effects and those that do no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Given substantial heterogeneity in formation of satisfaction, FE advisable (Hamermesh, 9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But FE, if truly constant, should be uncorrelated with legal chan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Is the sample composition chang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ttrition among FT contracts who find new job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Other concerns (i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ow are standard errors comput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hoice of bandwidth of kernel/locllinreg used when propensity-score match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ensitivity of choic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1. Question of the pap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QN: How is worker’s satisfaction with job security affected by changes in firing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panish labor market  cos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2 contracts FT (fire-at-will), and PC (45 days per ye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998: (perm) contracts workers &lt; 30 or &gt;45  reduced firing costs (treated grou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2-step proced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dentify “comparable control group” using matc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-in-D treated vs. Contr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everal treatment groups: PC and 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252720" y="43920"/>
            <a:ext cx="961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1. Findin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86868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ohabitation as a good for parents (Manacorda and Moretti, 200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redit markets (Martins and Villanueva, 200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Ruiz-Castillo and Martínez-Granado (200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e la Rica and Iza, 2004: decision to get married. Use fixed-term contrac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ubjective measures of employment risk (Becker et al., 200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2. Contrib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Work examining real impact of legal firing costs (Angrist, Aut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Work looking at subjective perceptions (Clark) or at expectation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his paper: 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How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do workers perceive increased risk of losing jobs as brought about by legal reform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Broad implications, possibly beyond labor ec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bor market: investment in job-specific skil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Health economics: st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acro: consumption and sav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Concer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1. What is exactly being measured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2. What can this strategy (D-in-D) meas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3. Why is it measured this w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Why D-in-D + match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Why FT as a treated grou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3. What does the paper want  to measu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Option 1: Perception of job insecurit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QN: Has the subjective probability of losing the job increased? (interpersonally comparable, unlike satisfac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panish EFF has some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Option 2: A predictor of wellbeing or of fulfilment of expecta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Question on how to compare across individu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ake sure we are not picking “something else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2.What does this strategy captu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-in-D captures all effects of a reform with GE eff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Wage increases (Lazear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ore jobs available for all? For the treat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he reform moves other aspects of job satisfaction (beyond job securit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ubjectivity bias may change reports of all job-related satisfaction compon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CHP contains satisfaction w/job and w/other aspects (some unrelated, like commut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commend exploring overall satisfaction w/job and other dim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3. The empirical strategy (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-in-D plus propensity-score matc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Heckman et al. (9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atching required to “balance covariate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: deterministic function of age (used to matc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mpare person 28 w/ children and person 32, no children, same P. Really comparab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ame story for employment experie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uld start by plotting group-specific trends in satisfaction (checking if they are parallel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3. Which treatment group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Version 1: workers with a PC alread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irectly affected in their current jo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Version 2: workers with F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ffected if contract upgraded or in new jo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The latter case involves the impact estimated many other margi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8T07:56:18Z</dcterms:created>
  <dc:creator>TURAMBAR</dc:creator>
  <dc:description/>
  <dc:language>en-US</dc:language>
  <cp:lastModifiedBy>UPF</cp:lastModifiedBy>
  <dcterms:modified xsi:type="dcterms:W3CDTF">2006-10-26T22:27:48Z</dcterms:modified>
  <cp:revision>92</cp:revision>
  <dc:subject/>
  <dc:title>Riesgo Laboral y  Corresidencia</dc:title>
</cp:coreProperties>
</file>