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E9C-65E0-4548-8381-B4439BC9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7C8-9468-46D5-9708-E2DFAC3F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FEC-FA7D-48E6-953F-AFD5A998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7F6-0A03-4373-ACF6-B4AD237C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C9E-5A35-4A12-8704-7EDC2FD7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4A6-C522-4991-A952-6D210257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94B-B40E-4AFC-A1A8-0F327787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AAB-C66C-4D36-9C98-A0123B95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D18-E928-4A41-A0F3-C8155766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903-5837-4506-9574-77493F5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679-8F33-4C9F-AA2C-99F72C8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0EE-A20F-44C5-AB77-68C5B997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DAD7-5DA6-4C24-89F2-D34C286CF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omment on</a:t>
            </a:r>
            <a:br>
              <a:rPr sz="3600"/>
            </a:b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„Indirect Effects of an Aid Program: How do Liquidity Injections Affect Non-Eligibles Consumption“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y Manuela Angelucci and Giacomo De Gior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bert Völter, Goethe-Universität Frankf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n-poor are not eligible for Progresa 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t their consumption is higher in villages where the poor get trans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direct Treatment Effect 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ssible Reas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re labor income? 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re income from goods markets? 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re other program receipts? 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re money from credit market/ family transfers? Y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duction in savings? Y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ypothesis: more liquidity in the community facilitates consumption smo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st: compare ITE on households hit /not hit by a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E larger for those hit by a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UTVA not fulfilled; indirect effects on the non-treated (and likely also on the tre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E estimates exact or lower bounds? Information about social networks across village bord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sightful study, checking many possible reasons makes it ext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ndomization saves econo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ndard Errors often quite large, so sometimes effects are not significant in all three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fferentiantion of ITE by shock very helpful, ITE on credit given shock present often significant where unconditional ITE is not, this corroborates the insurance hypo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ze of transfers compared to the community income? Given 20% of pre-program consumption for the treated households (52%) ca 10%? Variation in liquidity incre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abor market effects: per capita monthly earnings. Household composition? Could look at wages and hours of adults and child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re the data panel data or repeated cross sec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ng ru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sumption of own savings gives only one-off increase in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amily-transfers may give permanent increase in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surance should just give consumption smo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4:20:46Z</dcterms:created>
  <dc:creator>Robert Voelter</dc:creator>
  <dc:description/>
  <dc:language>en-US</dc:language>
  <cp:lastModifiedBy>Robert Voelter</cp:lastModifiedBy>
  <dcterms:modified xsi:type="dcterms:W3CDTF">2006-10-27T06:27:19Z</dcterms:modified>
  <cp:revision>7</cp:revision>
  <dc:subject/>
  <dc:title>Comment on Indirect Effects of an Aid Program: How do Liquidity Injections Affect Non-Elibibles Consumption</dc:title>
</cp:coreProperties>
</file>