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342-DC10-4B73-A0CE-57979EEF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189-9B56-463B-9F26-4E74A50D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39F-322E-4A6E-9F9D-B589A114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230-05DE-417E-A8D9-166D5353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B85-E12E-4A14-BAE2-695F9FD2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F9B1-E5C0-4205-93BF-1ACEDB14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A2F-19A5-4516-94BA-A43E0350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E88-165E-4FF6-B00E-6024BEE1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F9D-F7A0-42CE-8D3C-2E9592AA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6B6-AB52-41EA-80C8-535702AE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279-F90C-4B60-B7B5-AAE9C125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A74-BC6A-4B8E-9969-A6786DD6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299F-DEAE-4B3E-A37E-C627C6AE1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Comment on</a:t>
            </a:r>
            <a:br>
              <a:rPr sz="3600"/>
            </a:b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„Indirect Effects of an Aid Program: How do Liquidity Injections Affect Non-Eligibles Consumption“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y Manuela Angelucci and Giacomo De Gior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obert Völter, Goethe-Universität Frankf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on-poor are not eligible for Progresa trans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ut their consumption is higher in villages where the poor get trans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direct Treatment Effect 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ossible Reas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re labor income? 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re income from goods markets? 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re other program receipts? 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re money from credit market/ family transfers? Y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duction in savings? Y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ypothesis: more liquidity in the community facilitates consumption 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st: compare ITE on households hit /not hit by a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E larger for those hit by a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UTVA not fulfilled; indirect effects on the non-treated (and likely also on the tre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E estimates exact or lower bounds? Information about social networks across village bord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sightful study, checking many possible reasons makes it ext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andomization saves economet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ndard Errors often quite large, so sometimes effects are not significant in all three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fferentiantion of ITE by shock very helpful, ITE on credit given shock present often significant where unconditional ITE is not, this corroborates the insurance hypo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ze of transfers compared to the community income? Given 20% of pre-program consumption for the treated households (52%) ca 10%? Variation in liquidity incre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bor market effects: per capita monthly earnings. Household composition? Could look at wages and hours of adults and child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re the data panel data or repeated cross sec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ng ru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sumption of own savings gives only one-off increase in 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amily-transfers may give permanent increase in 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surance should just give consumption smoo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4:20:46Z</dcterms:created>
  <dc:creator>Robert Voelter</dc:creator>
  <dc:description/>
  <dc:language>en-US</dc:language>
  <cp:lastModifiedBy>Robert Voelter</cp:lastModifiedBy>
  <dcterms:modified xsi:type="dcterms:W3CDTF">2006-10-27T06:27:19Z</dcterms:modified>
  <cp:revision>7</cp:revision>
  <dc:subject/>
  <dc:title>Comment on Indirect Effects of an Aid Program: How do Liquidity Injections Affect Non-Elibibles Consumption</dc:title>
</cp:coreProperties>
</file>