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F0B-6B34-4E06-8B7E-5E27B15F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D82-5E39-4E4D-9B1A-CC7636B8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D87-790F-443F-9C64-22428BD6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570-B316-42BB-9CA9-70E2F280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8E1-D68E-4B9B-807F-10D0A08B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EEA-40F4-4B79-900D-4559F9A6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181-B508-4448-9F9E-D1AAFA89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74D-ED6C-4825-AB03-DAAC93BE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6F9-2139-41D6-B42C-81414E82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401-7914-44DE-B326-2D3325E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1E7-9812-4260-AE89-D03AD6A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BAA-7465-43BB-965D-166C36C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DC6D-F2EE-4998-BB01-9DA1035BE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omment on</a:t>
            </a:r>
            <a:br>
              <a:rPr sz="3600"/>
            </a:b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„Indirect Effects of an Aid Program: How do Liquidity Injections Affect Non-Eligibles Consumption“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y Manuela Angelucci and Giacomo De Gior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bert Völter, Goethe-Universität Frankf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n-poor are not eligible for Progresa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t their consumption is higher in villages where the poor get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direct Treatment Effect 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ssible Reas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labor income? 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income from goods markets? 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other program receipts? 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money from credit market/ family transfers? 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duction in savings? 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ypothesis: more liquidity in the community facilitates consumption 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st: compare ITE on households hit /not hit by a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E larger for those hit by a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UTVA not fulfilled; indirect effects on the non-treated (and likely also on the tre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E estimates exact or lower bounds? Information about social networks across village bord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sightful study, checking many possible reasons makes it ext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ndomization saves econo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ndard Errors often quite large, so sometimes effects are not significant in all three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fferentiantion of ITE by shock very helpful, ITE on credit given shock present often significant where unconditional ITE is not, this corroborates the insurance hypo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ze of transfers compared to the community income? Given 20% of pre-program consumption for the treated households (52%) ca 10%? Variation in liquidity incre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bor market effects: per capita monthly earnings. Household composition? Could look at wages and hours of adults and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re the data panel data or repeated cross sec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ng ru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umption of own savings gives only one-off increase in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amily-transfers may give permanent increase in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surance should just give consumption smo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4:20:46Z</dcterms:created>
  <dc:creator>Robert Voelter</dc:creator>
  <dc:description/>
  <dc:language>en-US</dc:language>
  <cp:lastModifiedBy>Robert Voelter</cp:lastModifiedBy>
  <dcterms:modified xsi:type="dcterms:W3CDTF">2006-10-27T06:27:19Z</dcterms:modified>
  <cp:revision>7</cp:revision>
  <dc:subject/>
  <dc:title>Comment on Indirect Effects of an Aid Program: How do Liquidity Injections Affect Non-Elibibles Consumption</dc:title>
</cp:coreProperties>
</file>