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777-98FD-497E-9F14-330191C3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9BD-6D88-4EEC-BA18-3D3BB7F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FB6-4DB3-42C9-9211-4178E7DA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AE6-BB66-4F6A-91E1-63D4FEE1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2691-3EF5-4C23-90D6-1764935E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3AA0-7775-4E34-9558-FF5C5AAD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3FE7-B2D4-40B6-9BEB-DB4399B9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A80-4A3C-4ADE-816B-A70BE6B9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B34C-E7FE-47B7-98AF-F52D7619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5AE4-5C4F-4C1D-A856-02826096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E73-D6DF-4D80-B8F0-A4FD64F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371-E1F6-44E9-8BF3-4ECE871F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1228-E58B-47BC-A37B-1B31A17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A2C3-4158-4E23-92F2-85A4271C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25EB-0C75-4D1B-856E-F7807C1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3E2-5954-4E80-B4FA-268E837C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977-8389-4AB5-86AB-FA0F3E21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CE4-BBC7-4D41-86A6-0D9D517B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5C0-2B94-40A1-9EAD-3C027FA6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D47-9519-4B6B-BA91-1726734C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8E1-1BD1-4B70-A036-72B77195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028-9C5F-4AB7-811C-7A5827E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E1A-5B50-4C22-AAE5-138F9E0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5D3-F0FC-4377-BFED-27A3CD3B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A50-64CE-4298-AC68-CD2AF54F159E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C6FE-A283-40E1-ACA6-76582A68B0F8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25520" y="1733400"/>
            <a:ext cx="669312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bel/Schwartz/Donald: An Analysis of the Impact of SSP on W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0160" y="3909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Sperman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nhei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527-2B1A-4F14-BF72-B284933A4B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33400" y="2006640"/>
          <a:ext cx="6091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2006640"/>
                    <a:ext cx="6091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760" y="24242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centiv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3880" y="417816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n-incentiv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4329000"/>
            <a:ext cx="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6120" y="433404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5280" y="253368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35F-9A26-459E-9B34-14E9C6E17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4520" y="1413000"/>
            <a:ext cx="8439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mple comparison of median wages for non-incentivized program group reveals positive effect (month 15-5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me procedure for incentivized program and control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: Simpl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of median wages is not meaningful, because the incentivized control group did  not work during the first 13 mon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Question 2: Why exactl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B7F-0DF3-444C-A1DD-CF64692C8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3. Measuring the impact of SSP on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roblem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Partial observability of starting and ending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is not observed for all those who are working in time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Question 3: Why don‘t you motivate this crucial point more cl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FB0-0300-43EA-9383-222395BCCE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1640" y="1596600"/>
            <a:ext cx="73566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Solu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Estimation of a model of individual w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served labor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ther covari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AF3-D73B-4244-A2C7-69A79262C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bsolute wage progres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Mean returns for program and control groups in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lative wage progress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=TOT): Difference of these means in p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B9E-3CB9-4DC9-822E-34C5CE9B4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ree treatment effec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S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non-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 of 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612-C4E7-44EB-AA07-7B70D7DBB1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5320" y="1136520"/>
            <a:ext cx="79059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s to over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mpl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ogeneity of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observed individual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ppropri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eckman Two st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 due to Hausman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29D-0CDC-43BE-AD33-5C5A3FC2D1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4. Resul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47640" y="2468520"/>
          <a:ext cx="7994880" cy="3853080"/>
        </p:xfrm>
        <a:graphic>
          <a:graphicData uri="http://schemas.openxmlformats.org/drawingml/2006/table">
            <a:tbl>
              <a:tblPr/>
              <a:tblGrid>
                <a:gridCol w="1103400"/>
                <a:gridCol w="2217600"/>
                <a:gridCol w="2421000"/>
                <a:gridCol w="2252880"/>
              </a:tblGrid>
              <a:tr h="15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ed experienc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imated absolute w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ession in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wage progression (=TOT) in 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Δ</a:t>
                      </a: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068480" y="17510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T of SSP for British Columbia by month 5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293-EC7B-41CF-BA60-AF823D59C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7560" y="1660680"/>
            <a:ext cx="735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non-incentivized program group: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non-incentivized program group after the end of the supplement period: 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OT of incentivized program group: ++ (8.9 pp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765-F034-4786-816B-C7B396C21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5. Discu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What’s new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rd et al. 2001 apply Matching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Policy 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’t we be more optimis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should be done to improve wage prog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C3E-D270-4BD3-9C09-158AB191B2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Why is this paper importa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280" y="2438280"/>
            <a:ext cx="843948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-restricted employee or employer subsidies are a promising instrument of Active Labour Market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ge progression: Main channel to self su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d et al. 2001: Limits to wage pro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E71-DFF7-4F6E-A280-9BC71347C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91880" y="1606680"/>
            <a:ext cx="73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Lessons for Ger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Wage Progression in Germany (Rhein et al.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piration for TNIT evaluation in Ger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BFA-11FD-4E55-8AF1-B61A613EAA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46040" y="164628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w empirical papers to time-restricted subsidies so f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Michalopoulos et al. 2005 on SSP (JPubEc): evidence from social experiments with the Canadian S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Orszag/Snower 2003 (LE): numerical simulation on time-restricted wage subsidies (Benefit-Transfer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Spermann/Strotmann 2005 (ZEW DP): quasi-experiment with the Targeted Negative Income Tax (TNIT) in Mannheim; now implemented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is paper focuses exclusively on wage prog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5DE-563A-4332-BC20-9E9EC2C70A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How does the Canadian SSP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23760" y="1909800"/>
            <a:ext cx="7143840" cy="367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5746680"/>
            <a:ext cx="75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urce: Blank, Card and Robin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D5E-3131-408B-B477-E987102B0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12520" y="309708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hat is done in the pap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00B-F7BA-49E5-8882-EA2E55A17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1. Decomposing the program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5680" y="1646280"/>
            <a:ext cx="869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ncludes participants (randomly assigned) of the SS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ke-up grou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mprises those participants who took up a supplemented full-time jo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centiviz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roup is the part of the take-up group that would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worked full-time without th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n-incentiviz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roup would have worked any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5DE-6C7A-42BA-8CA6-CDA8CEFA2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101600" y="1981080"/>
            <a:ext cx="7355520" cy="4114080"/>
            <a:chOff x="1101600" y="1981080"/>
            <a:chExt cx="7355520" cy="4114080"/>
          </a:xfrm>
        </p:grpSpPr>
        <p:cxnSp>
          <p:nvCxnSpPr>
            <p:cNvPr id="99" name="_s17512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527080" y="3818520"/>
              <a:ext cx="485640" cy="1980720"/>
            </a:xfrm>
            <a:prstGeom prst="bentConnector3">
              <a:avLst>
                <a:gd name="adj1" fmla="val 235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2" name="_s175123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3546720" y="3818520"/>
              <a:ext cx="485640" cy="1981440"/>
            </a:xfrm>
            <a:prstGeom prst="bentConnector3">
              <a:avLst>
                <a:gd name="adj1" fmla="val 23516"/>
              </a:avLst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104" name="_s175114"/>
            <p:cNvCxnSpPr>
              <a:stCxn id="101" idx="0"/>
              <a:endCxn id="105" idx="2"/>
            </p:cNvCxnSpPr>
            <p:nvPr/>
          </p:nvCxnSpPr>
          <p:spPr>
            <a:xfrm flipV="1">
              <a:off x="4779720" y="3023280"/>
              <a:ext cx="3960" cy="485640"/>
            </a:xfrm>
            <a:prstGeom prst="bentConnector2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105" name="_s175110"/>
            <p:cNvSpPr/>
            <p:nvPr/>
          </p:nvSpPr>
          <p:spPr>
            <a:xfrm>
              <a:off x="3082320" y="198108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program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175111"/>
            <p:cNvSpPr/>
            <p:nvPr/>
          </p:nvSpPr>
          <p:spPr>
            <a:xfrm>
              <a:off x="3082320" y="352368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ahoma"/>
                </a:rPr>
                <a:t>take-up gr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175122"/>
            <p:cNvSpPr/>
            <p:nvPr/>
          </p:nvSpPr>
          <p:spPr>
            <a:xfrm>
              <a:off x="1101600" y="506664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Tahoma"/>
                </a:rPr>
                <a:t>incentivized grou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75124"/>
            <p:cNvSpPr/>
            <p:nvPr/>
          </p:nvSpPr>
          <p:spPr>
            <a:xfrm>
              <a:off x="5062320" y="5066640"/>
              <a:ext cx="339480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500" spc="-1" strike="noStrike">
                  <a:solidFill>
                    <a:srgbClr val="000000"/>
                  </a:solidFill>
                  <a:latin typeface="Tahoma"/>
                </a:rPr>
                <a:t>non-incentivized grou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3A3-5559-47B8-AB2C-415273F5DD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1880" y="2362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ahoma"/>
              </a:rPr>
              <a:t>Problem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: The subsets of the take-up group cannot be directly obser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ution for identification: Propensity Score 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. Iden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897-A66A-4277-B0A8-2D2074804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9600" y="1141200"/>
            <a:ext cx="874404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 of Match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rst step: Non-incentivized program group: PS-Matching to link CG (465 members) and PG (465 members) via predicted wage prob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cond step: Remaining 389 member of the take-up group constitute the incentivized program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Question 1: Does the selection-on-observables assumption ho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FBF-9804-4259-8D4F-9B11CC4C49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Alexander Spermann</cp:lastModifiedBy>
  <dcterms:modified xsi:type="dcterms:W3CDTF">2006-10-28T06:49:11Z</dcterms:modified>
  <cp:revision>194</cp:revision>
  <dc:subject/>
  <dc:title>PowerPoint-Präsentation</dc:title>
</cp:coreProperties>
</file>