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194-15A6-409A-A85A-7D1CA23C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E50-E71B-4827-98A4-2A12177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BD9-2748-43E8-B809-7F1BEF52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69E-4B34-4ABC-9D22-9675CBC4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A226-BB2F-42C9-9731-91A9E5A8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242F-F93C-4CED-BE85-E0E83D3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598-6311-4388-90A9-1300532C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40DF-930F-4A6F-88B0-BF6F9E8E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598D-8727-4A39-8324-C58CF5CA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C0D5-7148-4397-87D3-2A7B8E5E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2E15-9DEA-41C3-A191-D3C36C08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C12-9A18-4C2E-B43C-3CD11C0D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3941-E8A2-4C38-B215-5F3F222A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F7D0-E075-4F48-BBBE-6E31FBB1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0970-AD04-4CCA-AD66-5DFCC84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B029-28F2-4B58-8255-BEA06EC9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E1C-2B46-4039-88FA-3E9C566C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B00-65BC-463D-8961-F8D4FD41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192-26F6-4C49-8830-70CFC327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49E-B74B-4AFA-8B81-9EA5FF5E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E38-4842-4042-BD19-2BA115B0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819-60E8-43AE-8FF1-FEF18391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1BB-9A08-4C87-A246-B3866D2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287-E7A6-42D6-B20F-CDA056ED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9C56-3791-4BC1-9465-B9C73B89819D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E5E5-04FE-41CF-A852-8F69844E45A0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25520" y="1733400"/>
            <a:ext cx="669312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bel/Schwartz/Donald: An Analysis of the Impact of SSP on W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0160" y="3909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Sper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nhei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0BA-B06A-4881-AAF4-90041D1F8E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33400" y="2006640"/>
          <a:ext cx="60915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2006640"/>
                    <a:ext cx="6091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760" y="24242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centiv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3880" y="417816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n-incentiv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32900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56120" y="433404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5280" y="253368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C72-EBFE-4367-8F8F-1FFEDB5E92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4520" y="1413000"/>
            <a:ext cx="8439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ple comparison of median wages for non-incentivized program group reveals positive effect (month 15-5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me procedure for incentivized program and control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t: Simpl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ison of median wages is not meaningful, because the incentivized control group did  not work during the first 13 mon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Question 2: Why exactl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5E5-2727-4B1D-8E0D-592A7BE939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3. Measuring the impact of SSP on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roblem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Partial observability of starting and ending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not observed for all those who are working in time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Question 3: Why don‘t you motivate this crucial point more cl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C87-CE0C-45A7-B807-E52863818C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1640" y="1596600"/>
            <a:ext cx="73566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Solut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Estimation of a model of individual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served labor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her covari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D63-5FE0-4649-87FD-8FD132EC47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bsolute wage progress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Mean returns for program and control groups in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lative wage progress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=TOT): Difference of these means in p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81C-2F4C-4F91-B80D-F95C096540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ree treatment effec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S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non-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668-D43D-4E16-BE84-F44D6CBF7A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85320" y="1136520"/>
            <a:ext cx="79059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lems to over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mple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ogeneity of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observed individual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propriate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eckman Two st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 due to Hausman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798-B59A-442A-B1D8-2D2A042CAC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4.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47640" y="2468520"/>
          <a:ext cx="7994880" cy="3853080"/>
        </p:xfrm>
        <a:graphic>
          <a:graphicData uri="http://schemas.openxmlformats.org/drawingml/2006/table">
            <a:tbl>
              <a:tblPr/>
              <a:tblGrid>
                <a:gridCol w="1103400"/>
                <a:gridCol w="2217600"/>
                <a:gridCol w="2421000"/>
                <a:gridCol w="2252880"/>
              </a:tblGrid>
              <a:tr h="15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erved experienc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imated absolute w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ession in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wage progression (=TOT) in p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Δ</a:t>
                      </a: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068480" y="17510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T of SSP for British Columbia by month 5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A99-B3A5-4456-8E7A-455E208C61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87560" y="1660680"/>
            <a:ext cx="735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non-incentivized program group: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non-incentivized program group after the end of the supplement period: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incentivized program group: ++ (8.9 p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2D4-A356-4A52-B169-856A0F7B1F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5.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hat’s new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d et al. 2001 apply Matching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olicy 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’t we be more optimist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should be done to improve wage prog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0E0-5A0E-460A-AAAB-D97D8B54A5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Why is this paper importa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280" y="2438280"/>
            <a:ext cx="843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-restricted employee or employer subsidies are a promising instrument of Active Labour Market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ge progression: Main channel to self su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d et al. 2001: Limits to wage progre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18E-5DB5-4D0B-AC77-6913C5039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Lessons for Ger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Wage Progression in Germany (Rhein et al.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piration for TNIT evaluation in Ger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A22-0921-4BC7-9B03-E4E4B13EFB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6040" y="164628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w empirical papers to time-restricted subsidies so f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Michalopoulos et al. 2005 on SSP (JPubEc): evidence from social experiments with the Canadian S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Orszag/Snower 2003 (LE): numerical simulation on time-restricted wage subsidies (Benefit-Transfer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Spermann/Strotmann 2005 (ZEW DP): quasi-experiment with the Targeted Negative Income Tax (TNIT) in Mannheim; now implemented in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paper focuses exclusively on wage prog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884-F7B0-49B6-BEC2-86B80CD04A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How does the Canadian SSP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23760" y="1909800"/>
            <a:ext cx="7143840" cy="367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5746680"/>
            <a:ext cx="75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urce: Blank, Card and Robin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A8A-2962-466F-9792-58183D876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12520" y="309708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hat is done in the pap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716-8D21-4D63-8DFB-14AFFA8359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1. Decomposing the program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5680" y="16462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gram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ncludes participants (randomly assigned) of the SS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ke-up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comprises those participants who took up a supplemented full-time jo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centiviz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roup is the part of the take-up group that would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have worked full-time without th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n-incentiviz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roup would have worked any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2FA-CA2E-4C2F-A790-05FF20F61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101600" y="1981080"/>
            <a:ext cx="7355520" cy="4114080"/>
            <a:chOff x="1101600" y="1981080"/>
            <a:chExt cx="7355520" cy="4114080"/>
          </a:xfrm>
        </p:grpSpPr>
        <p:cxnSp>
          <p:nvCxnSpPr>
            <p:cNvPr id="99" name="_s175125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27080" y="3818520"/>
              <a:ext cx="485640" cy="1980720"/>
            </a:xfrm>
            <a:prstGeom prst="bentConnector3">
              <a:avLst>
                <a:gd name="adj1" fmla="val 235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2" name="_s175123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3546720" y="3818520"/>
              <a:ext cx="485640" cy="1981440"/>
            </a:xfrm>
            <a:prstGeom prst="bentConnector3">
              <a:avLst>
                <a:gd name="adj1" fmla="val 235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4" name="_s175114"/>
            <p:cNvCxnSpPr>
              <a:stCxn id="101" idx="0"/>
              <a:endCxn id="105" idx="2"/>
            </p:cNvCxnSpPr>
            <p:nvPr/>
          </p:nvCxnSpPr>
          <p:spPr>
            <a:xfrm flipV="1">
              <a:off x="4779720" y="3023280"/>
              <a:ext cx="3960" cy="48564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105" name="_s175110"/>
            <p:cNvSpPr/>
            <p:nvPr/>
          </p:nvSpPr>
          <p:spPr>
            <a:xfrm>
              <a:off x="3082320" y="198108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program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75111"/>
            <p:cNvSpPr/>
            <p:nvPr/>
          </p:nvSpPr>
          <p:spPr>
            <a:xfrm>
              <a:off x="3082320" y="352368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take-up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175122"/>
            <p:cNvSpPr/>
            <p:nvPr/>
          </p:nvSpPr>
          <p:spPr>
            <a:xfrm>
              <a:off x="1101600" y="506664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Tahoma"/>
                </a:rPr>
                <a:t>incentivized grou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75124"/>
            <p:cNvSpPr/>
            <p:nvPr/>
          </p:nvSpPr>
          <p:spPr>
            <a:xfrm>
              <a:off x="5062320" y="506664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Tahoma"/>
                </a:rPr>
                <a:t>non-incentivized grou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D85-44AB-4D2F-AC6A-492719754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1880" y="2362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ahoma"/>
              </a:rPr>
              <a:t>Problem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 The subsets of the take-up group cannot be directly observ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ution for identification: Propensity Score Ma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. Iden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9BD-B652-47F3-BB38-E2AD107F8D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9600" y="1141200"/>
            <a:ext cx="874404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 of Match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rst step: Non-incentivized program group: PS-Matching to link CG (465 members) and PG (465 members) via predicted wage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cond step: Remaining 389 member of the take-up group constitute the 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Question 1: Does the selection-on-observables assumption ho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C88-366C-4FBA-9F9F-0BC701DDAE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Alexander Spermann</cp:lastModifiedBy>
  <dcterms:modified xsi:type="dcterms:W3CDTF">2006-10-28T06:49:11Z</dcterms:modified>
  <cp:revision>194</cp:revision>
  <dc:subject/>
  <dc:title>PowerPoint-Präsentation</dc:title>
</cp:coreProperties>
</file>