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E0D-630F-414C-B4E2-A20AD333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BDF-E7CD-4C51-BF07-28998BE0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2C5-5F83-45A1-AE41-C9EE3B60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848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124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848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BF9-B950-4FEF-92D5-F2454D05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37F0-A421-4535-A9A5-300CAD0D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3EE5-D160-44F3-8480-70D144F7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195C-CC44-41DA-B382-47554483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8C8A-A478-47CD-9FDF-5180D2F1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0A19-CA48-4471-8EE9-9B484297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01600" y="917640"/>
            <a:ext cx="75297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CAFE-74FA-4CE0-8E0E-37876CA6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4F88-6A1D-47A0-B150-CBAFB43D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AD6-B721-4DAF-9BD7-1BDC2533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C856-91DE-419B-A4EC-1CAF8311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CD05-2687-40F0-B1DB-D59D6CE9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F316-BF32-4D81-9E18-139F8390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43BF-F0D7-4018-9040-E27D30A2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8848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572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0124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8848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572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75EA-4B67-4A60-816D-C3CC06D0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186-919B-4BDA-BAF2-19015594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6E8-C758-46CE-8CF3-F553E86C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FD7-05DD-4E88-BF6E-934A0E36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1600" y="917640"/>
            <a:ext cx="75297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A11-2203-4522-9A0A-2A347698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F82-6007-4AB5-BAB3-49E92944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DC6-673B-403B-9B2F-103AD212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C2A-1478-4C64-8797-8AA46FCF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9144000" cy="282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91304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91304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3B63-AC88-48D2-AB89-96446CCFDEBF}" type="slidenum"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179280"/>
            <a:ext cx="747720" cy="451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9144000" cy="2825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91304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91304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69FB-A1FF-4803-AD1C-C9F626198B18}" type="slidenum"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0920" y="179280"/>
            <a:ext cx="747720" cy="451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25520" y="1733400"/>
            <a:ext cx="669312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bel/Schwartz/Donald: An Analysis of the Impact of SSP on W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0160" y="3909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ander Sperman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nhei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8 October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909-4ACC-41C8-A8AF-ADF2DA0EDC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733400" y="2006640"/>
          <a:ext cx="60915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2006640"/>
                    <a:ext cx="60915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20760" y="24242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centiv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3880" y="417816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on-incentiv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432900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56120" y="4334040"/>
            <a:ext cx="7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05280" y="2533680"/>
            <a:ext cx="8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168-E1A2-4531-B523-19F3FC93E2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4520" y="1413000"/>
            <a:ext cx="8439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mple comparison of median wages for non-incentivized program group reveals positive effect (month 15-52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ame procedure for incentivized program and control gro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ut: Simpl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arison of median wages is not meaningful, because the incentivized control group did  not work during the first 13 mon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Question 2: Why exactl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45E-C4F4-461C-8973-76D064B6DF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3. Measuring the impact of SSP on w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91880" y="1606680"/>
            <a:ext cx="73566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Problem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Partial observability of starting and ending w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is not observed for all those who are working in time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Question 3: Why don‘t you motivate this crucial point more clear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4BAC-582F-4D31-804B-19C9F90573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1640" y="1596600"/>
            <a:ext cx="735660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Soluti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Estimation of a model of individual w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bserved labor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ther covari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76E-CF11-44CE-98D7-68526EF751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bsolute wage progressi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Mean returns for program and control groups in 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lative wage progressi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=TOT): Difference of these means in p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728-B1B8-42A0-9C5D-785FCDD3B9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ree treatment effec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T of S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T of non-incentivized program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T of incentivized program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3A99-A948-4783-8440-946C03A4F6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85320" y="1136520"/>
            <a:ext cx="79059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blems to over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ample se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ogeneity of exper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observed individual eff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ppropriate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eckman Two st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 due to Hausman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5D8-FADB-4528-9F26-1D6B4E8F9B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4.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47640" y="2468520"/>
          <a:ext cx="7994880" cy="3853080"/>
        </p:xfrm>
        <a:graphic>
          <a:graphicData uri="http://schemas.openxmlformats.org/drawingml/2006/table">
            <a:tbl>
              <a:tblPr/>
              <a:tblGrid>
                <a:gridCol w="1103400"/>
                <a:gridCol w="2217600"/>
                <a:gridCol w="2421000"/>
                <a:gridCol w="2252880"/>
              </a:tblGrid>
              <a:tr h="152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served experience in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imated absolute w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ession in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ive wage progression (=TOT) in p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Δ</a:t>
                      </a: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068480" y="175104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T of SSP for British Columbia by month 5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BAB-68DF-4B62-8702-B71B66EE82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87560" y="1660680"/>
            <a:ext cx="735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OT of non-incentivized program group: 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OT of non-incentivized program group after the end of the supplement period: 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OT of incentivized program group: ++ (8.9 pp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125-51F8-4106-8FA0-C1CFAB5508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5. Discu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91880" y="1606680"/>
            <a:ext cx="73566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What’s new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rd et al. 2001 apply Matching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Policy 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n’t we be more optimistic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should be done to improve wage progress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889-505F-47A3-A26D-1002FC11CA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Why is this paper importa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1280" y="2438280"/>
            <a:ext cx="84394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-restricted employee or employer subsidies are a promising instrument of Active Labour Market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ge progression: Main channel to self su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d et al. 2001: Limits to wage progress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125-EA89-4881-9285-37714B19DA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91880" y="1606680"/>
            <a:ext cx="73566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Lessons for Ger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w Wage Progression in Germany (Rhein et al.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spiration for TNIT evaluation in Ger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9B9-4CD6-4028-BF36-709E2DFDAF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46040" y="164628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w empirical papers to time-restricted subsidies so f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.g. Michalopoulos et al. 2005 on SSP (JPubEc): evidence from social experiments with the Canadian SS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.g. Orszag/Snower 2003 (LE): numerical simulation on time-restricted wage subsidies (Benefit-Transfer Progr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.g. Spermann/Strotmann 2005 (ZEW DP): quasi-experiment with the Targeted Negative Income Tax (TNIT) in Mannheim; now implemented in Germ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is paper focuses exclusively on wage prog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94D-E5C8-41EA-946F-197A3374A0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How does the Canadian SSP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23760" y="1909800"/>
            <a:ext cx="7143840" cy="3678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38080" y="5746680"/>
            <a:ext cx="75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ource: Blank, Card and Robins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8B5-7FBB-4B2D-BC58-2246E6585D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12520" y="3097080"/>
            <a:ext cx="752940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hat is done in the pap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573-5DFD-411A-A494-CC61078562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1. Decomposing the program gro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5680" y="1646280"/>
            <a:ext cx="869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gram group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ncludes participants (randomly assigned) of the SS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ake-up group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comprises those participants who took up a supplemented full-time jo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centivized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group is the part of the take-up group that would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have worked full-time without th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on-incentivized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group would have worked any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B56-8195-482C-A861-DE6D1E5731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101600" y="1981080"/>
            <a:ext cx="7355520" cy="4114080"/>
            <a:chOff x="1101600" y="1981080"/>
            <a:chExt cx="7355520" cy="4114080"/>
          </a:xfrm>
        </p:grpSpPr>
        <p:cxnSp>
          <p:nvCxnSpPr>
            <p:cNvPr id="99" name="_s175125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527080" y="3818520"/>
              <a:ext cx="485640" cy="1980720"/>
            </a:xfrm>
            <a:prstGeom prst="bentConnector3">
              <a:avLst>
                <a:gd name="adj1" fmla="val 23516"/>
              </a:avLst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02" name="_s175123"/>
            <p:cNvCxnSpPr>
              <a:stCxn id="103" idx="0"/>
              <a:endCxn id="101" idx="2"/>
            </p:cNvCxnSpPr>
            <p:nvPr/>
          </p:nvCxnSpPr>
          <p:spPr>
            <a:xfrm flipH="1" flipV="1" rot="5400000">
              <a:off x="3546720" y="3818520"/>
              <a:ext cx="485640" cy="1981440"/>
            </a:xfrm>
            <a:prstGeom prst="bentConnector3">
              <a:avLst>
                <a:gd name="adj1" fmla="val 23516"/>
              </a:avLst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04" name="_s175114"/>
            <p:cNvCxnSpPr>
              <a:stCxn id="101" idx="0"/>
              <a:endCxn id="105" idx="2"/>
            </p:cNvCxnSpPr>
            <p:nvPr/>
          </p:nvCxnSpPr>
          <p:spPr>
            <a:xfrm flipV="1">
              <a:off x="4779720" y="3023280"/>
              <a:ext cx="3960" cy="48564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sp>
          <p:nvSpPr>
            <p:cNvPr id="105" name="_s175110"/>
            <p:cNvSpPr/>
            <p:nvPr/>
          </p:nvSpPr>
          <p:spPr>
            <a:xfrm>
              <a:off x="3082320" y="1981080"/>
              <a:ext cx="339480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Tahoma"/>
                </a:rPr>
                <a:t>program grou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175111"/>
            <p:cNvSpPr/>
            <p:nvPr/>
          </p:nvSpPr>
          <p:spPr>
            <a:xfrm>
              <a:off x="3082320" y="3523680"/>
              <a:ext cx="339480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Tahoma"/>
                </a:rPr>
                <a:t>take-up grou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175122"/>
            <p:cNvSpPr/>
            <p:nvPr/>
          </p:nvSpPr>
          <p:spPr>
            <a:xfrm>
              <a:off x="1101600" y="5066640"/>
              <a:ext cx="339480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500" spc="-1" strike="noStrike">
                  <a:solidFill>
                    <a:srgbClr val="000000"/>
                  </a:solidFill>
                  <a:latin typeface="Tahoma"/>
                </a:rPr>
                <a:t>incentivized grou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175124"/>
            <p:cNvSpPr/>
            <p:nvPr/>
          </p:nvSpPr>
          <p:spPr>
            <a:xfrm>
              <a:off x="5062320" y="5066640"/>
              <a:ext cx="339480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500" spc="-1" strike="noStrike">
                  <a:solidFill>
                    <a:srgbClr val="000000"/>
                  </a:solidFill>
                  <a:latin typeface="Tahoma"/>
                </a:rPr>
                <a:t>non-incentivized grou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C94-97B1-4D41-9A19-6E8D372FD2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1880" y="23623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ahoma"/>
              </a:rPr>
              <a:t>Problem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 The subsets of the take-up group cannot be directly observ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lution for identification: Propensity Score Match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. Ident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9A6-531E-40EC-A3B6-53B218E1EB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9600" y="1141200"/>
            <a:ext cx="874404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sult of Match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rst step: Non-incentivized program group: PS-Matching to link CG (465 members) and PG (465 members) via predicted wage prob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cond step: Remaining 389 member of the take-up group constitute the incentivized program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Question 1: Does the selection-on-observables assumption hol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F03B-3301-4CCD-9F27-9EC137235C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7:11:36Z</dcterms:created>
  <dc:creator>Michael Weiland</dc:creator>
  <dc:description/>
  <dc:language>en-US</dc:language>
  <cp:lastModifiedBy>Alexander Spermann</cp:lastModifiedBy>
  <dcterms:modified xsi:type="dcterms:W3CDTF">2006-10-28T06:49:11Z</dcterms:modified>
  <cp:revision>194</cp:revision>
  <dc:subject/>
  <dc:title>PowerPoint-Präsentation</dc:title>
</cp:coreProperties>
</file>