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7F2-8ACD-41B3-9C7A-7F2510A4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600-431B-4814-991D-D211A43C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E8B-D175-4957-963C-16B998A3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F22-3C92-4733-AEB8-4655326C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453D-5ED3-4752-88C9-78F9CB6B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2E7E-B63E-4E8B-8B9C-4A3CFFE0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BB8D-C402-4040-95E8-B7130C3B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0B07-6ED0-4ADD-930E-114E4979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6E63-AFB8-4D06-8597-B453F427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94B1-9EE4-4BD7-9EED-EC9A947F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811B-E8E3-4043-8E88-EE4BA1E8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CE3A-EF6A-429F-981B-813DF6AA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B448-E0A7-4B1B-8A65-0C11010E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5C26-9F32-4EE7-94BB-94096381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E344-AB89-404C-8DAF-7E90C49D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A894-8CBB-4BC6-A944-9E39C6F5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55E4-6C15-4345-BD23-A9F36A38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0F1-4D62-45CD-A21F-B406B765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691-B5BA-4A3B-B448-84F6EC82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369-607B-47C2-BB5B-E9894A12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B05-EFF5-4A4F-BEE6-344088AC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80B-24EC-4F7C-A528-06953B10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707-0F41-477C-B734-E943C1B1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21C-1C9D-4722-BB32-66C8299F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550"/>
              </a:spcBef>
              <a:buClr>
                <a:srgbClr val="5f5f5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55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195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48000" y="6248520"/>
            <a:ext cx="42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6243480"/>
            <a:ext cx="195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3F62-8145-4F6C-8F0C-8824C263007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2922-1F20-45C8-BAD3-CDACE0297F9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4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00"/>
              </a:spcBef>
              <a:buClr>
                <a:srgbClr val="5f5f5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3000" cy="2121120"/>
          </a:xfrm>
          <a:prstGeom prst="rect">
            <a:avLst/>
          </a:prstGeom>
          <a:noFill/>
          <a:ln w="0">
            <a:noFill/>
          </a:ln>
        </p:spPr>
        <p:txBody>
          <a:bodyPr lIns="90000" rIns="18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ion of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Estimat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ynamic Treatmen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Effects from Project Star”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Weili Ding and Steven F. Lehr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92360" y="3962520"/>
            <a:ext cx="684216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180000" tIns="46800" bIns="46800" anchor="t">
            <a:noAutofit/>
          </a:bodyPr>
          <a:p>
            <a:pPr indent="0" algn="r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eronke Osikominu, Goethe University Frankfu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494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 S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evaluate effect of class size on student achiev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7000 incoming kindergarten students in 79 schools in Tennessee randomized into different class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 conducted over a period of four years, i.e. from kindergarten until grade th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n various student, teacher and school characteristics, test scores in reading, word recognition and m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g/Lehrer consider estimation of structural parameters of an education production function where cognitive achievement is viewed as a cumulative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of a multi-period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lection into class types after kinderg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tion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ussion of Ding/Lehrer (2006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949-4DFF-4013-AF20-7F1F7EA293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. 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in Findin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890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effect of small class size in kindergar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kindergarten, large flow of weak students into sm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rade one, particularly large and significant effects for class type switc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rm hypothesis that teachers pay special attention to weak stud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benefits from receiving multiple doses of treatment or attending small classes beyond grade 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time regular classes become more homogenous in performance, whereas the opposite holds for sm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e-off between class size and variation in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evidence for hypothesis that students benefit from environmental st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ussion of Ding/Lehrer (2006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714-86E5-4FAE-BE9D-F891B9649C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. 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ents (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fitting application of sequential difference-in-differences  framework by Lechner/Miqu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per has many interesting and well interpretable resul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eful analysis that includes various robustness che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ussion of Ding/Lehrer (2006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042-4C13-4FD7-B999-D71E350009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. 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ents (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8720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icit assumption is homogenous treatment effect, i.e. ATE=AT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not deal with weighting according to distribution of observables in target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you motivate this assump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tion of treatment effects relying on selection on observables plus diff-in-diff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you motivate that unobserved heterogeneity term is uncorrelated with other covariat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antive selection after kindergarten properly address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W relies on assumption that selective attrition is ignorable conditional on observab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you motivate this in your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scussion of Ding/Lehrer (2006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E80-0547-49B4-B736-C76427EA1D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 Oct. 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9:55:12Z</dcterms:created>
  <dc:creator>Osikominu</dc:creator>
  <dc:description/>
  <dc:language>en-US</dc:language>
  <cp:lastModifiedBy>0</cp:lastModifiedBy>
  <dcterms:modified xsi:type="dcterms:W3CDTF">2006-10-26T13:52:54Z</dcterms:modified>
  <cp:revision>180</cp:revision>
  <dc:subject/>
  <dc:title>Folie 1</dc:title>
</cp:coreProperties>
</file>