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548-8688-4EFA-BDB4-ECBE3A94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652-D3C2-4941-A3B9-E5E2B8A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FBA-5E39-4C07-AFB3-DB28579E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987-DA51-4ACB-B4DD-AE7EC56C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506A-3285-4C35-8A2A-D1776CCE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528-443A-40CA-9692-6C533C7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EE70-E283-424C-92F3-04C1FC4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39B7-911F-4086-AF50-6A93887C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342-29E4-4201-88E8-380C34A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BFA-BD13-4C54-9EAA-187AF8E0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6FD-1CC7-46A9-A03A-4B2E440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335-9F0D-4D64-BC9F-AD9F70D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D780-428F-45F4-A967-FBB60E38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7B6A-A687-4E51-A016-844DCF8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AEE-A1FE-4B78-A6CA-79FE134A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B3F-7D03-497E-AEBD-978E7046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3AF-8FF1-448F-9D34-9B7C4E98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E5A-E51B-4313-9F3E-22FD1550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CE5-576B-4522-AA88-1928DED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7A2-28CF-4B20-8B7F-1E8D666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46E-0319-4E58-A6F0-3522D1E8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697-043A-488B-BEE8-8B6FAAB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E5E-1F20-49CE-AA3D-8CF6F35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215-EFD8-40B9-B487-3990729F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8000" y="6248520"/>
            <a:ext cx="42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80B-6B20-4248-ABCD-AB86700584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CA7-9085-4954-B19B-3A419D2791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o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Estima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ynamic Treatm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Effects from Project Star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Weili Ding and Steven F. Leh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92360" y="3962520"/>
            <a:ext cx="684216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eronke Osikominu, Goethe University Frankfu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494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evaluate effect of class size on student achie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7000 incoming kindergarten students in 79 schools in Tennessee randomized into different clas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conducted over a period of four years, i.e. from kindergarten until grade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various student, teacher and school characteristics, test scores in reading, word recognition and m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g/Lehrer consider estimation of structural parameters of an education production function where cognitive achievement is viewed as a cumulativ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of a multi-perio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lection into class types after 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tion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541-165C-4C43-8D66-C44998C6F2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 Find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89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ffect of small class size in kindergar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kindergarten, large flow of weak students into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rade one, particularly large and significant effects for class type swit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 hypothesis that teachers pay special attention to weak stud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benefits from receiving multiple doses of treatment or attending small classes beyond grad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time regular classes become more homogenous in performance, whereas the opposite holds for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-off between class size and variation i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evidence for hypothesis that students benefit from environmental s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03A-F92E-408B-AD10-CB134921EA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fitting application of sequential difference-in-differences  framework by Lechner/Miq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per has many interesting and well interpretable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 analysis that includes various robustness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C53-11EC-4067-B205-13C5F18107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872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assumption is homogenous treatment effect, i.e. ATE=A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deal with weighting according to distribution of observables in targe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motivate this assump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of treatment effects relying on selection on observables plus diff-in-diff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at unobserved heterogeneity term is uncorrelated with other covariat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ve selection after kindergarten properly addres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W relies on assumption that selective attrition is ignorable conditional on observ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is in your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53C-2D0B-42D5-939A-26F4EA4232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0</cp:lastModifiedBy>
  <dcterms:modified xsi:type="dcterms:W3CDTF">2006-10-26T13:52:54Z</dcterms:modified>
  <cp:revision>180</cp:revision>
  <dc:subject/>
  <dc:title>Folie 1</dc:title>
</cp:coreProperties>
</file>