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324-7FD9-43F5-8744-45F35293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B06-E052-499D-B0BC-9C49484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05E-060F-4030-B400-AD36D8F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88A-84D3-4FFA-A486-B87A73EB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820B-740A-4211-8788-97A7146A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926F-4E6E-412F-B5BE-14F737C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80B3-C297-4C28-A242-5244957E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6FF-BD1B-449B-B2C4-0BD622C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2A11-ABC9-4F18-85BE-F5B26D7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750-0D0B-4B76-BACB-DE7AED9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020-F6DD-4C7E-9B8F-6EFD2C7B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2AD-4C3D-47B6-968C-05B9F6CE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5F24-B2BE-46AA-B537-1467EC6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CCDA-B2E9-4723-AC62-6313726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C568-0E7C-4A5A-92C8-07E60D0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6AA-0590-429D-A4BF-6EB18A04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C13-2570-44CE-AEBD-760D802B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DB4-F9F8-44F7-9A93-CD59A5F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D7B-C199-47E1-ACE4-2DB85A2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4E6-1166-4C2C-AF01-D8E5216E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250-E95B-4E21-9CCD-54D478A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12E-F848-4E4B-A559-E2A0604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162-D131-49D8-9047-C6C6C5B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81C-F237-491D-92BD-CD3E9D5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8000" y="6248520"/>
            <a:ext cx="42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3CA-D8C2-4CEB-B2AD-7124619A77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C6A4-1C60-4C7D-8026-14A8CC96FA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o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Estima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ynamic Treatm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Effects from Project Star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Weili Ding and Steven F. Leh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92360" y="3962520"/>
            <a:ext cx="684216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eronke Osikominu, Goethe University Frankfu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494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evaluate effect of class size on student achie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7000 incoming kindergarten students in 79 schools in Tennessee randomized into different clas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conducted over a period of four years, i.e. from kindergarten until grade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various student, teacher and school characteristics, test scores in reading, word recognition and m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g/Lehrer consider estimation of structural parameters of an education production function where cognitive achievement is viewed as a cumulativ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of a multi-perio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lection into class types after 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tion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D0F-B88C-4ADE-88F0-289818F4C1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 Find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89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ffect of small class size in kindergar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kindergarten, large flow of weak students into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rade one, particularly large and significant effects for class type swit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 hypothesis that teachers pay special attention to weak stud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benefits from receiving multiple doses of treatment or attending small classes beyond grad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time regular classes become more homogenous in performance, whereas the opposite holds for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-off between class size and variation i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evidence for hypothesis that students benefit from environmental s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249-C9DD-4707-8E86-33E000CF49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fitting application of sequential difference-in-differences  framework by Lechner/Miq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per has many interesting and well interpretable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 analysis that includes various robustness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199-A93B-4808-8981-A8DA0665D0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872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assumption is homogenous treatment effect, i.e. ATE=A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deal with weighting according to distribution of observables in targe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motivate this assump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of treatment effects relying on selection on observables plus diff-in-diff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at unobserved heterogeneity term is uncorrelated with other covariat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ve selection after kindergarten properly addres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W relies on assumption that selective attrition is ignorable conditional on observ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is in your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E3F-ED88-46BA-8157-8F7CC8C2FE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0</cp:lastModifiedBy>
  <dcterms:modified xsi:type="dcterms:W3CDTF">2006-10-26T13:52:54Z</dcterms:modified>
  <cp:revision>180</cp:revision>
  <dc:subject/>
  <dc:title>Folie 1</dc:title>
</cp:coreProperties>
</file>