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B3DC-413B-492F-9A8F-8449824B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0385-2689-40C4-B51E-CA89E6C6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60A-AE03-43DE-8336-59F77D86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19C-811D-493E-BED6-387D014E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6C5E-CE91-4321-A7E3-FB0503AF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90D0-8818-4112-ADEE-B3058D42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5B51-3B02-4465-A940-20326E6E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0ED4-95B6-4CEE-86C2-29B04087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88B1-4F3F-46B1-8490-01E3436E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99600" y="277560"/>
            <a:ext cx="74977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CB02-1E64-4236-BEDF-8ED09DEB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6948-5AFD-4D74-8F14-DFFA1EA1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D8F2-4083-45FA-A620-3BC844C4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1CAF-733F-4D51-8F92-EA1ECF85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2393-D8F0-42C1-A826-EB1C6212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CB2F-81A4-4CE7-B184-5C37603E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EDF3-7C91-494C-8FA8-E4F4A781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720A-C329-44D5-9C0F-E2AE0B96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F2F3-8B6A-4326-93BB-A395471C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348-8950-4CE7-B2EE-FBEBE5CB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64BA-76AE-4108-A7FA-1407E3F9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99600" y="277560"/>
            <a:ext cx="74977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174-1569-4D35-8BB8-EEE5BF3F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4CF2-670E-4AFB-BD0B-60B12DA0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F39-449F-489E-AE82-6219E301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548-B2C8-466E-8E68-E8563C90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680" y="0"/>
            <a:ext cx="9139320" cy="2286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360" y="0"/>
            <a:ext cx="468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9140760" y="0"/>
            <a:ext cx="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81760" y="6593040"/>
            <a:ext cx="2133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1E88-4204-4004-A135-D8808FDE6F9F}" type="slidenum"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r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/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240"/>
            <a:ext cx="78976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0" y="228240"/>
            <a:ext cx="91440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54920" y="3240"/>
            <a:ext cx="1189080" cy="0"/>
          </a:xfrm>
          <a:prstGeom prst="line">
            <a:avLst/>
          </a:prstGeom>
          <a:ln w="6480">
            <a:solidFill>
              <a:srgbClr val="ffb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421320"/>
            <a:ext cx="213372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21320"/>
            <a:ext cx="289584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391440" y="6421320"/>
            <a:ext cx="21333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D19F-78B5-4E33-8499-EB0455D91F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240" y="304920"/>
            <a:ext cx="9140760" cy="12600"/>
          </a:xfrm>
          <a:prstGeom prst="line">
            <a:avLst/>
          </a:prstGeom>
          <a:ln w="64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-360" y="6594480"/>
            <a:ext cx="9147600" cy="263160"/>
            <a:chOff x="-360" y="6594480"/>
            <a:chExt cx="9147600" cy="263160"/>
          </a:xfrm>
        </p:grpSpPr>
        <p:sp>
          <p:nvSpPr>
            <p:cNvPr id="14" name=""/>
            <p:cNvSpPr/>
            <p:nvPr/>
          </p:nvSpPr>
          <p:spPr>
            <a:xfrm flipH="1">
              <a:off x="-360" y="6634080"/>
              <a:ext cx="1158840" cy="0"/>
            </a:xfrm>
            <a:prstGeom prst="line">
              <a:avLst/>
            </a:prstGeom>
            <a:ln w="6480">
              <a:solidFill>
                <a:srgbClr val="0035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6626160"/>
              <a:ext cx="1428840" cy="22860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>
              <a:off x="1108800" y="6598440"/>
              <a:ext cx="328680" cy="2588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0" y="6851520"/>
              <a:ext cx="9144000" cy="324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6594480"/>
              <a:ext cx="1171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71440" y="6594480"/>
              <a:ext cx="277920" cy="21888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50800" y="6813360"/>
              <a:ext cx="7696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-360" y="0"/>
            <a:ext cx="468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9140760" y="0"/>
            <a:ext cx="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320" y="6602400"/>
            <a:ext cx="9147600" cy="263160"/>
            <a:chOff x="4320" y="6602400"/>
            <a:chExt cx="9147600" cy="263160"/>
          </a:xfrm>
        </p:grpSpPr>
        <p:sp>
          <p:nvSpPr>
            <p:cNvPr id="60" name=""/>
            <p:cNvSpPr/>
            <p:nvPr/>
          </p:nvSpPr>
          <p:spPr>
            <a:xfrm flipH="1">
              <a:off x="4320" y="6642000"/>
              <a:ext cx="1158840" cy="0"/>
            </a:xfrm>
            <a:prstGeom prst="line">
              <a:avLst/>
            </a:prstGeom>
            <a:ln w="6480">
              <a:solidFill>
                <a:srgbClr val="0035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80" y="6634080"/>
              <a:ext cx="1428840" cy="22860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113480" y="6606360"/>
              <a:ext cx="328680" cy="2588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680" y="6859440"/>
              <a:ext cx="9144000" cy="324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80" y="6602400"/>
              <a:ext cx="1171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76120" y="6602400"/>
              <a:ext cx="277920" cy="21888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55480" y="6821280"/>
              <a:ext cx="7696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6881760" y="6593040"/>
            <a:ext cx="2133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05DC-3112-4E50-B578-206197A51A85}" type="slidenum"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r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/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0"/>
            <a:ext cx="7897680" cy="0"/>
          </a:xfrm>
          <a:prstGeom prst="line">
            <a:avLst/>
          </a:prstGeom>
          <a:ln w="9360">
            <a:solidFill>
              <a:srgbClr val="ffb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0" y="0"/>
            <a:ext cx="8085240" cy="270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0" y="298440"/>
            <a:ext cx="8089920" cy="6480"/>
          </a:xfrm>
          <a:prstGeom prst="line">
            <a:avLst/>
          </a:prstGeom>
          <a:ln w="64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54920" y="3240"/>
            <a:ext cx="1189080" cy="0"/>
          </a:xfrm>
          <a:prstGeom prst="line">
            <a:avLst/>
          </a:prstGeom>
          <a:ln w="64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39BE-471F-4C89-9961-6EBC22E8BC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089920" y="6480"/>
            <a:ext cx="1050840" cy="10508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-360" y="6594480"/>
            <a:ext cx="9147600" cy="263160"/>
            <a:chOff x="-360" y="6594480"/>
            <a:chExt cx="9147600" cy="263160"/>
          </a:xfrm>
        </p:grpSpPr>
        <p:sp>
          <p:nvSpPr>
            <p:cNvPr id="78" name=""/>
            <p:cNvSpPr/>
            <p:nvPr/>
          </p:nvSpPr>
          <p:spPr>
            <a:xfrm flipH="1">
              <a:off x="-360" y="6634080"/>
              <a:ext cx="1158840" cy="0"/>
            </a:xfrm>
            <a:prstGeom prst="line">
              <a:avLst/>
            </a:prstGeom>
            <a:ln w="6480">
              <a:solidFill>
                <a:srgbClr val="0035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6626160"/>
              <a:ext cx="1428840" cy="22860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1108800" y="6598440"/>
              <a:ext cx="328680" cy="2588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0" y="6851520"/>
              <a:ext cx="9144000" cy="324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594480"/>
              <a:ext cx="1171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71440" y="6594480"/>
              <a:ext cx="277920" cy="21888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50800" y="6813360"/>
              <a:ext cx="7696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t Training or Wa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ng-Run Employment Effect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ining Programs for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employed in West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rnd Fitzenberger, Aderonke Osikominu, and Robert Vö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 comparison questio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s those who get a given kind of training with those who don’t get training in at that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group may get training (of some kind) at a future point or may get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clearly policy-relevant question, since “waiting” is the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ive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individuals who wait longer get smaller benefits from the progr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omparison would control for characteristics of those obtaining a particular kind of training at different point in time, which none of the current analyses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ation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 presents data on employment 10 quarters prior to unemployment, comparing treated with comparis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and treated groups are never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>
            <a:lum contrast="6000"/>
          </a:blip>
          <a:srcRect l="7840" t="42238" r="20168" b="31539"/>
          <a:stretch/>
        </p:blipFill>
        <p:spPr>
          <a:xfrm>
            <a:off x="304920" y="3581280"/>
            <a:ext cx="8610480" cy="2971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1219320" y="3429000"/>
            <a:ext cx="2209680" cy="1371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342900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429000"/>
            <a:ext cx="2133360" cy="2057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ation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 presents data on employment 10 quarters prior to unemployment comparing treated with comparis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and treated groups are never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eak “test” of model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identifying employment during this period are included among the matching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test of whether the matching is working: Doesn’t test basic conditional independence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ation test would have to test behavior not explicitly included in matching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in other European studies, no attempt is made to determine effects on earnings for those 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ification: High minimum earnings in Europe; interest in individuals at bottom; concern with 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it possible that some kinds of training (e.g., retraining) have benefits beyond employ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think it would be useful to do some analyses predicting expected earnings, especially in comparisons on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s matching methods to examine program impact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s 3 programs with different d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 Firm (PF): around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sion of Specific Professional Skills and Techniques (SPST): around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aining (RT): up to 2 years (average 1 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 is for quarters up to 30 quarters (nearly 8 years) after program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endent variable is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kind of training, it is divided into three str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that begins after 1-2 quarters of un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that begins after 3-4 quarters of un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that begins after 5-8 quarters of un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of “training” vs. “wait” is between those who receive a given training type within a particular stratum and those not receiving training during that str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se not receiving training could receive some kind of training at a lat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all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ching methods are well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require numerous decisions &amp; although one might quibble about some, each decision is thoughtfully discussed and justif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emely valuable to obtain a set of estimates indicating impact on earning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follow-up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I have few complaints with the analyses presented, I will provide some suggestions for additional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paper looks at “cumulative” effect, looking at effects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8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16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24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ould like comparisons of effects at various points in time, i.e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rters 9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rters 17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 may well extend beyond 8 years; this is an important aspect of evaluating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average effects for the last 4-12 quarters might be a reasonable estimate of long-term impact on flow of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d constant for the remainder of the working life, 10 y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3520" y="5638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2 quar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-4 quar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5-8 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ata: Unemployment Prior to Program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>
            <a:lum contrast="6000"/>
          </a:blip>
          <a:srcRect l="7840" t="42238" r="20168" b="31539"/>
          <a:stretch/>
        </p:blipFill>
        <p:spPr>
          <a:xfrm>
            <a:off x="228600" y="2666880"/>
            <a:ext cx="8610480" cy="2971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21337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: Treatment Effect for 1986-1987 Co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sion of Specific Professional Skills and Techniques (PS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s for strata 1 and 2 appear fairly stable after 20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intere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programs that require more extended training (longer “lock-in” periods) ultimately produce higher benefit flow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not, there is little justification for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520" y="5638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2 quar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-4 quar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5-8 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ata: Unemployment Prior to Program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contrast="6000"/>
          </a:blip>
          <a:srcRect l="7840" t="42238" r="20168" b="31539"/>
          <a:stretch/>
        </p:blipFill>
        <p:spPr>
          <a:xfrm>
            <a:off x="228600" y="2666880"/>
            <a:ext cx="8610480" cy="2971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21337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: Treatment Effect for 1986-1987 Co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sion of Specific Professional Skills and Techniques (PS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ght it be useful to calculate average treatment effects combining strata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differences across strata important, or even statistically significan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08:51:38Z</dcterms:created>
  <dc:creator>mueserp</dc:creator>
  <dc:description/>
  <dc:language>en-US</dc:language>
  <cp:lastModifiedBy>mueserp</cp:lastModifiedBy>
  <dcterms:modified xsi:type="dcterms:W3CDTF">2006-10-27T04:47:07Z</dcterms:modified>
  <cp:revision>77</cp:revision>
  <dc:subject/>
  <dc:title>Slide 1</dc:title>
</cp:coreProperties>
</file>