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B02-F927-4F98-8B8B-E80887B5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BC3-0E19-4E8A-BA36-46880372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B28-21B8-43AD-BC53-BD9EB3A9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E94-0862-46F9-A306-BAD6E4D7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DF3B-B6D1-45E7-8187-51912A6E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FC1E-87F3-49F3-B6E4-584E451D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4553-318A-4D8F-9F2D-53CB31BF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320F-105A-4719-A035-D3E840D8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3883-1BA6-4316-B51F-8DDF563F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9600" y="277560"/>
            <a:ext cx="74977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203D-1E4B-41B2-9F7A-DAF69DB0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411A-190E-4EB0-8BDC-987ACD1E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17A-AFFF-4077-8536-DE987C19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9502-EB3C-4BA9-97FE-22579040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A153-C8E4-4F14-A0A5-7C48E6DA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3353-9616-496F-9F94-1A3108AB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D189-F8DA-449B-88DD-3A099B0D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874F-A9AB-41C6-BCC3-F1233CC2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802-2635-4620-A6C3-11C1D0C2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923-7CC7-47CF-9E45-DC991AA8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FF0-E102-445A-94FA-4B293EC4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99600" y="277560"/>
            <a:ext cx="74977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6F4-06C9-4731-8A51-96A62E88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971-FF85-4433-A35C-95CD8E2D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11C-E294-4F0B-9D1B-F4BF99FF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81B-31D2-4764-868E-6E6BA90A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0" y="0"/>
            <a:ext cx="9139320" cy="2286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360" y="0"/>
            <a:ext cx="468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9140760" y="0"/>
            <a:ext cx="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81760" y="6593040"/>
            <a:ext cx="2133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47ED-F02F-43C0-BFFD-706CE1661ABA}" type="slidenum"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/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240"/>
            <a:ext cx="78976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0" y="228240"/>
            <a:ext cx="91440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54920" y="3240"/>
            <a:ext cx="1189080" cy="0"/>
          </a:xfrm>
          <a:prstGeom prst="line">
            <a:avLst/>
          </a:prstGeom>
          <a:ln w="6480">
            <a:solidFill>
              <a:srgbClr val="ffb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421320"/>
            <a:ext cx="213372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21320"/>
            <a:ext cx="28958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391440" y="6421320"/>
            <a:ext cx="21333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9E43-A4D7-4AE9-8194-68C905E056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304920"/>
            <a:ext cx="9140760" cy="1260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-360" y="6594480"/>
            <a:ext cx="9147600" cy="263160"/>
            <a:chOff x="-360" y="6594480"/>
            <a:chExt cx="9147600" cy="263160"/>
          </a:xfrm>
        </p:grpSpPr>
        <p:sp>
          <p:nvSpPr>
            <p:cNvPr id="14" name=""/>
            <p:cNvSpPr/>
            <p:nvPr/>
          </p:nvSpPr>
          <p:spPr>
            <a:xfrm flipH="1">
              <a:off x="-360" y="663408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62616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1108800" y="659844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0" y="685152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659448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71440" y="659448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50800" y="681336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-360" y="0"/>
            <a:ext cx="468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9140760" y="0"/>
            <a:ext cx="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320" y="6602400"/>
            <a:ext cx="9147600" cy="263160"/>
            <a:chOff x="4320" y="6602400"/>
            <a:chExt cx="9147600" cy="263160"/>
          </a:xfrm>
        </p:grpSpPr>
        <p:sp>
          <p:nvSpPr>
            <p:cNvPr id="60" name=""/>
            <p:cNvSpPr/>
            <p:nvPr/>
          </p:nvSpPr>
          <p:spPr>
            <a:xfrm flipH="1">
              <a:off x="4320" y="664200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80" y="663408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113480" y="660636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680" y="685944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80" y="660240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76120" y="660240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55480" y="682128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881760" y="6593040"/>
            <a:ext cx="2133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E711-4E3F-4A03-8825-3C36C6FC0151}" type="slidenum"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0"/>
            <a:ext cx="7897680" cy="0"/>
          </a:xfrm>
          <a:prstGeom prst="line">
            <a:avLst/>
          </a:prstGeom>
          <a:ln w="9360">
            <a:solidFill>
              <a:srgbClr val="ffb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0" y="0"/>
            <a:ext cx="8085240" cy="270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0" y="298440"/>
            <a:ext cx="8089920" cy="648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54920" y="3240"/>
            <a:ext cx="1189080" cy="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FE2F-81F1-4A6C-B92A-A73AE60FE6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89920" y="6480"/>
            <a:ext cx="1050840" cy="10508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360" y="6594480"/>
            <a:ext cx="9147600" cy="263160"/>
            <a:chOff x="-360" y="6594480"/>
            <a:chExt cx="9147600" cy="263160"/>
          </a:xfrm>
        </p:grpSpPr>
        <p:sp>
          <p:nvSpPr>
            <p:cNvPr id="78" name=""/>
            <p:cNvSpPr/>
            <p:nvPr/>
          </p:nvSpPr>
          <p:spPr>
            <a:xfrm flipH="1">
              <a:off x="-360" y="663408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62616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108800" y="659844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0" y="685152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59448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71440" y="659448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50800" y="681336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t Training or Wa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ng-Run Employment Effect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ining Programs for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employed in West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nd Fitzenberger, Aderonke Osikominu, and Robert Vö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comparison questi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s those who get a given kind of training with those who don’t get training in at tha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group may get training (of some kind) at a future point or may get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learly policy-relevant question, since “waiting” is the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ive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individuals who wait longer get smaller benefits from the pro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mparison would control for characteristics of those obtaining a particular kind of training at different point in time, which none of the current analyses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ation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presents data on employment 10 quarters prior to unemployment, comparing treated with comparis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and treated groups are never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>
            <a:lum contrast="6000"/>
          </a:blip>
          <a:srcRect l="7840" t="42238" r="20168" b="31539"/>
          <a:stretch/>
        </p:blipFill>
        <p:spPr>
          <a:xfrm>
            <a:off x="304920" y="3581280"/>
            <a:ext cx="8610480" cy="2971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1219320" y="3429000"/>
            <a:ext cx="220968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342900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429000"/>
            <a:ext cx="2133360" cy="2057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ation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presents data on employment 10 quarters prior to unemployment comparing treated with comparis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and treated groups are never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eak “test” of model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identifying employment during this period are included among the matching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test of whether the matching is working: Doesn’t test basic conditional independence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tion test would have to test behavior not explicitly included in matching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in other European studies, no attempt is made to determine effects on earnings for those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fication: High minimum earnings in Europe; interest in individuals at bottom; concern with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it possible that some kinds of training (e.g., retraining) have benefits beyond employ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hink it would be useful to do some analyses predicting expected earnings, especially in comparisons on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matching methods to examine program impact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s 3 programs with different d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Firm (PF): around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sion of Specific Professional Skills and Techniques (SPST): around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aining (RT): up to 2 years (average 1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is for quarters up to 30 quarters (nearly 8 years) after program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endent variable is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kind of training, it is divided into three str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that begins after 1-2 quarters of un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that begins after 3-4 quarters of un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that begins after 5-8 quarters of un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of “training” vs. “wait” is between those who receive a given training type within a particular stratum and those not receiving training during that str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se not receiving training could receive some kind of training at a lat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ll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ching methods are well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require numerous decisions &amp; although one might quibble about some, each decision is thoughtfully discussed and just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emely valuable to obtain a set of estimates indicating impact on earning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follow-up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I have few complaints with the analyses presented, I will provide some suggestions for additional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paper looks at “cumulative” effect, looking at effects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8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16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24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ould like comparisons of effects at various points in time, i.e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rters 9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rters 17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may well extend beyond 8 years; this is an important aspect of evaluating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average effects for the last 4-12 quarters might be a reasonable estimate of long-term impact on flow of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d constant for the remainder of the working life, 10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520" y="5638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2 quar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-4 quar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5-8 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ata: Unemployment Prior to Program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>
            <a:lum contrast="6000"/>
          </a:blip>
          <a:srcRect l="7840" t="42238" r="20168" b="31539"/>
          <a:stretch/>
        </p:blipFill>
        <p:spPr>
          <a:xfrm>
            <a:off x="228600" y="2666880"/>
            <a:ext cx="8610480" cy="2971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21337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: Treatment Effect for 1986-1987 Co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sion of Specific Professional Skills and Techniques (PS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 for strata 1 and 2 appear fairly stable after 20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inter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programs that require more extended training (longer “lock-in” periods) ultimately produce higher benefit flow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ot, there is little justification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5638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2 quar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-4 quar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5-8 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ata: Unemployment Prior to Program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6000"/>
          </a:blip>
          <a:srcRect l="7840" t="42238" r="20168" b="31539"/>
          <a:stretch/>
        </p:blipFill>
        <p:spPr>
          <a:xfrm>
            <a:off x="228600" y="2666880"/>
            <a:ext cx="8610480" cy="2971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21337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2: Treatment Effect for 1986-1987 Co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sion of Specific Professional Skills and Techniques (PS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ht it be useful to calculate average treatment effects combining strata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ifferences across strata important, or even statistically signific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8:51:38Z</dcterms:created>
  <dc:creator>mueserp</dc:creator>
  <dc:description/>
  <dc:language>en-US</dc:language>
  <cp:lastModifiedBy>mueserp</cp:lastModifiedBy>
  <dcterms:modified xsi:type="dcterms:W3CDTF">2006-10-27T04:47:07Z</dcterms:modified>
  <cp:revision>77</cp:revision>
  <dc:subject/>
  <dc:title>Slide 1</dc:title>
</cp:coreProperties>
</file>