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B691-0B9B-4413-9F89-A299CCC0E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4712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57BE-52C1-45FD-ACCE-1D0754ADE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471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471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9AF9-97A8-4370-9EDB-30BFA34D8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471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471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471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645B-BA27-4401-A7C2-3483DDE15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238A9-1B01-4BEF-978B-489B01A96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16570-C9B2-4560-ADA8-01E78A7E8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B1AE4-7286-4A00-B3E1-38D777007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2820E-CE90-4CD1-965F-14ECB98C4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C13A7-93A8-4A6D-9B51-2327E5034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99600" y="277560"/>
            <a:ext cx="7497720" cy="48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9DAC5-5DBE-4F25-82C3-C1BC4BFE5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471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898CA-9057-489E-964C-F7A4A15E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0FDE-E040-40B3-8317-4BA329991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40471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9CE15-F002-4E19-AB4D-57505155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4712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A259B-4CE8-4153-9060-33011AC3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404712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36CB1-A87D-4275-B4C9-8709AF46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471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40471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D8472-354A-4832-A8E3-88EDA3D79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40471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40471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40471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3418A-670E-4D93-A6D6-574D51527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F0D3-6CFC-4D29-9C09-F72CDAE9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FA23-EFD8-4975-81F5-7F438C79B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67D6-8FAC-49AE-BB42-97CDE77DA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399600" y="277560"/>
            <a:ext cx="7497720" cy="48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50A1-EBCF-4D8C-8B33-7C0F92558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471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A0F7-2F15-474C-9A43-78425A93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471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6D59-69C2-4601-8955-3263C5D8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4712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BEB7-6A67-4E6C-A528-5E3ECFBB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680" y="0"/>
            <a:ext cx="9139320" cy="22860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-360" y="0"/>
            <a:ext cx="4680" cy="685800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flipV="1">
            <a:off x="9140760" y="0"/>
            <a:ext cx="0" cy="685800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881760" y="6593040"/>
            <a:ext cx="213372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F7E4A-7FF2-40E3-8F7A-AF38CA48E2B5}" type="slidenum">
              <a:rPr b="0" lang="en-US" sz="1000" spc="-1" strike="noStrike">
                <a:solidFill>
                  <a:srgbClr val="336699"/>
                </a:solidFill>
                <a:latin typeface="Arial"/>
                <a:ea typeface="Arial"/>
              </a:rPr>
              <a:t>&lt;number&gt;</a:t>
            </a:fld>
            <a:r>
              <a:rPr b="0" lang="en-US" sz="1000" spc="-1" strike="noStrike">
                <a:solidFill>
                  <a:srgbClr val="336699"/>
                </a:solidFill>
                <a:latin typeface="Arial"/>
                <a:ea typeface="Arial"/>
              </a:rPr>
              <a:t>/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3240"/>
            <a:ext cx="789768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0" y="228240"/>
            <a:ext cx="914400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954920" y="3240"/>
            <a:ext cx="1189080" cy="0"/>
          </a:xfrm>
          <a:prstGeom prst="line">
            <a:avLst/>
          </a:prstGeom>
          <a:ln w="6480">
            <a:solidFill>
              <a:srgbClr val="ffb8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456840" y="6421320"/>
            <a:ext cx="2133720" cy="3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421320"/>
            <a:ext cx="2895840" cy="3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391440" y="6421320"/>
            <a:ext cx="2133360" cy="3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B4644-6728-40D1-83B0-9FEFEC48AEE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3240" y="304920"/>
            <a:ext cx="9140760" cy="12600"/>
          </a:xfrm>
          <a:prstGeom prst="line">
            <a:avLst/>
          </a:prstGeom>
          <a:ln w="64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" name=""/>
          <p:cNvGrpSpPr/>
          <p:nvPr/>
        </p:nvGrpSpPr>
        <p:grpSpPr>
          <a:xfrm>
            <a:off x="-360" y="6594480"/>
            <a:ext cx="9147600" cy="263160"/>
            <a:chOff x="-360" y="6594480"/>
            <a:chExt cx="9147600" cy="263160"/>
          </a:xfrm>
        </p:grpSpPr>
        <p:sp>
          <p:nvSpPr>
            <p:cNvPr id="14" name=""/>
            <p:cNvSpPr/>
            <p:nvPr/>
          </p:nvSpPr>
          <p:spPr>
            <a:xfrm flipH="1">
              <a:off x="-360" y="6634080"/>
              <a:ext cx="1158840" cy="0"/>
            </a:xfrm>
            <a:prstGeom prst="line">
              <a:avLst/>
            </a:prstGeom>
            <a:ln w="6480">
              <a:solidFill>
                <a:srgbClr val="0035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6626160"/>
              <a:ext cx="1428840" cy="228600"/>
            </a:xfrm>
            <a:prstGeom prst="rect">
              <a:avLst/>
            </a:prstGeom>
            <a:gradFill rotWithShape="0">
              <a:gsLst>
                <a:gs pos="0">
                  <a:srgbClr val="336699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>
              <a:off x="1108800" y="6598440"/>
              <a:ext cx="328680" cy="258840"/>
            </a:xfrm>
            <a:prstGeom prst="rtTriangl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flipH="1">
              <a:off x="0" y="6851520"/>
              <a:ext cx="9144000" cy="3240"/>
            </a:xfrm>
            <a:prstGeom prst="line">
              <a:avLst/>
            </a:prstGeom>
            <a:ln w="64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0" y="6594480"/>
              <a:ext cx="1171440" cy="0"/>
            </a:xfrm>
            <a:prstGeom prst="line">
              <a:avLst/>
            </a:prstGeom>
            <a:ln w="64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171440" y="6594480"/>
              <a:ext cx="277920" cy="218880"/>
            </a:xfrm>
            <a:prstGeom prst="line">
              <a:avLst/>
            </a:prstGeom>
            <a:ln w="64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50800" y="6813360"/>
              <a:ext cx="7696440" cy="0"/>
            </a:xfrm>
            <a:prstGeom prst="line">
              <a:avLst/>
            </a:prstGeom>
            <a:ln w="64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 flipH="1">
            <a:off x="-360" y="0"/>
            <a:ext cx="4680" cy="685800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9140760" y="0"/>
            <a:ext cx="0" cy="685800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320" y="6602400"/>
            <a:ext cx="9147600" cy="263160"/>
            <a:chOff x="4320" y="6602400"/>
            <a:chExt cx="9147600" cy="263160"/>
          </a:xfrm>
        </p:grpSpPr>
        <p:sp>
          <p:nvSpPr>
            <p:cNvPr id="60" name=""/>
            <p:cNvSpPr/>
            <p:nvPr/>
          </p:nvSpPr>
          <p:spPr>
            <a:xfrm flipH="1">
              <a:off x="4320" y="6642000"/>
              <a:ext cx="1158840" cy="0"/>
            </a:xfrm>
            <a:prstGeom prst="line">
              <a:avLst/>
            </a:prstGeom>
            <a:ln w="6480">
              <a:solidFill>
                <a:srgbClr val="0035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680" y="6634080"/>
              <a:ext cx="1428840" cy="228600"/>
            </a:xfrm>
            <a:prstGeom prst="rect">
              <a:avLst/>
            </a:prstGeom>
            <a:gradFill rotWithShape="0">
              <a:gsLst>
                <a:gs pos="0">
                  <a:srgbClr val="336699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1113480" y="6606360"/>
              <a:ext cx="328680" cy="258840"/>
            </a:xfrm>
            <a:prstGeom prst="rtTriangl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4680" y="6859440"/>
              <a:ext cx="9144000" cy="3240"/>
            </a:xfrm>
            <a:prstGeom prst="line">
              <a:avLst/>
            </a:prstGeom>
            <a:ln w="64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680" y="6602400"/>
              <a:ext cx="1171440" cy="0"/>
            </a:xfrm>
            <a:prstGeom prst="line">
              <a:avLst/>
            </a:prstGeom>
            <a:ln w="64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76120" y="6602400"/>
              <a:ext cx="277920" cy="218880"/>
            </a:xfrm>
            <a:prstGeom prst="line">
              <a:avLst/>
            </a:prstGeom>
            <a:ln w="64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455480" y="6821280"/>
              <a:ext cx="7696440" cy="0"/>
            </a:xfrm>
            <a:prstGeom prst="line">
              <a:avLst/>
            </a:prstGeom>
            <a:ln w="64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6881760" y="6593040"/>
            <a:ext cx="213372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F1885-6B1B-4390-A746-9F3E18433528}" type="slidenum">
              <a:rPr b="0" lang="en-US" sz="1000" spc="-1" strike="noStrike">
                <a:solidFill>
                  <a:srgbClr val="336699"/>
                </a:solidFill>
                <a:latin typeface="Arial"/>
                <a:ea typeface="Arial"/>
              </a:rPr>
              <a:t>&lt;number&gt;</a:t>
            </a:fld>
            <a:r>
              <a:rPr b="0" lang="en-US" sz="1000" spc="-1" strike="noStrike">
                <a:solidFill>
                  <a:srgbClr val="336699"/>
                </a:solidFill>
                <a:latin typeface="Arial"/>
                <a:ea typeface="Arial"/>
              </a:rPr>
              <a:t>/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240"/>
            <a:ext cx="7897680" cy="0"/>
          </a:xfrm>
          <a:prstGeom prst="line">
            <a:avLst/>
          </a:prstGeom>
          <a:ln w="9360">
            <a:solidFill>
              <a:srgbClr val="ffb8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80" y="0"/>
            <a:ext cx="8085240" cy="27000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0" y="298440"/>
            <a:ext cx="8089920" cy="6480"/>
          </a:xfrm>
          <a:prstGeom prst="line">
            <a:avLst/>
          </a:prstGeom>
          <a:ln w="64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954920" y="3240"/>
            <a:ext cx="1189080" cy="0"/>
          </a:xfrm>
          <a:prstGeom prst="line">
            <a:avLst/>
          </a:prstGeom>
          <a:ln w="64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056CC-7B7D-42E5-99C6-6A8C1400D36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8089920" y="6480"/>
            <a:ext cx="1050840" cy="105084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-360" y="6594480"/>
            <a:ext cx="9147600" cy="263160"/>
            <a:chOff x="-360" y="6594480"/>
            <a:chExt cx="9147600" cy="263160"/>
          </a:xfrm>
        </p:grpSpPr>
        <p:sp>
          <p:nvSpPr>
            <p:cNvPr id="78" name=""/>
            <p:cNvSpPr/>
            <p:nvPr/>
          </p:nvSpPr>
          <p:spPr>
            <a:xfrm flipH="1">
              <a:off x="-360" y="6634080"/>
              <a:ext cx="1158840" cy="0"/>
            </a:xfrm>
            <a:prstGeom prst="line">
              <a:avLst/>
            </a:prstGeom>
            <a:ln w="6480">
              <a:solidFill>
                <a:srgbClr val="0035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6626160"/>
              <a:ext cx="1428840" cy="228600"/>
            </a:xfrm>
            <a:prstGeom prst="rect">
              <a:avLst/>
            </a:prstGeom>
            <a:gradFill rotWithShape="0">
              <a:gsLst>
                <a:gs pos="0">
                  <a:srgbClr val="336699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1108800" y="6598440"/>
              <a:ext cx="328680" cy="258840"/>
            </a:xfrm>
            <a:prstGeom prst="rtTriangl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0" y="6851520"/>
              <a:ext cx="9144000" cy="3240"/>
            </a:xfrm>
            <a:prstGeom prst="line">
              <a:avLst/>
            </a:prstGeom>
            <a:ln w="64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6594480"/>
              <a:ext cx="1171440" cy="0"/>
            </a:xfrm>
            <a:prstGeom prst="line">
              <a:avLst/>
            </a:prstGeom>
            <a:ln w="64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171440" y="6594480"/>
              <a:ext cx="277920" cy="218880"/>
            </a:xfrm>
            <a:prstGeom prst="line">
              <a:avLst/>
            </a:prstGeom>
            <a:ln w="64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450800" y="6813360"/>
              <a:ext cx="7696440" cy="0"/>
            </a:xfrm>
            <a:prstGeom prst="line">
              <a:avLst/>
            </a:prstGeom>
            <a:ln w="64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3352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t Training or Wa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ng-Run Employment Effects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ining Programs for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employed in West Germ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rnd Fitzenberger, Aderonke Osikominu, and Robert Völ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Com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ctober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gg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per comparison question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es those who get a given kind of training with those who don’t get training in at that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ison group may get training (of some kind) at a future point or may get j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clearly policy-relevant question, since “waiting” is the altern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ive ques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individuals who wait longer get smaller benefits from the progr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comparison would control for characteristics of those obtaining a particular kind of training at different point in time, which none of the current analyses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gg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cification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per presents data on employment 10 quarters prior to unemployment, comparing treated with comparison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and treated groups are never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>
            <a:lum contrast="6000"/>
          </a:blip>
          <a:srcRect l="7840" t="42238" r="20168" b="31539"/>
          <a:stretch/>
        </p:blipFill>
        <p:spPr>
          <a:xfrm>
            <a:off x="304920" y="3581280"/>
            <a:ext cx="8610480" cy="29718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 flipH="1">
            <a:off x="1219320" y="3429000"/>
            <a:ext cx="2209680" cy="1371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09880" y="3429000"/>
            <a:ext cx="0" cy="1600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91120" y="3429000"/>
            <a:ext cx="2133360" cy="20574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gg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cification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per presents data on employment 10 quarters prior to unemployment comparing treated with comparison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and treated groups are never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weak “test” of model assu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bles identifying employment during this period are included among the matching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s a test of whether the matching is working: Doesn’t test basic conditional independence as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fication test would have to test behavior not explicitly included in matching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gg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 in other European studies, no attempt is made to determine effects on earnings for those empl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stification: High minimum earnings in Europe; interest in individuals at bottom; concern with unem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 it possible that some kinds of training (e.g., retraining) have benefits beyond employ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think it would be useful to do some analyses predicting expected earnings, especially in comparisons on progr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es matching methods to examine program impact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s 3 programs with different du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actice Firm (PF): around 6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sion of Specific Professional Skills and Techniques (SPST): around 6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raining (RT): up to 2 years (average 1 y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aluation is for quarters up to 30 quarters (nearly 8 years) after program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pendent variable is em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ach kind of training, it is divided into three str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ining that begins after 1-2 quarters of unemplo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ining that begins after 3-4 quarters of unemplo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ining that begins after 5-8 quarters of unemplo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ison of “training” vs. “wait” is between those who receive a given training type within a particular stratum and those not receiving training during that stra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ose not receiving training could receive some kind of training at a later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all Com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ching methods are well exec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hods require numerous decisions &amp; although one might quibble about some, each decision is thoughtfully discussed and justifi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remely valuable to obtain a set of estimates indicating impact on earnings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ng follow-up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ce I have few complaints with the analyses presented, I will provide some suggestions for additional analy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gg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rrent paper looks at “cumulative” effect, looking at effects f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irst 8 qua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irst 16 qua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irst 24 qua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would like comparisons of effects at various points in time, i.e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rters 9-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rters 17-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gg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nefits may well extend beyond 8 years; this is an important aspect of evaluating th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ating average effects for the last 4-12 quarters might be a reasonable estimate of long-term impact on flow of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umed constant for the remainder of the working life, 10 yea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533520" y="5638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2 quart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3-4 quart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5-8 quar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trata: Unemployment Prior to Program 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>
            <a:lum contrast="6000"/>
          </a:blip>
          <a:srcRect l="7840" t="42238" r="20168" b="31539"/>
          <a:stretch/>
        </p:blipFill>
        <p:spPr>
          <a:xfrm>
            <a:off x="228600" y="2666880"/>
            <a:ext cx="8610480" cy="29718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80880" y="21337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ure 2: Treatment Effect for 1986-1987 Coh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sion of Specific Professional Skills and Techniques (PSP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7621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s for strata 1 and 2 appear fairly stable after 20 qua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gg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 interes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 programs that require more extended training (longer “lock-in” periods) ultimately produce higher benefit flow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not, there is little justification for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33520" y="5638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2 quart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3-4 quart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5-8 quar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trata: Unemployment Prior to Program 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>
            <a:lum contrast="6000"/>
          </a:blip>
          <a:srcRect l="7840" t="42238" r="20168" b="31539"/>
          <a:stretch/>
        </p:blipFill>
        <p:spPr>
          <a:xfrm>
            <a:off x="228600" y="2666880"/>
            <a:ext cx="8610480" cy="29718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80880" y="21337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ure 2: Treatment Effect for 1986-1987 Coh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sion of Specific Professional Skills and Techniques (PSP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gg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7621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ght it be useful to calculate average treatment effects combining strata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differences across strata important, or even statistically significant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4T08:51:38Z</dcterms:created>
  <dc:creator>mueserp</dc:creator>
  <dc:description/>
  <dc:language>en-US</dc:language>
  <cp:lastModifiedBy>mueserp</cp:lastModifiedBy>
  <dcterms:modified xsi:type="dcterms:W3CDTF">2006-10-27T04:47:07Z</dcterms:modified>
  <cp:revision>77</cp:revision>
  <dc:subject/>
  <dc:title>Slide 1</dc:title>
</cp:coreProperties>
</file>