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DAC-E61C-4EA0-85B0-D475F99C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FCA-0062-46C7-905F-39C2C4D8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231-EDF3-4409-B3FF-579289FF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041-92BA-4CC9-9A76-357EBD9D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342-D592-4703-BCA1-321F1F7D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751-0C54-4F9D-A887-061D988F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007-3C8E-494B-BD73-608B2FA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F1B-0182-431A-A638-536C7F44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274-9975-4C28-A188-B9617696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27E-B034-445A-B94C-39BBDFFD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FBF-553B-40B0-8F84-0034EF1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AB4-6E4D-4B67-B8AD-F55E3FB4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B2C-6B72-4AD0-A970-E486577D1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scussion of Hujer, R. and S. Thomsen (2006)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“How Do Employment Effects of Job Creation Schemes Differ with Respect to the Foregoing Unemployment Duration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g-Sheng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332000" y="1052640"/>
          <a:ext cx="65278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65278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116000" y="54936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is there variation over time in entry to particip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5880" y="580536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From Figure B.1, Available Data fo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916280"/>
            <a:ext cx="432000" cy="2089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559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ng 6 cohorts over a 1 year window into one is perhaps not ideal if cohorts involve different types of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possible to have the same person in both the T group and C gro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unemployed in June 2000 (so C fo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hort) and participate in Sep 2000 (so T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ho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ng cohorts allows perfect match to the same person? Or impossible because stratify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10920" y="549000"/>
            <a:ext cx="7848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and alignment of follow-up time for Ts and Cs in the aggregated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reating 6 fictitious program start dates for the non-participants and using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‘Month of Treatment Star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covariate in the propensity score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possible, for example, to have T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start dat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y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ched with C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‘start date’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une 2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long as their propensity scores are cl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-up month 1 is June 2001 for T and July 2000 for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effect of macro events in June 2001 and July 200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59640" y="4941720"/>
            <a:ext cx="2173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129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maybe run separate estimations for each of the 6 cohorts with unemployment duration in three groups (&lt;= 1, 2-4, &gt; 4 quarters) rather than from 1 to 12 quarters (so won’t have too small sample siz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0 Ts with June 2000 Cs for 2 x 2 x 3 = 12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1 Ts with Apr 2001 Cs for 2 x 2 x 3 = 12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this is going backwards as it is more similar in spirit to the approach taken in earlier papers based on the Feb 2000 cohort (essentially replicating the previous approach 6 ti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ubgroup effects the same for all 6 cohor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11280" y="549000"/>
            <a:ext cx="763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group conta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non-participants (or “waiters”) eventually become participa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rates of participation for non-participants could be driving the result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examine time trends of employment for T means and C means, not just time trends for the imp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cleaner comparison, maybe impose condition that non-participants do not participate within a few months of the treatment start date? (Will not be conditioning on future employment outcomes by doing 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129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73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 the effe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employment effects (typical duration is 12 months but can be as long as 36 months). Follow-up period of 30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creating subgroups based on quarters of unemployment duration (i.e., time spent in unemploy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implication is that the effect of offering the program at different times in the unemployment spell can lead to differing imp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studies (using different data and setup) have focused on various subgroups. For example, 5 economic sectors, age (&lt;26, 26-50, &gt;50), unemployment duration in weeks (&lt; 13, 13-52, &gt; 52), and education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24720" y="5157720"/>
            <a:ext cx="1486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47628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group are participants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July 2000, Sep 2000, Nov 2000, Jan 2001, Mar 2001 and May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,6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group consists of those still unemployed up until that time and who have not started a program, but can participate in a program later (i.e., “waiters” who postpone particip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s of job-seekers from the months preceding the 6 treatment start dates (i.e., June 2000, Aug 2000, Oct 2000, Dec 2000, Feb 2001 and Apr 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04,6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123840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1519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stratify the sample by Men and Women, East and West Germany, and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… , 12 quarters of unemployment preceding treatment (i.e., a total of 2 x 2 x 12 = 48 stra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the 6 T/C cohorts into one sample with 48 str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48 propensity score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rich set of covariates which help to make the CIA more plau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art date dummies are used as regressors in the propensity scor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260280"/>
            <a:ext cx="1878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549000"/>
            <a:ext cx="74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per, calendar date of unemployment entry is not alig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it to be of minor importance for the evaluation of impacts (p. 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size th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useful for lar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e to higher relevance of program content and smaller locking-in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, the number of potential comparison group members decreases as non-participants have joined other programs or found emplo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decrease in match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2491920"/>
            <a:ext cx="71294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or West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st groups, estimated treatment effects are insignificant at the end of 30 months. The two exception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 who show a significant increase in emplo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or East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ity of groups show negative employment effects at the end of 30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17845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620640"/>
            <a:ext cx="8137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explain the effect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 in West Germ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are effects not clustered in some more meaningful way, like the hypothesis that impacts should be larger for those who have been unemployed lo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ppear that the sampl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, 9 look very different from the sampl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, 9 in terms of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rticular imbalance between Ts and C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s some kind of a “end of year effect” going on? Note that average program duration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 is generally larger than it i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, 3, 4. Similar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15796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76360" y="1366920"/>
          <a:ext cx="684072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66920"/>
                    <a:ext cx="684072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708360" y="2205000"/>
            <a:ext cx="432000" cy="2376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1916280"/>
            <a:ext cx="505080" cy="2449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76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9 have spikes in program durations? (More pronounced for West 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0080" y="5805360"/>
            <a:ext cx="36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From Table 1, Means of Selected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44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559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inflow into participation decreases from Sep 2000 to Jan 2001 before increasing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going on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conomy wide macro eff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ort eff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/program cha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0:12:13Z</dcterms:created>
  <dc:creator>Wang Lee</dc:creator>
  <dc:description/>
  <cp:keywords/>
  <dc:language>en-US</dc:language>
  <cp:lastModifiedBy>fhe</cp:lastModifiedBy>
  <dcterms:modified xsi:type="dcterms:W3CDTF">2006-10-27T14:15:48Z</dcterms:modified>
  <cp:revision>34</cp:revision>
  <dc:subject/>
  <dc:title>Discussion of Hujer, R. and S. Thomsen (2006). “How Do Employment Effects of Job Creation Schemes Differ with Respect to the Foregoing Unemployment Duration?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