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392-65B1-490C-85DC-8F02A288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4FE-0880-4880-A945-B88D8C2A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B8F-F53D-4F7F-ABED-A0FBD996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477-5F6B-41DD-9FF0-FA7A0E82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ECC-151F-48B4-9691-418CAA3E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D45-93DB-4E40-A3ED-FEB6C426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859-C260-4B86-B087-36090FC1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BCB-9EA5-4526-AF68-9ABEAFD7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40BF-3EF7-45C2-9520-FCAD70A1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156B-8D59-4410-9617-3A8E9A80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2E9-6249-4A71-A908-DF964887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5D1-E68A-4492-8932-3564916B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86BE-7663-49D8-9BD6-175966FA14D9}" type="slidenum"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1280" y="1244520"/>
            <a:ext cx="752940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Discussion to: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etaNormalLF-Roman"/>
              </a:rPr>
              <a:t>Will gender parity break the glass ceiling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etaNormalLF-Roman"/>
              </a:rPr>
              <a:t>Evidence from a randomized experiment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MetaNormalLF-Roman"/>
              </a:rPr>
              <a:t>Anja Heinze, ZEW Mannheim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3rd Conference on Evaluation Resear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October 27, 2006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04840" y="69480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55600" y="1320840"/>
            <a:ext cx="732816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Does the gender composition of examining committees affect the chances of success of female candidates?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Empirical evidence using data of public exams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Random allocation of evaluators and candidates 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Does a higher number of women in decision-making positions help other women?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Interesting data base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emale share of evaluators has a negative effect on number of successful female candidates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etaNormalLF-Roman"/>
              </a:rPr>
              <a:t>However,…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irst part of the empirical analysis: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Why use absolute number of successful females?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Meaningful dependent variable is the percentage of successful female candidates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MetaNormalLF-Roman"/>
              </a:rPr>
              <a:t>But only if proposition of women evaluated by each committee is equal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etaNormalLF-Roman"/>
              </a:rPr>
              <a:t>However,…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cond part of the empirical analysis: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Loss of 1500 observations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Only the mark of MC-Test is significant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Better candidates rather pass the oral exam!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Interpretations and conclusions follow from insignificant results</a:t>
            </a: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7:11:36Z</dcterms:created>
  <dc:creator>Michael Weiland</dc:creator>
  <dc:description/>
  <dc:language>en-US</dc:language>
  <cp:lastModifiedBy>fhe</cp:lastModifiedBy>
  <dcterms:modified xsi:type="dcterms:W3CDTF">2006-10-27T11:40:53Z</dcterms:modified>
  <cp:revision>96</cp:revision>
  <dc:subject/>
  <dc:title>PowerPoint-Präsentation</dc:title>
</cp:coreProperties>
</file>