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AE0-972C-4755-9048-EFD0540C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D8A-E237-446E-BE0D-3CB37BE1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CE2-183D-4420-8B2F-5C35F7E5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133-92B3-4A4A-8272-35073999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C6D-4D10-4248-A79A-7B2C917E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A8B-435E-4DD5-95B0-4D81DD2D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312-79F5-477C-8D01-BB5F8620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4D0-7B64-4791-8D8B-3E6A0FE3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496-7EB8-42D2-B417-478D3AA2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007-775A-4F78-9FE5-AE1ED525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2B3-0AA4-4A91-B16F-B8B13010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704-6FD3-479C-8802-601CB0E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BDF4-3876-4B2C-B20A-37069A51B33D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1280" y="1244520"/>
            <a:ext cx="75294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Discussion to: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etaNormalLF-Roman"/>
              </a:rPr>
              <a:t>Will gender parity break the glass ceiling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etaNormalLF-Roman"/>
              </a:rPr>
              <a:t>Evidence from a randomized experiment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MetaNormalLF-Roman"/>
              </a:rPr>
              <a:t>Anja Heinze, ZEW Mannheim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3rd Conference on Evaluation Resear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October 27, 2006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04840" y="69480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55600" y="1320840"/>
            <a:ext cx="73281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Does the gender composition of examining committees affect the chances of success of female candidates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Empirical evidence using data of public exam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Random allocation of evaluators and candidates 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Does a higher number of women in decision-making positions help other women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Interesting data base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emale share of evaluators has a negative effect on number of successful female candidate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However,…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rst part of the empirical analysis: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Why use absolute number of successful females?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Meaningful dependent variable is the percentage of successful female candidates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MetaNormalLF-Roman"/>
              </a:rPr>
              <a:t>But only if proposition of women evaluated by each committee is equal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However,…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part of the empirical analysis: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Loss of 1500 observations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Only the mark of MC-Test is significant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Better candidates rather pass the oral exam!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Interpretations and conclusions follow from insignificant results</a:t>
            </a: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he</cp:lastModifiedBy>
  <dcterms:modified xsi:type="dcterms:W3CDTF">2006-10-27T11:40:53Z</dcterms:modified>
  <cp:revision>96</cp:revision>
  <dc:subject/>
  <dc:title>PowerPoint-Präsentation</dc:title>
</cp:coreProperties>
</file>