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1724-9FE7-4977-A7D2-239E0D9F8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01240" y="413064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35D2-E375-4561-A3AA-6BD02E7E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C646-217E-49F8-973C-28A38FA72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848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572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0124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848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572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B90D-57F5-4EE0-8651-DB9B8CB8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D08B-A15D-40DB-AF33-B71D54A6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FBE2-5223-46E0-8E2F-3607777A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8522-B03A-4F9E-8328-39EE6A7C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8BDF-0739-41AD-A30D-0619CD58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01600" y="917640"/>
            <a:ext cx="752976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D44D-1C40-4C2A-9280-B5F0FF38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BA14-C265-42D2-BC90-D5FED0D0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4E0A-A99B-448C-9EB8-3D0BA7CD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94BC-266A-4241-BF0F-9B06D3E7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37947"/>
          <a:stretch/>
        </p:blipFill>
        <p:spPr>
          <a:xfrm>
            <a:off x="0" y="0"/>
            <a:ext cx="9144000" cy="2825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1048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0BDA-4B81-4504-AD0F-8517080F927F}" type="slidenum"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50920" y="179280"/>
            <a:ext cx="747720" cy="4510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LF-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1280" y="1244520"/>
            <a:ext cx="752940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taNormalLF-Roman"/>
              </a:rPr>
              <a:t>Discussion to:</a:t>
            </a: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MetaNormalLF-Roman"/>
              </a:rPr>
              <a:t>Will gender parity break the glass ceiling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MetaNormalLF-Roman"/>
              </a:rPr>
              <a:t>Evidence from a randomized experiment</a:t>
            </a: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MetaNormalLF-Roman"/>
              </a:rPr>
              <a:t>Anja Heinze, ZEW Mannheim</a:t>
            </a:r>
            <a:br>
              <a:rPr sz="2000"/>
            </a:b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MetaNormalLF-Roman"/>
              </a:rPr>
              <a:t>3rd Conference on Evaluation Resear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etaNormalLF-Roman"/>
              </a:rPr>
              <a:t>October 27, 2006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04840" y="69480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LF-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55600" y="1320840"/>
            <a:ext cx="732816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Does the gender composition of examining committees affect the chances of success of female candidates?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Empirical evidence using data of public exams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Random allocation of evaluators and candidates 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Does a higher number of women in decision-making positions help other women?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Interesting data base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Female share of evaluators has a negative effect on number of successful female candidates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MetaNormalLF-Roman"/>
              </a:rPr>
              <a:t>However,…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First part of the empirical analysis: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etaNormalLF-Roman"/>
              </a:rPr>
              <a:t>Why use absolute number of successful females?</a:t>
            </a:r>
            <a:endParaRPr b="0" lang="en-US" sz="26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etaNormalLF-Roman"/>
              </a:rPr>
              <a:t>Meaningful dependent variable is the percentage of successful female candidates</a:t>
            </a:r>
            <a:endParaRPr b="0" lang="en-US" sz="26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MetaNormalLF-Roman"/>
              </a:rPr>
              <a:t>But only if proposition of women evaluated by each committee is equal</a:t>
            </a:r>
            <a:endParaRPr b="0" lang="en-US" sz="2600" spc="-1" strike="noStrike">
              <a:solidFill>
                <a:srgbClr val="000000"/>
              </a:solidFill>
              <a:latin typeface="MetaNormalLF-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MetaNormalLF-Roman"/>
              </a:rPr>
              <a:t>However,…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Second part of the empirical analysis: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etaNormalLF-Roman"/>
              </a:rPr>
              <a:t>Loss of 1500 observations</a:t>
            </a:r>
            <a:endParaRPr b="0" lang="en-US" sz="26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etaNormalLF-Roman"/>
              </a:rPr>
              <a:t>Only the mark of MC-Test is significant</a:t>
            </a:r>
            <a:endParaRPr b="0" lang="en-US" sz="26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etaNormalLF-Roman"/>
              </a:rPr>
              <a:t>Better candidates rather pass the oral exam!</a:t>
            </a:r>
            <a:endParaRPr b="0" lang="en-US" sz="26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etaNormalLF-Roman"/>
              </a:rPr>
              <a:t>Interpretations and conclusions follow from insignificant results</a:t>
            </a:r>
            <a:r>
              <a:rPr b="0" lang="en-US" sz="2600" spc="-1" strike="noStrike">
                <a:solidFill>
                  <a:srgbClr val="000000"/>
                </a:solidFill>
                <a:latin typeface="MetaNormalLF-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MetaNormalLF-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07:11:36Z</dcterms:created>
  <dc:creator>Michael Weiland</dc:creator>
  <dc:description/>
  <dc:language>en-US</dc:language>
  <cp:lastModifiedBy>fhe</cp:lastModifiedBy>
  <dcterms:modified xsi:type="dcterms:W3CDTF">2006-10-27T11:40:53Z</dcterms:modified>
  <cp:revision>96</cp:revision>
  <dc:subject/>
  <dc:title>PowerPoint-Präsentation</dc:title>
</cp:coreProperties>
</file>