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35DB-218E-4C49-B03A-884880A67B7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chtung: Tabelle 1 neu, d.h. alle Tabellen verschieben sich um eins zu der Version im Net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608B-30C5-4FF6-BD8D-E283FF79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E05-6D4A-40C3-82D0-758FC396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204-5C81-438B-912C-8C91FD85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848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124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848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260-6BB3-4CB5-9E47-234A03BB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FC8-6BF2-4EE5-A2B0-747F0487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1EB6-3AB5-4A37-AF9B-27789537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53F-5936-459C-B3AB-544D3680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87F-79E0-47B5-9471-F9CA509A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01600" y="917640"/>
            <a:ext cx="75297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0F8D-25EB-4494-B47C-32D53E8B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CBA-8E2B-41C9-9541-7B1AF4B3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0733-3002-4709-8374-FE7DA995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4C16-43F4-4576-9825-9CF53083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9144000" cy="282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01E9-8A90-4AFD-A352-0D31626E235E}" type="slidenum"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179280"/>
            <a:ext cx="747720" cy="4510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etaNormalLF-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56960" y="1920960"/>
            <a:ext cx="7356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Tobias J. Klein: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College</a:t>
            </a: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Education and Wages in the U.K.: Estimating Conditional Average Structural Functions</a:t>
            </a: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in Nonadditive Models with Binary Endogenous Variables”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etaNormalLF-Roman"/>
              </a:rPr>
              <a:t>Johannes Gernandt, ZEW Mannheim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Mannheim, 27th </a:t>
            </a:r>
            <a:r>
              <a:rPr b="0" lang="en-US" sz="2000" spc="-1" strike="noStrike">
                <a:solidFill>
                  <a:srgbClr val="000000"/>
                </a:solidFill>
                <a:latin typeface="MetaNormalLF-Roman"/>
              </a:rPr>
              <a:t>October</a:t>
            </a: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 2006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onclusion, Main Results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01240" y="1787400"/>
            <a:ext cx="7356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Estimation for expected wage levels and their dependence on endogenous schooling choice (measured ability, social class, secondary school type, family background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Monetary college rent of 46% (ATE population), ATE untreated &gt; ATE treated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Nonseparabilities between the impact of observables and unobserved ability on wage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Data Base: Panel of Britain's born between March 3 and 9, 1958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Shortcomings of the data set</a:t>
            </a:r>
            <a:r>
              <a:rPr b="0" lang="de-DE" sz="3200" spc="-1" strike="noStrike">
                <a:solidFill>
                  <a:srgbClr val="000000"/>
                </a:solidFill>
                <a:latin typeface="MetaNormalLF-Roman"/>
              </a:rPr>
              <a:t> (?)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Huge and overlapping confidence intervals (Table 3) – nevertheless, effect (ATE untreated &gt; ATE treated) is interesting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ather Effect: “too much” &gt; “some interest” &gt; “very interested” (Table 2)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Influence of “missing” is significant, lot of other variables are not (Table 2)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Number of observations?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etaNormalLF-Roman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MetaNormalLF-Roman"/>
              </a:rPr>
              <a:t>Abitur“ rents in Germany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LF-Roman"/>
              </a:rPr>
              <a:t>Work in progress: “Distributional Effects of the High School Degree in Germany”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GSOEP 1984-2004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hare of persons with „Abitur“ increases from 16 to 25 percent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OQTE is significant positive (0.2 to 0.4)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QTET statistically does not differ from zero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7:11:36Z</dcterms:created>
  <dc:creator>Michael Weiland</dc:creator>
  <dc:description/>
  <dc:language>en-US</dc:language>
  <cp:lastModifiedBy>FSO</cp:lastModifiedBy>
  <dcterms:modified xsi:type="dcterms:W3CDTF">2006-10-26T16:23:24Z</dcterms:modified>
  <cp:revision>51</cp:revision>
  <dc:subject/>
  <dc:title>PowerPoint-Präsentation</dc:title>
</cp:coreProperties>
</file>