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LF-Roman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4A22-3CC1-4C3E-9243-C3B385EBD80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chtung: Tabelle 1 neu, d.h. alle Tabellen verschieben sich um eins zu der Version im Net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F2EA-AC34-42FE-9D7E-99F8CDFC9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01240" y="413064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0C0C-3E39-4FC5-8E34-ACDC9EFB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63F5-7E5C-46C4-B7EB-CFC171D6E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848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572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0124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848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572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CEF5-6E2A-49B4-BCC9-E618C7227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6937-EC40-4BC1-957C-4877B94D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D7AD-555E-4603-8D4B-A783B3A1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40BE-0D05-4F65-9C30-279C7571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8893-D5C7-46B4-A787-0A26C1E7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01600" y="917640"/>
            <a:ext cx="752976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7854-6913-45E8-9ED5-A95A3BD6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2144-AF23-42AE-8CB2-2A141DFE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892D-1D2A-44A7-8AF7-A61397FD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F14F-FCDE-475C-A323-405B4EC6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37947"/>
          <a:stretch/>
        </p:blipFill>
        <p:spPr>
          <a:xfrm>
            <a:off x="0" y="0"/>
            <a:ext cx="9144000" cy="2825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1048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B7DF-17F6-4370-8656-884265BCB474}" type="slidenum"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50920" y="179280"/>
            <a:ext cx="747720" cy="4510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LF-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etaNormalLF-Roman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56960" y="1920960"/>
            <a:ext cx="7356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Tobias J. Klein: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College</a:t>
            </a: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Education and Wages in the U.K.: Estimating Conditional Average Structural Functions</a:t>
            </a:r>
            <a:r>
              <a:rPr b="0" lang="de-DE" sz="2800" spc="-1" strike="noStrike">
                <a:solidFill>
                  <a:srgbClr val="000000"/>
                </a:solidFill>
                <a:latin typeface="MetaNormalLF-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in Nonadditive Models with Binary Endogenous Variables”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marL="3358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MetaNormalLF-Roman"/>
              </a:rPr>
              <a:t>Johannes Gernandt, ZEW Mannheim</a:t>
            </a:r>
            <a:endParaRPr b="0" lang="en-US" sz="1400" spc="-1" strike="noStrike">
              <a:solidFill>
                <a:srgbClr val="000000"/>
              </a:solidFill>
              <a:latin typeface="MetaNormalLF-Roman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etaNormalLF-Roman"/>
              </a:rPr>
              <a:t>Mannheim, 27th </a:t>
            </a:r>
            <a:r>
              <a:rPr b="0" lang="en-US" sz="2000" spc="-1" strike="noStrike">
                <a:solidFill>
                  <a:srgbClr val="000000"/>
                </a:solidFill>
                <a:latin typeface="MetaNormalLF-Roman"/>
              </a:rPr>
              <a:t>October</a:t>
            </a:r>
            <a:r>
              <a:rPr b="0" lang="de-DE" sz="2000" spc="-1" strike="noStrike">
                <a:solidFill>
                  <a:srgbClr val="000000"/>
                </a:solidFill>
                <a:latin typeface="MetaNormalLF-Roman"/>
              </a:rPr>
              <a:t> 2006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LF-Roman"/>
              </a:rPr>
              <a:t>Conclusion, Main Results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01240" y="1787400"/>
            <a:ext cx="7356600" cy="43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taNormalLF-Roman"/>
              </a:rPr>
              <a:t>Estimation for expected wage levels and their dependence on endogenous schooling choice (measured ability, social class, secondary school type, family background)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taNormalLF-Roman"/>
              </a:rPr>
              <a:t>Monetary college rent of 46% (ATE population), ATE untreated &gt; ATE treated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taNormalLF-Roman"/>
              </a:rPr>
              <a:t>Nonseparabilities between the impact of observables and unobserved ability on wages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taNormalLF-Roman"/>
              </a:rPr>
              <a:t>Data Base: Panel of Britain's born between March 3 and 9, 1958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LF-Roman"/>
              </a:rPr>
              <a:t>Shortcomings of the data set</a:t>
            </a:r>
            <a:r>
              <a:rPr b="0" lang="de-DE" sz="3200" spc="-1" strike="noStrike">
                <a:solidFill>
                  <a:srgbClr val="000000"/>
                </a:solidFill>
                <a:latin typeface="MetaNormalLF-Roman"/>
              </a:rPr>
              <a:t> (?)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Huge and overlapping confidence intervals (Table 3) – nevertheless, effect (ATE untreated &gt; ATE treated) is interesting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Father Effect: “too much” &gt; “some interest” &gt; “very interested” (Table 2)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Influence of “missing” is significant, lot of other variables are not (Table 2)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Number of observations?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MetaNormalLF-Roman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MetaNormalLF-Roman"/>
              </a:rPr>
              <a:t>Abitur“ rents in Germany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MetaNormalLF-Roman"/>
              </a:rPr>
              <a:t>Work in progress: “Distributional Effects of the High School Degree in Germany”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GSOEP 1984-2004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Share of persons with „Abitur“ increases from 16 to 25 percent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OQTE is significant positive (0.2 to 0.4)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QTET statistically does not differ from zero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7T07:11:36Z</dcterms:created>
  <dc:creator>Michael Weiland</dc:creator>
  <dc:description/>
  <dc:language>en-US</dc:language>
  <cp:lastModifiedBy>FSO</cp:lastModifiedBy>
  <dcterms:modified xsi:type="dcterms:W3CDTF">2006-10-26T16:23:24Z</dcterms:modified>
  <cp:revision>51</cp:revision>
  <dc:subject/>
  <dc:title>PowerPoint-Präsentation</dc:title>
</cp:coreProperties>
</file>