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LF-Roman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8E9F4-8205-4CF0-A339-FC76AF87A24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chtung: Tabelle 1 neu, d.h. alle Tabellen verschieben sich um eins zu der Version im Netz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368F-6B8E-49E6-945D-7240F2E4C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7356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01240" y="4130640"/>
            <a:ext cx="7356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AAA7-75AE-4656-BFBE-2094A9940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01240" y="413064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413064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4D77-57E7-4C9F-BE13-BFA61C83A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88480" y="198108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5720" y="198108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01240" y="413064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88480" y="413064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5720" y="413064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19C0-E7D4-4B1E-AF5A-E840B3A32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01240" y="1981080"/>
            <a:ext cx="735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178D-61EA-46A3-9037-DCC871CF9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735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6901-8C83-41F7-BACC-ECCD4D674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358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981080"/>
            <a:ext cx="358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F6C5-5365-4287-BD87-552497E64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2814-FCE3-408C-BC83-FE6B0A95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01600" y="917640"/>
            <a:ext cx="7529760" cy="31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D69C-B6A2-4814-8318-4853ADF98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981080"/>
            <a:ext cx="358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01240" y="413064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C9F1-13BB-4CB0-B8C4-6DE1D29A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358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413064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B303-8445-4899-94BF-1D9E76DE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01240" y="4130640"/>
            <a:ext cx="7356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12F9-F6BA-46CF-BDEC-9A622C42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37947"/>
          <a:stretch/>
        </p:blipFill>
        <p:spPr>
          <a:xfrm>
            <a:off x="0" y="0"/>
            <a:ext cx="9144000" cy="2825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101240" y="1981080"/>
            <a:ext cx="735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etaNormalLF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MetaNormalLF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MetaNormalLF-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MetaNormalLF-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MetaNormalLF-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1048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MetaNormalLF-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etaNormalLF-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MetaNormalLF-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etaNormalLF-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MetaNormalLF-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9C26E-BE45-4FA3-A26C-6B60D0582527}" type="slidenum">
              <a:rPr b="0" lang="en-US" sz="1400" spc="-1" strike="noStrike">
                <a:solidFill>
                  <a:srgbClr val="000000"/>
                </a:solidFill>
                <a:latin typeface="MetaNormalLF-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250920" y="179280"/>
            <a:ext cx="747720" cy="45108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LF-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etaNormalLF-Roman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56960" y="1920960"/>
            <a:ext cx="7356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MetaNormalLF-Roman"/>
              </a:rPr>
              <a:t>Tobias J. Klein: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MetaNormalLF-Roman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College</a:t>
            </a:r>
            <a:r>
              <a:rPr b="0" lang="de-DE" sz="2800" spc="-1" strike="noStrike">
                <a:solidFill>
                  <a:srgbClr val="000000"/>
                </a:solidFill>
                <a:latin typeface="MetaNormalLF-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Education and Wages in the U.K.: Estimating Conditional Average Structural Functions</a:t>
            </a:r>
            <a:r>
              <a:rPr b="0" lang="de-DE" sz="2800" spc="-1" strike="noStrike">
                <a:solidFill>
                  <a:srgbClr val="000000"/>
                </a:solidFill>
                <a:latin typeface="MetaNormalLF-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in Nonadditive Models with Binary Endogenous Variables”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  <a:p>
            <a:pPr marL="3358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MetaNormalLF-Roman"/>
              </a:rPr>
              <a:t>Johannes Gernandt, ZEW Mannheim</a:t>
            </a: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  <a:p>
            <a:pPr marL="3358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3358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3358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MetaNormalLF-Roman"/>
              </a:rPr>
              <a:t>Mannheim, 27th </a:t>
            </a:r>
            <a:r>
              <a:rPr b="0" lang="en-US" sz="2000" spc="-1" strike="noStrike">
                <a:solidFill>
                  <a:srgbClr val="000000"/>
                </a:solidFill>
                <a:latin typeface="MetaNormalLF-Roman"/>
              </a:rPr>
              <a:t>October</a:t>
            </a:r>
            <a:r>
              <a:rPr b="0" lang="de-DE" sz="2000" spc="-1" strike="noStrike">
                <a:solidFill>
                  <a:srgbClr val="000000"/>
                </a:solidFill>
                <a:latin typeface="MetaNormalLF-Roman"/>
              </a:rPr>
              <a:t> 2006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LF-Roman"/>
              </a:rPr>
              <a:t>Conclusion, Main Results</a:t>
            </a: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01240" y="1787400"/>
            <a:ext cx="7356600" cy="43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taNormalLF-Roman"/>
              </a:rPr>
              <a:t>Estimation for expected wage levels and their dependence on endogenous schooling choice (measured ability, social class, secondary school type, family background)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taNormalLF-Roman"/>
              </a:rPr>
              <a:t>Monetary college rent of 46% (ATE population), ATE untreated &gt; ATE treated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taNormalLF-Roman"/>
              </a:rPr>
              <a:t>Nonseparabilities between the impact of observables and unobserved ability on wages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taNormalLF-Roman"/>
              </a:rPr>
              <a:t>Data Base: Panel of Britain's born between March 3 and 9, 1958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LF-Roman"/>
              </a:rPr>
              <a:t>Shortcomings of the data set</a:t>
            </a:r>
            <a:r>
              <a:rPr b="0" lang="de-DE" sz="3200" spc="-1" strike="noStrike">
                <a:solidFill>
                  <a:srgbClr val="000000"/>
                </a:solidFill>
                <a:latin typeface="MetaNormalLF-Roman"/>
              </a:rPr>
              <a:t> (?)</a:t>
            </a: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735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Huge and overlapping confidence intervals (Table 3) – nevertheless, effect (ATE untreated &gt; ATE treated) is interesting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Father Effect: “too much” &gt; “some interest” &gt; “very interested” (Table 2)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Influence of “missing” is significant, lot of other variables are not (Table 2)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Number of observations?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MetaNormalLF-Roman"/>
              </a:rPr>
              <a:t>„</a:t>
            </a:r>
            <a:r>
              <a:rPr b="0" lang="de-DE" sz="3200" spc="-1" strike="noStrike">
                <a:solidFill>
                  <a:srgbClr val="000000"/>
                </a:solidFill>
                <a:latin typeface="MetaNormalLF-Roman"/>
              </a:rPr>
              <a:t>Abitur“ rents in Germany</a:t>
            </a: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735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MetaNormalLF-Roman"/>
              </a:rPr>
              <a:t>Work in progress: “Distributional Effects of the High School Degree in Germany”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GSOEP 1984-2004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Share of persons with „Abitur“ increases from 16 to 25 percent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OQTE is significant positive (0.2 to 0.4)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QTET statistically does not differ from zero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7T07:11:36Z</dcterms:created>
  <dc:creator>Michael Weiland</dc:creator>
  <dc:description/>
  <dc:language>en-US</dc:language>
  <cp:lastModifiedBy>FSO</cp:lastModifiedBy>
  <dcterms:modified xsi:type="dcterms:W3CDTF">2006-10-26T16:23:24Z</dcterms:modified>
  <cp:revision>51</cp:revision>
  <dc:subject/>
  <dc:title>PowerPoint-Präsentation</dc:title>
</cp:coreProperties>
</file>