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312-B284-43C6-836D-F6874F8A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9C-61A0-45CA-AE4B-52A01ED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206-03FA-4B7D-93D8-66CE8A97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CE8-817C-4241-9CDF-28DD6BAE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61C-DF3C-4202-949E-C7DA9E86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FCD-BDFF-41CE-956A-122ED9C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7A4-D988-442A-ABCF-C77E1C9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71B-0AE0-45BA-974C-49EF5B3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8D36-0067-407C-B447-DBF0EED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58E0-2D17-496F-BE2C-89EA3E5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B41-40BA-40CA-B66D-89B0011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54E-1DDD-4D33-8844-2A38926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49B-C7CB-4AEA-9A50-8D09DA7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9D3B-D887-46FC-9F11-B623836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DA9-ED08-4B9F-B7CA-A5F206E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296F-2F49-4C9C-87C2-BDDC7787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713E-F3AE-4685-A928-60695E5C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F88-78EA-4B39-9CDF-C2CFEB2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016-4C2C-45D4-939A-F87B0B5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1C4-345C-4DA2-A11D-52751E0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4F4-B56B-4F71-9EE4-20D3E30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F63-AE6E-43D5-AD1C-1325036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BFB-DEA3-435C-9E32-2B1281C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1A8-67C6-401B-AC65-33208D8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D497-24DF-4CB9-BFD8-BA58D3E68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FEA-3BB6-4C3B-8DC4-9CDA09561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iscussion of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„Employment risk and the living arrangements of young adults“</a:t>
            </a:r>
            <a:r>
              <a:rPr b="0" lang="de-DE" sz="38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 Biewen, University of Mai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5200" y="4091040"/>
            <a:ext cx="7694280" cy="528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51040" y="3484440"/>
            <a:ext cx="4390920" cy="363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7) Alternative 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ming-of-Event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Abbring/V.d.Berg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 exclusion restriction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potential problem with anticipation of co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29040" y="268776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conversion to permanent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4760" y="500076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leaving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81360" y="2900520"/>
            <a:ext cx="129672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933560" y="4537080"/>
            <a:ext cx="28728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5440" y="3316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unobserved heterogene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16040" y="3492360"/>
            <a:ext cx="71460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69320" y="3622680"/>
            <a:ext cx="1918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6496200" y="3447720"/>
            <a:ext cx="152280" cy="2622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8400 h 2622600"/>
              <a:gd name="textAreaBottom" fmla="*/ 2554200 h 26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7040" y="4886280"/>
            <a:ext cx="41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otential jump in hazard after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8) Other explan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fferences (role of family)/cultura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ng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omen‘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mancip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/women‘s participation in hig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rents rich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n in the p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erdeveloppe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using mark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rented accomodatio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ood,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esting pap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high pot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me aspects left that warrant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a closer loo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reased employmen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isk make young Spaniard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y lon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their par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dea: measure employment risk b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ype of labour contra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temporary vs. perman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potential endogeneity of con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ution: seek exogenuous variation driving contract type: 1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2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s: no or onl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ak causal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employment risk on decision to leave n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1) Gener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levant and interest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per makes serious effort to identif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ausal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differ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amples and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 interesting because they ar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2) LA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 i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average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nly refers to individuals who change contract type as a consequence of changes of the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se individuals are not necessarily repres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those individuals who don‘t find permanent employment before 3 years limit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ose individuals who wouldn‘t have found permanent employment if subsidization had been lower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3) Flows approa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low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quarterly transitions) doesn‘t seem to contain much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idence of contract changes in sample of individuals with temporary contracts only 2.2 %      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ny „treatment“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nly a fraction of these will change type due to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oking at the coincidence of contract change and moving ou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the same quart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ems restri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lows sample only looks at individuals who start with temporary contract (representative?, efficienc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ock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uch be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4) Data limi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data in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otating Panel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ach individual observed for „five quarters“ on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p. 13)? In addition: attr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tential Tenure variabl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iographic info? Yearly measure? Sequences of temporary job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es 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firm specific? (if so: potentially correlated with unobserved individual characterist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incidence of different tempo-rary contracts (one type of contract has a 2 years time limit and one type disappears in´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f 70%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individuals between 18 and 35 year still live with parent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xtend age range to observe when individuals actually move 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important variab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 not only lin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ressor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c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Exp -3) unclear (negative values, collinearit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 „stocks regressions“ in subsidies c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gregate employment risk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egional unemploy-ment rate missing in time limits regressions! Better include age-specific unemployment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1800" y="3057480"/>
            <a:ext cx="6110280" cy="3637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fference in „employment risk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etween tem-porary and permanent jobs large enough to drive deci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994120" y="4703760"/>
            <a:ext cx="513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5754600"/>
            <a:ext cx="51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4200" y="452772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79840" y="5573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6) Alternative model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 far, paper doesn‘t exploi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formation about employm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lude employment risk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licit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s regr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04760" y="3763800"/>
            <a:ext cx="6653520" cy="39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5351400" y="2885400"/>
            <a:ext cx="152280" cy="2857680"/>
          </a:xfrm>
          <a:custGeom>
            <a:avLst/>
            <a:gdLst>
              <a:gd name="textAreaLeft" fmla="*/ 97200 w 152280"/>
              <a:gd name="textAreaRight" fmla="*/ 152640 w 152280"/>
              <a:gd name="textAreaTop" fmla="*/ 74520 h 2857680"/>
              <a:gd name="textAreaBottom" fmla="*/ 2783160 h 28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60640" y="452448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risk“, e.g. Probit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status on exogen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variables and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28560" y="54468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s uncor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78440" y="5491080"/>
            <a:ext cx="2008080" cy="25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85560" y="57006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ith     if      and     are exoge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45000" y="584352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000760" y="5838840"/>
            <a:ext cx="191880" cy="15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680080" y="5842080"/>
            <a:ext cx="16992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7:09Z</dcterms:modified>
  <cp:revision>60</cp:revision>
  <dc:subject/>
  <dc:title>B</dc:title>
</cp:coreProperties>
</file>