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710-6B84-4E43-B905-0050AF85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554-CD3B-4220-8FC9-C0F328E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484-FC2F-4BFD-9ACE-4FB3BFF8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647-1303-4C6B-89EE-3CF41153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7A5-4F66-4587-91AE-7D21696A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AD96-7F65-4660-BD60-DBF104CE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31B7-5B69-48F7-B656-7ABC66E7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AAB0-3B36-4FEE-B1AB-B6F9FDA6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0AE2-546C-45FF-949E-21EF6455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3FD0-B9A5-4484-8E93-44E11A4C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C90E-B89D-4485-BDE3-A33DD42A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EE4-9EA1-4976-A1AF-C5B4C83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A56B-4F0A-4617-8057-520CB6C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33E9-6F03-482B-9480-E738426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8B59-E8BD-40EA-BFAA-1F190C87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B5EC-B856-4A98-84FC-6301E45D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133B-5760-4AC5-8643-545FACCB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023-6C8D-48BD-A5E5-8EB6EAFF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2EF-A28D-4970-85E2-33E27AC6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8DA-8B39-4309-8668-6AB67A5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AF6-0FC1-4538-BC84-40C7E105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272-508D-403B-ABC0-C692D16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A2D-0B6F-489C-8CCC-9882CD0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0EA-25E3-42CC-9C35-7442ACB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DBFF-8B94-4B8E-9AFD-452E22EE57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F7CD-17CF-4000-B1BE-81A8305E54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iscussion of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„Employment risk and the living arrangements of young adults“</a:t>
            </a:r>
            <a:r>
              <a:rPr b="0" lang="de-DE" sz="38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 Biewen, University of Mai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5200" y="4091040"/>
            <a:ext cx="7694280" cy="528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51040" y="3484440"/>
            <a:ext cx="4390920" cy="363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7) Alternative 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ming-of-Event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Abbring/V.d.Berg (200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 exclusion restriction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: potential problem with anticipation of con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029040" y="268776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azard of conversion to permanent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4760" y="500076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azard of leaving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81360" y="2900520"/>
            <a:ext cx="129672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933560" y="4537080"/>
            <a:ext cx="28728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15440" y="3316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unobserved heterogene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16040" y="3492360"/>
            <a:ext cx="714600" cy="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69320" y="3622680"/>
            <a:ext cx="19188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6496200" y="3447720"/>
            <a:ext cx="152280" cy="2622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8400 h 2622600"/>
              <a:gd name="textAreaBottom" fmla="*/ 2554200 h 26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87040" y="4886280"/>
            <a:ext cx="41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otential jump in hazard after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8) Other explan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ifferences (role of family)/cultural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ng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omen‘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mancipa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/women‘s participation in higher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rents rich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an in the p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derdevelopped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using mark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rented accomodation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ood,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esting pap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th high pot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me aspects left that warrant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a closer loo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o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creased employmen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risk make young Spaniard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ay lon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th their par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dea: measure employment risk b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ype of labour contra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temporary vs. perman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: potential endogeneity of con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ution: seek exogenuous variation driving contract type: 1)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gal time limi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2)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V-estimates: no or onl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ak causal effe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employment risk on decision to leave n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1) Gener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levant and interest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qu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aper makes serious effort to identif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ausal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se of differen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amples and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s interesting because they ar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2) LA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V-estimate i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cal average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 only refers to individuals who change contract type as a consequence of changes of the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se individuals are not necessarily represen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egal time limi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those individuals who don‘t find permanent employment before 3 years limit (the less able, less motivated, less emancipated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zation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ose individuals who wouldn‘t have found permanent employment if subsidization had been lower (the less able, less motivated, less emancipated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3) Flows approa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low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= quarterly transitions) doesn‘t seem to contain much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cidence of contract changes in sample of individuals with temporary contracts only 2.2 %      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ny „treatment“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nly a fraction of these will change type due to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oking at the coincidence of contract change and moving ou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the same quart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ems restri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lows sample only looks at individuals who start with temporary contract (representative?, efficienc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ocks approa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uch be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4) Data limi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inf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data in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otating Panel: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ach individual observed for „five quarters“ on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p. 13)? In addition: attri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tential Tenure variable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iographic info? Yearly measure? Sequences of temporary job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ubsidies 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firm specific? (if so: potentially correlated with unobserved individual characteristi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vid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inf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incidence of different tempo-rary contracts (one type of contract has a 2 years time limit and one type disappears in´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5) Specific poi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f 70%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individuals between 18 and 35 year still live with parent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xtend age range to observe when individuals actually move ou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g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important variab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nclude not only line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ressor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Exp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Expc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= Exp -3) unclear (negative values, collinearit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 „stocks regressions“ in subsidies ca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ggregate employment risk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regional unemploy-ment rate missing in time limits regressions! Better include age-specific unemployment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1800" y="3057480"/>
            <a:ext cx="6110280" cy="3637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5) Specific poi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fference in „employment risk“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etween tem-porary and permanent jobs large enough to drive deci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994120" y="4703760"/>
            <a:ext cx="513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5754600"/>
            <a:ext cx="51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44200" y="452772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2.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79840" y="55738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.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mments: 6) Alternative model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 far, paper doesn‘t exploi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formation about employm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clude employment risk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licit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s regr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04760" y="3763800"/>
            <a:ext cx="6653520" cy="397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6200000">
            <a:off x="5351400" y="2885400"/>
            <a:ext cx="152280" cy="2857680"/>
          </a:xfrm>
          <a:custGeom>
            <a:avLst/>
            <a:gdLst>
              <a:gd name="textAreaLeft" fmla="*/ 97200 w 152280"/>
              <a:gd name="textAreaRight" fmla="*/ 152640 w 152280"/>
              <a:gd name="textAreaTop" fmla="*/ 74520 h 2857680"/>
              <a:gd name="textAreaBottom" fmla="*/ 2783160 h 285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60640" y="452448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mployment risk“, e.g. Probit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mployment status on exogen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variables and 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28560" y="544680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s uncorre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78440" y="5491080"/>
            <a:ext cx="2008080" cy="25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85560" y="570060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ith     if      and     are exoge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45000" y="5843520"/>
            <a:ext cx="158760" cy="158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000760" y="5838840"/>
            <a:ext cx="191880" cy="158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680080" y="5842080"/>
            <a:ext cx="16992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8:41:10Z</dcterms:created>
  <dc:creator>Martin Biewen</dc:creator>
  <dc:description/>
  <dc:language>en-US</dc:language>
  <cp:lastModifiedBy>Martin Biewen</cp:lastModifiedBy>
  <dcterms:modified xsi:type="dcterms:W3CDTF">2006-10-26T17:47:09Z</dcterms:modified>
  <cp:revision>60</cp:revision>
  <dc:subject/>
  <dc:title>B</dc:title>
</cp:coreProperties>
</file>