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8FF5-1B15-4C88-A94A-9D44C9742B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n-paralel dynam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D74C1-F4FE-497B-92DA-D2C06858C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B0E5-0FD2-4EC7-8742-C8F5B705A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B425B-649A-4C7E-AAE6-CAF48674E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168EC-2548-4D62-BE89-67D60A2BC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B895-64AB-40DA-9C96-E4C4B5866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0805-4294-4FC4-B54D-8E18944B3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A7C81-3A89-4349-A7D1-726DE4DC1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8F4A1-F14E-4C11-9F12-BE9862677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D38D9-454B-489A-8C88-0EF0C97C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663B-A5D3-4140-B760-53F0C4AE9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4E28-D077-4372-9EA6-9337B1BC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E54C2-5724-4F12-9CB5-5BB698F46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611A-73D2-4E59-924F-2BB0DBE323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mments to “The virtues of SIN” by Olof Aslund &amp; Per Johanss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anuel Bagu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iversidad Carlos I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valuation of an immigrant workplace introduction program.</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ain Problem: candidates might have been selected according to some characteristics which are not observable for the econometrician.</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olution: The authors use a differences in differences approach. Municipalities where the program was not implemented are used as a control group.</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echnical Problem: The program may have an impact through a number of channels. The authors decompose the total effect.</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sult: The program significantly decreases the risk of unemployment. The effect does not work through employment subsidi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ain Threat to Validi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t only the selection of individuals into the program is based on unobservables, we might have a similar problem with municipaliti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plicit assumption of the authors: The relevance of unobservables if more important in the case of individual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might be a problem both for the internal and for the external validity of the analysis. This is, for the estimation of the true effect of the treatment on these municipalities and for the extrapolation of the results to new 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uld we know more about how the treatment group –these 20 municipalities- was selected by the authorities? Similarly, what was exactly the criteria followed to choose the control group (“belonging to the same labour market area”)?</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how some descriptive statistics of the populations exposed to treatment and also the control group (i.e. gdp pc, % immigrant population, how long have they been in the country, unemployment rates...). Are there significant changes over time?</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ere the dynamics of the two groups comparable before the treatment took place? Differences in differences between (t-1) and (t) (”fake” treatment).</a:t>
            </a: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tential General Equilibrium Eff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f I understand correctly, we observe the effect of the program on the population at risk (immigrants). What happen if we do a similar analysis for natives? (is there any substitution eff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chnical poi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 the competing risks Cox regression model it is assumed that the effect of the program on the probability of getting out of unemployment is constan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se a “Changes in Changes” approach? If the variable of interest was the number of days unemployed/employed, maybe the effect of the program is not on the mean but on the distribution... (Athey &amp; Imbens,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ther minor issu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me more detailed information about the SIN program (unfortunate relevant references are all in Swedish): What was the cost of the program (“...PES offices have been granted extra funding...”? How many public workers were h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ndidates need to be “willing to commute or </a:t>
            </a:r>
            <a:r>
              <a:rPr b="0" lang="es-ES" sz="2800" spc="-1" strike="noStrike" u="sng">
                <a:solidFill>
                  <a:srgbClr val="000000"/>
                </a:solidFill>
                <a:uFillTx/>
                <a:latin typeface="Times New Roman"/>
              </a:rPr>
              <a:t>relocate</a:t>
            </a:r>
            <a:r>
              <a:rPr b="0" lang="es-ES" sz="2800" spc="-1" strike="noStrike">
                <a:solidFill>
                  <a:srgbClr val="000000"/>
                </a:solidFill>
                <a:latin typeface="Times New Roman"/>
              </a:rPr>
              <a:t> if necessary”. Could this be out of the 20 municipalities initially exposed to trea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13:14Z</dcterms:created>
  <dc:creator>Lolín</dc:creator>
  <dc:description/>
  <dc:language>en-US</dc:language>
  <cp:lastModifiedBy>Lolín</cp:lastModifiedBy>
  <dcterms:modified xsi:type="dcterms:W3CDTF">2006-10-26T21:30:54Z</dcterms:modified>
  <cp:revision>4</cp:revision>
  <dc:subject/>
  <dc:title>Comments to “The virtues of SIN”</dc:title>
</cp:coreProperties>
</file>